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F26F1-537B-42E0-B34F-28C56A88C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9FE4D-FDF6-4AAA-B640-3DAE67AA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D9A65-80E5-4FBA-BB42-7CB8CA856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D9B21-0354-40D6-9AEF-3461C3C6B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878B6-1AD0-4652-950C-F9E0C4ADB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402CE-0168-4DC5-BC86-8CBF6BA3E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E4DA2-7238-4562-9291-18F082593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D5CD4-F6D8-4EF5-B1E5-475B9541F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13AF5-CF5B-4E06-B099-DFD561295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3C041-4815-410E-B7CE-ABC04496E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AA057-5070-4140-B716-F10B9451A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00CB-BE19-4414-8007-D714F6DB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FCAF3-4310-46E3-98F7-0DA98463B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40E5E-9DAF-426E-9299-6380E47AA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A1D38-32A9-4882-8791-AC938C820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F42AE-116E-4ED6-8044-FD4EED1CF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F7660-12E6-4F1E-91AE-32002D5EA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B1EF-997B-4252-9073-2CFD8D97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CFBE-5742-482F-BA32-AF42166CD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1C426-CF29-46F7-B1DC-90540487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012E-E5A2-4CA9-AF37-2C04776AD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5D4A-9F8B-4853-8187-D27A5E9F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89BB-7323-44E1-A641-6BED581FE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07CA-7991-4185-B77E-5C8C07B32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B9B6-4C92-4AF4-A24F-B95E405CCC9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2D16-B095-43F6-9594-44EC22EC8E1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76960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rse 1 Dec. 7 Warm-up: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rite the sentence as an equati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9 more than a number is 4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10 less than a number is 12</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The total of 15 and a number is 23</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2" name=""/>
          <p:cNvSpPr/>
          <p:nvPr/>
        </p:nvSpPr>
        <p:spPr>
          <a:xfrm>
            <a:off x="1160640" y="1384200"/>
            <a:ext cx="1652400" cy="420840"/>
          </a:xfrm>
          <a:custGeom>
            <a:avLst/>
            <a:gdLst/>
            <a:ahLst/>
            <a:rect l="l" t="t" r="r" b="b"/>
            <a:pathLst>
              <a:path w="4589" h="1167">
                <a:moveTo>
                  <a:pt x="3547" y="4539"/>
                </a:moveTo>
                <a:cubicBezTo>
                  <a:pt x="3591" y="4451"/>
                  <a:pt x="3549" y="4363"/>
                  <a:pt x="3473" y="4291"/>
                </a:cubicBezTo>
                <a:cubicBezTo>
                  <a:pt x="3456" y="4283"/>
                  <a:pt x="3440" y="4274"/>
                  <a:pt x="3423" y="4266"/>
                </a:cubicBezTo>
                <a:cubicBezTo>
                  <a:pt x="3274" y="4385"/>
                  <a:pt x="3245" y="4478"/>
                  <a:pt x="3225" y="4663"/>
                </a:cubicBezTo>
                <a:cubicBezTo>
                  <a:pt x="3426" y="4679"/>
                  <a:pt x="3433" y="4577"/>
                  <a:pt x="3522" y="4415"/>
                </a:cubicBezTo>
                <a:cubicBezTo>
                  <a:pt x="3530" y="4407"/>
                  <a:pt x="3539" y="4398"/>
                  <a:pt x="3547" y="4390"/>
                </a:cubicBezTo>
                <a:cubicBezTo>
                  <a:pt x="3558" y="4576"/>
                  <a:pt x="3591" y="4753"/>
                  <a:pt x="3621" y="4936"/>
                </a:cubicBezTo>
                <a:cubicBezTo>
                  <a:pt x="3625" y="4959"/>
                  <a:pt x="3621" y="4987"/>
                  <a:pt x="3621" y="5011"/>
                </a:cubicBezTo>
              </a:path>
              <a:path w="4589" h="1167">
                <a:moveTo>
                  <a:pt x="3894" y="4192"/>
                </a:moveTo>
                <a:cubicBezTo>
                  <a:pt x="3979" y="4134"/>
                  <a:pt x="4085" y="4057"/>
                  <a:pt x="4192" y="4018"/>
                </a:cubicBezTo>
                <a:cubicBezTo>
                  <a:pt x="4400" y="3943"/>
                  <a:pt x="4624" y="3926"/>
                  <a:pt x="4837" y="3894"/>
                </a:cubicBezTo>
                <a:cubicBezTo>
                  <a:pt x="4969" y="3874"/>
                  <a:pt x="5101" y="3849"/>
                  <a:pt x="5234" y="3845"/>
                </a:cubicBezTo>
                <a:cubicBezTo>
                  <a:pt x="5460" y="3838"/>
                  <a:pt x="5681" y="3855"/>
                  <a:pt x="5904" y="3870"/>
                </a:cubicBezTo>
                <a:cubicBezTo>
                  <a:pt x="6087" y="3882"/>
                  <a:pt x="6269" y="3887"/>
                  <a:pt x="6449" y="3919"/>
                </a:cubicBezTo>
                <a:cubicBezTo>
                  <a:pt x="6607" y="3947"/>
                  <a:pt x="6765" y="3982"/>
                  <a:pt x="6921" y="4018"/>
                </a:cubicBezTo>
                <a:cubicBezTo>
                  <a:pt x="7156" y="4072"/>
                  <a:pt x="7385" y="4169"/>
                  <a:pt x="7615" y="4242"/>
                </a:cubicBezTo>
                <a:cubicBezTo>
                  <a:pt x="7684" y="4264"/>
                  <a:pt x="7702" y="4280"/>
                  <a:pt x="7764" y="4316"/>
                </a:cubicBezTo>
                <a:cubicBezTo>
                  <a:pt x="7772" y="4324"/>
                  <a:pt x="7781" y="4333"/>
                  <a:pt x="7789" y="4341"/>
                </a:cubicBezTo>
                <a:cubicBezTo>
                  <a:pt x="7778" y="4288"/>
                  <a:pt x="7726" y="4198"/>
                  <a:pt x="7689" y="4118"/>
                </a:cubicBezTo>
                <a:cubicBezTo>
                  <a:pt x="7666" y="4046"/>
                  <a:pt x="7660" y="4023"/>
                  <a:pt x="7615" y="3994"/>
                </a:cubicBezTo>
                <a:cubicBezTo>
                  <a:pt x="7644" y="4084"/>
                  <a:pt x="7670" y="4176"/>
                  <a:pt x="7714" y="4266"/>
                </a:cubicBezTo>
                <a:cubicBezTo>
                  <a:pt x="7756" y="4349"/>
                  <a:pt x="7764" y="4366"/>
                  <a:pt x="7789" y="4415"/>
                </a:cubicBezTo>
                <a:cubicBezTo>
                  <a:pt x="7681" y="4435"/>
                  <a:pt x="7595" y="4459"/>
                  <a:pt x="7491" y="4490"/>
                </a:cubicBezTo>
                <a:cubicBezTo>
                  <a:pt x="7443" y="4513"/>
                  <a:pt x="7428" y="4521"/>
                  <a:pt x="7392" y="4514"/>
                </a:cubicBezTo>
              </a:path>
              <a:path w="4589" h="1167">
                <a:moveTo>
                  <a:pt x="3919" y="4068"/>
                </a:moveTo>
                <a:cubicBezTo>
                  <a:pt x="3884" y="4056"/>
                  <a:pt x="3894" y="4061"/>
                  <a:pt x="3894" y="4018"/>
                </a:cubicBezTo>
                <a:cubicBezTo>
                  <a:pt x="3871" y="4136"/>
                  <a:pt x="3805" y="4248"/>
                  <a:pt x="3770" y="4366"/>
                </a:cubicBezTo>
                <a:cubicBezTo>
                  <a:pt x="3770" y="4374"/>
                  <a:pt x="3770" y="4382"/>
                  <a:pt x="3770" y="4390"/>
                </a:cubicBezTo>
                <a:cubicBezTo>
                  <a:pt x="3896" y="4390"/>
                  <a:pt x="4017" y="4358"/>
                  <a:pt x="4142" y="4341"/>
                </a:cubicBezTo>
                <a:cubicBezTo>
                  <a:pt x="4150" y="4341"/>
                  <a:pt x="4159" y="4341"/>
                  <a:pt x="4167" y="43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152880" y="1571760"/>
            <a:ext cx="142920" cy="223560"/>
          </a:xfrm>
          <a:custGeom>
            <a:avLst/>
            <a:gdLst/>
            <a:ahLst/>
            <a:rect l="l" t="t" r="r" b="b"/>
            <a:pathLst>
              <a:path w="398" h="621">
                <a:moveTo>
                  <a:pt x="9103" y="4465"/>
                </a:moveTo>
                <a:cubicBezTo>
                  <a:pt x="9028" y="4423"/>
                  <a:pt x="8917" y="4320"/>
                  <a:pt x="8830" y="4390"/>
                </a:cubicBezTo>
                <a:cubicBezTo>
                  <a:pt x="8754" y="4451"/>
                  <a:pt x="8710" y="4627"/>
                  <a:pt x="8806" y="4688"/>
                </a:cubicBezTo>
                <a:cubicBezTo>
                  <a:pt x="8903" y="4749"/>
                  <a:pt x="9047" y="4616"/>
                  <a:pt x="9128" y="4738"/>
                </a:cubicBezTo>
                <a:cubicBezTo>
                  <a:pt x="9229" y="4890"/>
                  <a:pt x="8996" y="4986"/>
                  <a:pt x="8880" y="4986"/>
                </a:cubicBezTo>
                <a:cubicBezTo>
                  <a:pt x="8835" y="4986"/>
                  <a:pt x="8788" y="4960"/>
                  <a:pt x="8756" y="493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866960" y="1598760"/>
            <a:ext cx="169920" cy="196560"/>
          </a:xfrm>
          <a:custGeom>
            <a:avLst/>
            <a:gdLst/>
            <a:ahLst/>
            <a:rect l="l" t="t" r="r" b="b"/>
            <a:pathLst>
              <a:path w="472" h="547">
                <a:moveTo>
                  <a:pt x="5358" y="4440"/>
                </a:moveTo>
                <a:cubicBezTo>
                  <a:pt x="5381" y="4600"/>
                  <a:pt x="5403" y="4748"/>
                  <a:pt x="5407" y="4911"/>
                </a:cubicBezTo>
                <a:cubicBezTo>
                  <a:pt x="5407" y="4953"/>
                  <a:pt x="5407" y="4961"/>
                  <a:pt x="5407" y="4986"/>
                </a:cubicBezTo>
              </a:path>
              <a:path w="472" h="547">
                <a:moveTo>
                  <a:pt x="5184" y="4787"/>
                </a:moveTo>
                <a:cubicBezTo>
                  <a:pt x="5199" y="4743"/>
                  <a:pt x="5306" y="4750"/>
                  <a:pt x="5358" y="4738"/>
                </a:cubicBezTo>
                <a:cubicBezTo>
                  <a:pt x="5453" y="4717"/>
                  <a:pt x="5535" y="4713"/>
                  <a:pt x="5631" y="4713"/>
                </a:cubicBezTo>
                <a:cubicBezTo>
                  <a:pt x="5639" y="4713"/>
                  <a:pt x="5647" y="4713"/>
                  <a:pt x="5655" y="4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13000" y="2232000"/>
            <a:ext cx="598320" cy="108000"/>
          </a:xfrm>
          <a:custGeom>
            <a:avLst/>
            <a:gdLst/>
            <a:ahLst/>
            <a:rect l="l" t="t" r="r" b="b"/>
            <a:pathLst>
              <a:path w="1663" h="299">
                <a:moveTo>
                  <a:pt x="6449" y="6325"/>
                </a:moveTo>
                <a:cubicBezTo>
                  <a:pt x="6424" y="6325"/>
                  <a:pt x="6416" y="6325"/>
                  <a:pt x="6424" y="6300"/>
                </a:cubicBezTo>
                <a:cubicBezTo>
                  <a:pt x="6536" y="6300"/>
                  <a:pt x="6638" y="6285"/>
                  <a:pt x="6747" y="6276"/>
                </a:cubicBezTo>
                <a:cubicBezTo>
                  <a:pt x="6856" y="6267"/>
                  <a:pt x="6963" y="6263"/>
                  <a:pt x="7069" y="6251"/>
                </a:cubicBezTo>
                <a:cubicBezTo>
                  <a:pt x="7193" y="6237"/>
                  <a:pt x="7318" y="6247"/>
                  <a:pt x="7441" y="6226"/>
                </a:cubicBezTo>
                <a:cubicBezTo>
                  <a:pt x="7531" y="6211"/>
                  <a:pt x="7598" y="6201"/>
                  <a:pt x="7689" y="6201"/>
                </a:cubicBezTo>
                <a:cubicBezTo>
                  <a:pt x="7780" y="6201"/>
                  <a:pt x="7871" y="6201"/>
                  <a:pt x="7962" y="6201"/>
                </a:cubicBezTo>
              </a:path>
              <a:path w="1663" h="299">
                <a:moveTo>
                  <a:pt x="6474" y="6499"/>
                </a:moveTo>
                <a:cubicBezTo>
                  <a:pt x="6586" y="6479"/>
                  <a:pt x="6706" y="6456"/>
                  <a:pt x="6821" y="6449"/>
                </a:cubicBezTo>
                <a:cubicBezTo>
                  <a:pt x="6986" y="6439"/>
                  <a:pt x="7153" y="6428"/>
                  <a:pt x="7317" y="6424"/>
                </a:cubicBezTo>
                <a:cubicBezTo>
                  <a:pt x="7495" y="6419"/>
                  <a:pt x="7663" y="6417"/>
                  <a:pt x="7838" y="6400"/>
                </a:cubicBezTo>
                <a:cubicBezTo>
                  <a:pt x="7892" y="6395"/>
                  <a:pt x="8027" y="6431"/>
                  <a:pt x="8062" y="6424"/>
                </a:cubicBezTo>
                <a:cubicBezTo>
                  <a:pt x="8062" y="6400"/>
                  <a:pt x="8062" y="6392"/>
                  <a:pt x="8086" y="64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313160" y="1625760"/>
            <a:ext cx="152640" cy="115560"/>
          </a:xfrm>
          <a:custGeom>
            <a:avLst/>
            <a:gdLst/>
            <a:ahLst/>
            <a:rect l="l" t="t" r="r" b="b"/>
            <a:pathLst>
              <a:path w="422" h="324">
                <a:moveTo>
                  <a:pt x="12030" y="4589"/>
                </a:moveTo>
                <a:cubicBezTo>
                  <a:pt x="12114" y="4589"/>
                  <a:pt x="12197" y="4562"/>
                  <a:pt x="12278" y="4539"/>
                </a:cubicBezTo>
                <a:cubicBezTo>
                  <a:pt x="12343" y="4517"/>
                  <a:pt x="12358" y="4509"/>
                  <a:pt x="12402" y="4514"/>
                </a:cubicBezTo>
              </a:path>
              <a:path w="422" h="324">
                <a:moveTo>
                  <a:pt x="11981" y="4812"/>
                </a:moveTo>
                <a:cubicBezTo>
                  <a:pt x="12106" y="4826"/>
                  <a:pt x="12176" y="4807"/>
                  <a:pt x="12303" y="4787"/>
                </a:cubicBezTo>
                <a:cubicBezTo>
                  <a:pt x="12320" y="4787"/>
                  <a:pt x="12336" y="4787"/>
                  <a:pt x="12353" y="47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70280" y="1509840"/>
            <a:ext cx="312840" cy="258480"/>
          </a:xfrm>
          <a:custGeom>
            <a:avLst/>
            <a:gdLst/>
            <a:ahLst/>
            <a:rect l="l" t="t" r="r" b="b"/>
            <a:pathLst>
              <a:path w="869" h="720">
                <a:moveTo>
                  <a:pt x="12998" y="4316"/>
                </a:moveTo>
                <a:cubicBezTo>
                  <a:pt x="12998" y="4414"/>
                  <a:pt x="12987" y="4494"/>
                  <a:pt x="12973" y="4589"/>
                </a:cubicBezTo>
                <a:cubicBezTo>
                  <a:pt x="13086" y="4608"/>
                  <a:pt x="13159" y="4602"/>
                  <a:pt x="13271" y="4564"/>
                </a:cubicBezTo>
              </a:path>
              <a:path w="869" h="720">
                <a:moveTo>
                  <a:pt x="13246" y="4217"/>
                </a:moveTo>
                <a:cubicBezTo>
                  <a:pt x="13246" y="4448"/>
                  <a:pt x="13246" y="4680"/>
                  <a:pt x="13246" y="4911"/>
                </a:cubicBezTo>
              </a:path>
              <a:path w="869" h="720">
                <a:moveTo>
                  <a:pt x="13494" y="4291"/>
                </a:moveTo>
                <a:cubicBezTo>
                  <a:pt x="13532" y="4228"/>
                  <a:pt x="13645" y="4137"/>
                  <a:pt x="13717" y="4242"/>
                </a:cubicBezTo>
                <a:cubicBezTo>
                  <a:pt x="13822" y="4397"/>
                  <a:pt x="13582" y="4613"/>
                  <a:pt x="13519" y="4738"/>
                </a:cubicBezTo>
                <a:cubicBezTo>
                  <a:pt x="13519" y="4746"/>
                  <a:pt x="13519" y="4754"/>
                  <a:pt x="13519" y="4762"/>
                </a:cubicBezTo>
                <a:cubicBezTo>
                  <a:pt x="13626" y="4780"/>
                  <a:pt x="13726" y="4762"/>
                  <a:pt x="13841" y="47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589800" y="1874880"/>
            <a:ext cx="63360" cy="233280"/>
          </a:xfrm>
          <a:custGeom>
            <a:avLst/>
            <a:gdLst/>
            <a:ahLst/>
            <a:rect l="l" t="t" r="r" b="b"/>
            <a:pathLst>
              <a:path w="174" h="646">
                <a:moveTo>
                  <a:pt x="18306" y="5209"/>
                </a:moveTo>
                <a:cubicBezTo>
                  <a:pt x="18331" y="5380"/>
                  <a:pt x="18412" y="5537"/>
                  <a:pt x="18455" y="5705"/>
                </a:cubicBezTo>
                <a:cubicBezTo>
                  <a:pt x="18473" y="5796"/>
                  <a:pt x="18481" y="5803"/>
                  <a:pt x="18479" y="58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215040" y="1751040"/>
            <a:ext cx="1679760" cy="401760"/>
          </a:xfrm>
          <a:custGeom>
            <a:avLst/>
            <a:gdLst/>
            <a:ahLst/>
            <a:rect l="l" t="t" r="r" b="b"/>
            <a:pathLst>
              <a:path w="4664" h="1117">
                <a:moveTo>
                  <a:pt x="17785" y="5234"/>
                </a:moveTo>
                <a:cubicBezTo>
                  <a:pt x="17676" y="5179"/>
                  <a:pt x="17486" y="5096"/>
                  <a:pt x="17363" y="5184"/>
                </a:cubicBezTo>
                <a:cubicBezTo>
                  <a:pt x="17293" y="5278"/>
                  <a:pt x="17270" y="5304"/>
                  <a:pt x="17264" y="5383"/>
                </a:cubicBezTo>
                <a:cubicBezTo>
                  <a:pt x="17378" y="5514"/>
                  <a:pt x="17523" y="5426"/>
                  <a:pt x="17686" y="5457"/>
                </a:cubicBezTo>
                <a:cubicBezTo>
                  <a:pt x="17882" y="5495"/>
                  <a:pt x="17981" y="5764"/>
                  <a:pt x="17810" y="5904"/>
                </a:cubicBezTo>
                <a:cubicBezTo>
                  <a:pt x="17778" y="5930"/>
                  <a:pt x="17303" y="6049"/>
                  <a:pt x="17363" y="5904"/>
                </a:cubicBezTo>
                <a:cubicBezTo>
                  <a:pt x="17388" y="5879"/>
                  <a:pt x="17413" y="5854"/>
                  <a:pt x="17438" y="5829"/>
                </a:cubicBezTo>
              </a:path>
              <a:path w="4664" h="1117">
                <a:moveTo>
                  <a:pt x="18083" y="5531"/>
                </a:moveTo>
                <a:cubicBezTo>
                  <a:pt x="18260" y="5485"/>
                  <a:pt x="18421" y="5482"/>
                  <a:pt x="18604" y="5482"/>
                </a:cubicBezTo>
                <a:cubicBezTo>
                  <a:pt x="18673" y="5482"/>
                  <a:pt x="18679" y="5479"/>
                  <a:pt x="18752" y="5457"/>
                </a:cubicBezTo>
              </a:path>
              <a:path w="4664" h="1117">
                <a:moveTo>
                  <a:pt x="19521" y="5283"/>
                </a:moveTo>
                <a:cubicBezTo>
                  <a:pt x="19499" y="5194"/>
                  <a:pt x="19410" y="5088"/>
                  <a:pt x="19298" y="5085"/>
                </a:cubicBezTo>
                <a:cubicBezTo>
                  <a:pt x="19110" y="5080"/>
                  <a:pt x="18924" y="5204"/>
                  <a:pt x="19000" y="5407"/>
                </a:cubicBezTo>
                <a:cubicBezTo>
                  <a:pt x="19074" y="5604"/>
                  <a:pt x="19298" y="5535"/>
                  <a:pt x="19397" y="5407"/>
                </a:cubicBezTo>
                <a:cubicBezTo>
                  <a:pt x="19414" y="5374"/>
                  <a:pt x="19430" y="5341"/>
                  <a:pt x="19447" y="5308"/>
                </a:cubicBezTo>
                <a:cubicBezTo>
                  <a:pt x="19447" y="5226"/>
                  <a:pt x="19436" y="5287"/>
                  <a:pt x="19447" y="5333"/>
                </a:cubicBezTo>
                <a:cubicBezTo>
                  <a:pt x="19495" y="5539"/>
                  <a:pt x="19558" y="5752"/>
                  <a:pt x="19621" y="5953"/>
                </a:cubicBezTo>
                <a:cubicBezTo>
                  <a:pt x="19621" y="5945"/>
                  <a:pt x="19621" y="5936"/>
                  <a:pt x="19621" y="5928"/>
                </a:cubicBezTo>
              </a:path>
              <a:path w="4664" h="1117">
                <a:moveTo>
                  <a:pt x="20017" y="5308"/>
                </a:moveTo>
                <a:cubicBezTo>
                  <a:pt x="20112" y="5308"/>
                  <a:pt x="20195" y="5288"/>
                  <a:pt x="20290" y="5283"/>
                </a:cubicBezTo>
                <a:cubicBezTo>
                  <a:pt x="20315" y="5283"/>
                  <a:pt x="20323" y="5283"/>
                  <a:pt x="20315" y="5308"/>
                </a:cubicBezTo>
              </a:path>
              <a:path w="4664" h="1117">
                <a:moveTo>
                  <a:pt x="20067" y="5556"/>
                </a:moveTo>
                <a:cubicBezTo>
                  <a:pt x="20179" y="5522"/>
                  <a:pt x="20297" y="5527"/>
                  <a:pt x="20414" y="5507"/>
                </a:cubicBezTo>
                <a:cubicBezTo>
                  <a:pt x="20447" y="5499"/>
                  <a:pt x="20480" y="5490"/>
                  <a:pt x="20513" y="5482"/>
                </a:cubicBezTo>
              </a:path>
              <a:path w="4664" h="1117">
                <a:moveTo>
                  <a:pt x="20786" y="5035"/>
                </a:moveTo>
                <a:cubicBezTo>
                  <a:pt x="20778" y="5139"/>
                  <a:pt x="20724" y="5293"/>
                  <a:pt x="20811" y="5383"/>
                </a:cubicBezTo>
                <a:cubicBezTo>
                  <a:pt x="20927" y="5504"/>
                  <a:pt x="21069" y="5390"/>
                  <a:pt x="21183" y="5333"/>
                </a:cubicBezTo>
              </a:path>
              <a:path w="4664" h="1117">
                <a:moveTo>
                  <a:pt x="21010" y="4887"/>
                </a:moveTo>
                <a:cubicBezTo>
                  <a:pt x="21030" y="5111"/>
                  <a:pt x="21092" y="5329"/>
                  <a:pt x="21109" y="5556"/>
                </a:cubicBezTo>
                <a:cubicBezTo>
                  <a:pt x="21116" y="5645"/>
                  <a:pt x="21058" y="5781"/>
                  <a:pt x="21134" y="5705"/>
                </a:cubicBezTo>
              </a:path>
              <a:path w="4664" h="1117">
                <a:moveTo>
                  <a:pt x="21282" y="5035"/>
                </a:moveTo>
                <a:cubicBezTo>
                  <a:pt x="21301" y="4960"/>
                  <a:pt x="21411" y="4913"/>
                  <a:pt x="21481" y="4887"/>
                </a:cubicBezTo>
                <a:cubicBezTo>
                  <a:pt x="21563" y="4866"/>
                  <a:pt x="21579" y="4858"/>
                  <a:pt x="21630" y="4862"/>
                </a:cubicBezTo>
                <a:cubicBezTo>
                  <a:pt x="21668" y="5020"/>
                  <a:pt x="21660" y="5183"/>
                  <a:pt x="21580" y="5333"/>
                </a:cubicBezTo>
                <a:cubicBezTo>
                  <a:pt x="21503" y="5477"/>
                  <a:pt x="21438" y="5589"/>
                  <a:pt x="21406" y="5755"/>
                </a:cubicBezTo>
                <a:cubicBezTo>
                  <a:pt x="21406" y="5763"/>
                  <a:pt x="21406" y="5771"/>
                  <a:pt x="21406" y="5779"/>
                </a:cubicBezTo>
                <a:cubicBezTo>
                  <a:pt x="21439" y="5681"/>
                  <a:pt x="21519" y="5594"/>
                  <a:pt x="21580" y="5507"/>
                </a:cubicBezTo>
                <a:cubicBezTo>
                  <a:pt x="21655" y="5544"/>
                  <a:pt x="21657" y="5631"/>
                  <a:pt x="21779" y="5631"/>
                </a:cubicBezTo>
                <a:cubicBezTo>
                  <a:pt x="21851" y="5631"/>
                  <a:pt x="21903" y="5605"/>
                  <a:pt x="21927" y="55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27200" y="2303640"/>
            <a:ext cx="1800" cy="1440"/>
          </a:xfrm>
          <a:custGeom>
            <a:avLst/>
            <a:gdLst/>
            <a:ahLst/>
            <a:rect l="l" t="t" r="r" b="b"/>
            <a:pathLst>
              <a:path w="1" h="1">
                <a:moveTo>
                  <a:pt x="7020" y="6400"/>
                </a:moveTo>
                <a:lnTo>
                  <a:pt x="7020" y="6400"/>
                </a:lnTo>
                <a:lnTo>
                  <a:pt x="7020" y="6400"/>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1251000" y="2527200"/>
            <a:ext cx="1544760" cy="455760"/>
          </a:xfrm>
          <a:custGeom>
            <a:avLst/>
            <a:gdLst/>
            <a:ahLst/>
            <a:rect l="l" t="t" r="r" b="b"/>
            <a:pathLst>
              <a:path w="4292" h="1266">
                <a:moveTo>
                  <a:pt x="3522" y="7764"/>
                </a:moveTo>
                <a:cubicBezTo>
                  <a:pt x="3489" y="7927"/>
                  <a:pt x="3498" y="8094"/>
                  <a:pt x="3473" y="8260"/>
                </a:cubicBezTo>
                <a:cubicBezTo>
                  <a:pt x="3567" y="8260"/>
                  <a:pt x="3547" y="8142"/>
                  <a:pt x="3597" y="8062"/>
                </a:cubicBezTo>
              </a:path>
              <a:path w="4292" h="1266">
                <a:moveTo>
                  <a:pt x="3820" y="7714"/>
                </a:moveTo>
                <a:cubicBezTo>
                  <a:pt x="3774" y="7898"/>
                  <a:pt x="3712" y="8015"/>
                  <a:pt x="3721" y="8210"/>
                </a:cubicBezTo>
                <a:cubicBezTo>
                  <a:pt x="3878" y="8239"/>
                  <a:pt x="4043" y="8164"/>
                  <a:pt x="4043" y="7962"/>
                </a:cubicBezTo>
                <a:cubicBezTo>
                  <a:pt x="4043" y="7867"/>
                  <a:pt x="3976" y="7820"/>
                  <a:pt x="3919" y="7764"/>
                </a:cubicBezTo>
              </a:path>
              <a:path w="4292" h="1266">
                <a:moveTo>
                  <a:pt x="5482" y="8062"/>
                </a:moveTo>
                <a:cubicBezTo>
                  <a:pt x="5474" y="8062"/>
                  <a:pt x="5465" y="8062"/>
                  <a:pt x="5457" y="8062"/>
                </a:cubicBezTo>
                <a:cubicBezTo>
                  <a:pt x="5561" y="8010"/>
                  <a:pt x="5729" y="8026"/>
                  <a:pt x="5854" y="8012"/>
                </a:cubicBezTo>
                <a:cubicBezTo>
                  <a:pt x="5879" y="8012"/>
                  <a:pt x="5887" y="8012"/>
                  <a:pt x="5904" y="8012"/>
                </a:cubicBezTo>
              </a:path>
              <a:path w="4292" h="1266">
                <a:moveTo>
                  <a:pt x="4068" y="7640"/>
                </a:moveTo>
                <a:cubicBezTo>
                  <a:pt x="4162" y="7577"/>
                  <a:pt x="4213" y="7539"/>
                  <a:pt x="4316" y="7491"/>
                </a:cubicBezTo>
                <a:cubicBezTo>
                  <a:pt x="4545" y="7383"/>
                  <a:pt x="4716" y="7341"/>
                  <a:pt x="4961" y="7317"/>
                </a:cubicBezTo>
                <a:cubicBezTo>
                  <a:pt x="5194" y="7294"/>
                  <a:pt x="5420" y="7293"/>
                  <a:pt x="5655" y="7293"/>
                </a:cubicBezTo>
                <a:cubicBezTo>
                  <a:pt x="5893" y="7293"/>
                  <a:pt x="6140" y="7332"/>
                  <a:pt x="6375" y="7317"/>
                </a:cubicBezTo>
                <a:cubicBezTo>
                  <a:pt x="6609" y="7302"/>
                  <a:pt x="6834" y="7309"/>
                  <a:pt x="7069" y="7342"/>
                </a:cubicBezTo>
                <a:cubicBezTo>
                  <a:pt x="7266" y="7369"/>
                  <a:pt x="7416" y="7460"/>
                  <a:pt x="7565" y="7590"/>
                </a:cubicBezTo>
                <a:cubicBezTo>
                  <a:pt x="7621" y="7638"/>
                  <a:pt x="7718" y="7696"/>
                  <a:pt x="7764" y="7739"/>
                </a:cubicBezTo>
                <a:cubicBezTo>
                  <a:pt x="7764" y="7747"/>
                  <a:pt x="7764" y="7756"/>
                  <a:pt x="7764" y="7764"/>
                </a:cubicBezTo>
                <a:cubicBezTo>
                  <a:pt x="7764" y="7613"/>
                  <a:pt x="7747" y="7507"/>
                  <a:pt x="7689" y="7367"/>
                </a:cubicBezTo>
                <a:cubicBezTo>
                  <a:pt x="7669" y="7442"/>
                  <a:pt x="7656" y="7464"/>
                  <a:pt x="7665" y="7541"/>
                </a:cubicBezTo>
                <a:cubicBezTo>
                  <a:pt x="7673" y="7614"/>
                  <a:pt x="7684" y="7669"/>
                  <a:pt x="7689" y="7739"/>
                </a:cubicBezTo>
                <a:cubicBezTo>
                  <a:pt x="7513" y="7751"/>
                  <a:pt x="7329" y="7744"/>
                  <a:pt x="7144" y="7739"/>
                </a:cubicBezTo>
                <a:cubicBezTo>
                  <a:pt x="7127" y="7739"/>
                  <a:pt x="7111" y="7739"/>
                  <a:pt x="7094" y="7739"/>
                </a:cubicBezTo>
              </a:path>
              <a:path w="4292" h="1266">
                <a:moveTo>
                  <a:pt x="4043" y="7392"/>
                </a:moveTo>
                <a:cubicBezTo>
                  <a:pt x="4028" y="7509"/>
                  <a:pt x="4014" y="7654"/>
                  <a:pt x="3969" y="7764"/>
                </a:cubicBezTo>
                <a:cubicBezTo>
                  <a:pt x="3947" y="7786"/>
                  <a:pt x="3938" y="7791"/>
                  <a:pt x="3944" y="7813"/>
                </a:cubicBezTo>
                <a:cubicBezTo>
                  <a:pt x="4078" y="7813"/>
                  <a:pt x="4208" y="7796"/>
                  <a:pt x="4341" y="7789"/>
                </a:cubicBezTo>
              </a:path>
              <a:path w="4292" h="1266">
                <a:moveTo>
                  <a:pt x="5755" y="7020"/>
                </a:moveTo>
                <a:cubicBezTo>
                  <a:pt x="5755" y="7194"/>
                  <a:pt x="5755" y="7367"/>
                  <a:pt x="5755" y="75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152880" y="2786040"/>
            <a:ext cx="312480" cy="231840"/>
          </a:xfrm>
          <a:custGeom>
            <a:avLst/>
            <a:gdLst/>
            <a:ahLst/>
            <a:rect l="l" t="t" r="r" b="b"/>
            <a:pathLst>
              <a:path w="869" h="646">
                <a:moveTo>
                  <a:pt x="8781" y="7813"/>
                </a:moveTo>
                <a:cubicBezTo>
                  <a:pt x="8781" y="7954"/>
                  <a:pt x="8781" y="8094"/>
                  <a:pt x="8781" y="8235"/>
                </a:cubicBezTo>
                <a:cubicBezTo>
                  <a:pt x="8752" y="8099"/>
                  <a:pt x="8731" y="7934"/>
                  <a:pt x="8830" y="7813"/>
                </a:cubicBezTo>
                <a:cubicBezTo>
                  <a:pt x="8883" y="7748"/>
                  <a:pt x="8933" y="7746"/>
                  <a:pt x="9004" y="7739"/>
                </a:cubicBezTo>
                <a:cubicBezTo>
                  <a:pt x="9106" y="7882"/>
                  <a:pt x="9152" y="8025"/>
                  <a:pt x="9103" y="8210"/>
                </a:cubicBezTo>
                <a:cubicBezTo>
                  <a:pt x="9095" y="8218"/>
                  <a:pt x="9087" y="8227"/>
                  <a:pt x="9079" y="8235"/>
                </a:cubicBezTo>
                <a:cubicBezTo>
                  <a:pt x="9079" y="8140"/>
                  <a:pt x="9092" y="8053"/>
                  <a:pt x="9103" y="7962"/>
                </a:cubicBezTo>
                <a:cubicBezTo>
                  <a:pt x="9113" y="7876"/>
                  <a:pt x="9207" y="7809"/>
                  <a:pt x="9302" y="7813"/>
                </a:cubicBezTo>
                <a:cubicBezTo>
                  <a:pt x="9424" y="7819"/>
                  <a:pt x="9424" y="7985"/>
                  <a:pt x="9426" y="8062"/>
                </a:cubicBezTo>
                <a:cubicBezTo>
                  <a:pt x="9429" y="8171"/>
                  <a:pt x="9371" y="8357"/>
                  <a:pt x="9500" y="8384"/>
                </a:cubicBezTo>
                <a:cubicBezTo>
                  <a:pt x="9568" y="8384"/>
                  <a:pt x="9587" y="8387"/>
                  <a:pt x="9624" y="83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321080" y="2678040"/>
            <a:ext cx="617760" cy="260280"/>
          </a:xfrm>
          <a:custGeom>
            <a:avLst/>
            <a:gdLst/>
            <a:ahLst/>
            <a:rect l="l" t="t" r="r" b="b"/>
            <a:pathLst>
              <a:path w="1713" h="721">
                <a:moveTo>
                  <a:pt x="12005" y="7714"/>
                </a:moveTo>
                <a:cubicBezTo>
                  <a:pt x="12025" y="7653"/>
                  <a:pt x="12193" y="7697"/>
                  <a:pt x="12254" y="7689"/>
                </a:cubicBezTo>
                <a:cubicBezTo>
                  <a:pt x="12322" y="7681"/>
                  <a:pt x="12421" y="7649"/>
                  <a:pt x="12353" y="7739"/>
                </a:cubicBezTo>
              </a:path>
              <a:path w="1713" h="721">
                <a:moveTo>
                  <a:pt x="12055" y="7888"/>
                </a:moveTo>
                <a:cubicBezTo>
                  <a:pt x="12181" y="7882"/>
                  <a:pt x="12301" y="7863"/>
                  <a:pt x="12427" y="7863"/>
                </a:cubicBezTo>
              </a:path>
              <a:path w="1713" h="721">
                <a:moveTo>
                  <a:pt x="13047" y="7491"/>
                </a:moveTo>
                <a:cubicBezTo>
                  <a:pt x="13047" y="7375"/>
                  <a:pt x="13047" y="7673"/>
                  <a:pt x="13047" y="7789"/>
                </a:cubicBezTo>
                <a:cubicBezTo>
                  <a:pt x="13047" y="7905"/>
                  <a:pt x="13047" y="8020"/>
                  <a:pt x="13047" y="8136"/>
                </a:cubicBezTo>
              </a:path>
              <a:path w="1713" h="721">
                <a:moveTo>
                  <a:pt x="13395" y="7541"/>
                </a:moveTo>
                <a:cubicBezTo>
                  <a:pt x="13477" y="7471"/>
                  <a:pt x="13536" y="7452"/>
                  <a:pt x="13643" y="7441"/>
                </a:cubicBezTo>
                <a:cubicBezTo>
                  <a:pt x="13632" y="7590"/>
                  <a:pt x="13614" y="7729"/>
                  <a:pt x="13543" y="7863"/>
                </a:cubicBezTo>
                <a:cubicBezTo>
                  <a:pt x="13490" y="7963"/>
                  <a:pt x="13406" y="8010"/>
                  <a:pt x="13345" y="8086"/>
                </a:cubicBezTo>
                <a:cubicBezTo>
                  <a:pt x="13326" y="8110"/>
                  <a:pt x="13322" y="8125"/>
                  <a:pt x="13295" y="8161"/>
                </a:cubicBezTo>
                <a:cubicBezTo>
                  <a:pt x="13352" y="8125"/>
                  <a:pt x="13432" y="8062"/>
                  <a:pt x="13494" y="8037"/>
                </a:cubicBezTo>
                <a:cubicBezTo>
                  <a:pt x="13502" y="8037"/>
                  <a:pt x="13511" y="8037"/>
                  <a:pt x="13519" y="8037"/>
                </a:cubicBezTo>
                <a:cubicBezTo>
                  <a:pt x="13550" y="8115"/>
                  <a:pt x="13564" y="8182"/>
                  <a:pt x="13667" y="8161"/>
                </a:cubicBezTo>
                <a:cubicBezTo>
                  <a:pt x="13684" y="8153"/>
                  <a:pt x="13700" y="8144"/>
                  <a:pt x="13717" y="813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12040" y="4170240"/>
            <a:ext cx="115920" cy="9720"/>
          </a:xfrm>
          <a:custGeom>
            <a:avLst/>
            <a:gdLst/>
            <a:ahLst/>
            <a:rect l="l" t="t" r="r" b="b"/>
            <a:pathLst>
              <a:path w="323" h="26">
                <a:moveTo>
                  <a:pt x="20588" y="11609"/>
                </a:moveTo>
                <a:cubicBezTo>
                  <a:pt x="20699" y="11603"/>
                  <a:pt x="20800" y="11591"/>
                  <a:pt x="20910" y="11584"/>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 name=""/>
          <p:cNvSpPr/>
          <p:nvPr/>
        </p:nvSpPr>
        <p:spPr>
          <a:xfrm>
            <a:off x="1751040" y="3643200"/>
            <a:ext cx="1847880" cy="635040"/>
          </a:xfrm>
          <a:custGeom>
            <a:avLst/>
            <a:gdLst/>
            <a:ahLst/>
            <a:rect l="l" t="t" r="r" b="b"/>
            <a:pathLst>
              <a:path w="5135" h="1762">
                <a:moveTo>
                  <a:pt x="5234" y="11187"/>
                </a:moveTo>
                <a:cubicBezTo>
                  <a:pt x="5234" y="11085"/>
                  <a:pt x="5263" y="11335"/>
                  <a:pt x="5283" y="11435"/>
                </a:cubicBezTo>
                <a:cubicBezTo>
                  <a:pt x="5303" y="11532"/>
                  <a:pt x="5308" y="11612"/>
                  <a:pt x="5308" y="11708"/>
                </a:cubicBezTo>
              </a:path>
              <a:path w="5135" h="1762">
                <a:moveTo>
                  <a:pt x="5035" y="11435"/>
                </a:moveTo>
                <a:cubicBezTo>
                  <a:pt x="5142" y="11414"/>
                  <a:pt x="5243" y="11410"/>
                  <a:pt x="5358" y="11410"/>
                </a:cubicBezTo>
                <a:cubicBezTo>
                  <a:pt x="5399" y="11410"/>
                  <a:pt x="5441" y="11410"/>
                  <a:pt x="5482" y="11410"/>
                </a:cubicBezTo>
              </a:path>
              <a:path w="5135" h="1762">
                <a:moveTo>
                  <a:pt x="8384" y="11187"/>
                </a:moveTo>
                <a:cubicBezTo>
                  <a:pt x="8384" y="11147"/>
                  <a:pt x="8390" y="11458"/>
                  <a:pt x="8384" y="11509"/>
                </a:cubicBezTo>
                <a:cubicBezTo>
                  <a:pt x="8376" y="11576"/>
                  <a:pt x="8359" y="11600"/>
                  <a:pt x="8359" y="11658"/>
                </a:cubicBezTo>
              </a:path>
              <a:path w="5135" h="1762">
                <a:moveTo>
                  <a:pt x="8930" y="11013"/>
                </a:moveTo>
                <a:cubicBezTo>
                  <a:pt x="8817" y="11013"/>
                  <a:pt x="8742" y="10971"/>
                  <a:pt x="8706" y="11088"/>
                </a:cubicBezTo>
                <a:cubicBezTo>
                  <a:pt x="8686" y="11154"/>
                  <a:pt x="8682" y="11179"/>
                  <a:pt x="8682" y="11237"/>
                </a:cubicBezTo>
                <a:cubicBezTo>
                  <a:pt x="8761" y="11201"/>
                  <a:pt x="8854" y="11145"/>
                  <a:pt x="8930" y="11187"/>
                </a:cubicBezTo>
                <a:cubicBezTo>
                  <a:pt x="9051" y="11254"/>
                  <a:pt x="9067" y="11399"/>
                  <a:pt x="8979" y="11509"/>
                </a:cubicBezTo>
                <a:cubicBezTo>
                  <a:pt x="8926" y="11575"/>
                  <a:pt x="8776" y="11622"/>
                  <a:pt x="8706" y="11559"/>
                </a:cubicBezTo>
                <a:cubicBezTo>
                  <a:pt x="8698" y="11551"/>
                  <a:pt x="8686" y="11500"/>
                  <a:pt x="8682" y="11485"/>
                </a:cubicBezTo>
              </a:path>
              <a:path w="5135" h="1762">
                <a:moveTo>
                  <a:pt x="5135" y="11708"/>
                </a:moveTo>
                <a:cubicBezTo>
                  <a:pt x="5138" y="11719"/>
                  <a:pt x="5161" y="11798"/>
                  <a:pt x="5259" y="11832"/>
                </a:cubicBezTo>
                <a:cubicBezTo>
                  <a:pt x="5435" y="11894"/>
                  <a:pt x="5639" y="11897"/>
                  <a:pt x="5804" y="11807"/>
                </a:cubicBezTo>
                <a:cubicBezTo>
                  <a:pt x="5965" y="11719"/>
                  <a:pt x="6010" y="11508"/>
                  <a:pt x="5978" y="11336"/>
                </a:cubicBezTo>
                <a:cubicBezTo>
                  <a:pt x="5948" y="11173"/>
                  <a:pt x="5772" y="10993"/>
                  <a:pt x="5631" y="10914"/>
                </a:cubicBezTo>
                <a:cubicBezTo>
                  <a:pt x="5488" y="10833"/>
                  <a:pt x="5309" y="10861"/>
                  <a:pt x="5159" y="10914"/>
                </a:cubicBezTo>
                <a:cubicBezTo>
                  <a:pt x="5043" y="10955"/>
                  <a:pt x="4918" y="11010"/>
                  <a:pt x="4887" y="11137"/>
                </a:cubicBezTo>
                <a:cubicBezTo>
                  <a:pt x="4842" y="11323"/>
                  <a:pt x="4811" y="11611"/>
                  <a:pt x="4961" y="11757"/>
                </a:cubicBezTo>
                <a:cubicBezTo>
                  <a:pt x="5074" y="11867"/>
                  <a:pt x="5255" y="11860"/>
                  <a:pt x="5383" y="11782"/>
                </a:cubicBezTo>
                <a:cubicBezTo>
                  <a:pt x="5415" y="11748"/>
                  <a:pt x="5432" y="11732"/>
                  <a:pt x="5457" y="11708"/>
                </a:cubicBezTo>
              </a:path>
              <a:path w="5135" h="1762">
                <a:moveTo>
                  <a:pt x="5804" y="11137"/>
                </a:moveTo>
                <a:cubicBezTo>
                  <a:pt x="5849" y="11055"/>
                  <a:pt x="5883" y="10957"/>
                  <a:pt x="5953" y="10889"/>
                </a:cubicBezTo>
                <a:cubicBezTo>
                  <a:pt x="6036" y="10808"/>
                  <a:pt x="6125" y="10745"/>
                  <a:pt x="6226" y="10691"/>
                </a:cubicBezTo>
                <a:cubicBezTo>
                  <a:pt x="6417" y="10589"/>
                  <a:pt x="6596" y="10521"/>
                  <a:pt x="6796" y="10443"/>
                </a:cubicBezTo>
                <a:cubicBezTo>
                  <a:pt x="7124" y="10315"/>
                  <a:pt x="7440" y="10222"/>
                  <a:pt x="7789" y="10170"/>
                </a:cubicBezTo>
                <a:cubicBezTo>
                  <a:pt x="8003" y="10138"/>
                  <a:pt x="8216" y="10100"/>
                  <a:pt x="8434" y="10120"/>
                </a:cubicBezTo>
                <a:cubicBezTo>
                  <a:pt x="8620" y="10137"/>
                  <a:pt x="8831" y="10172"/>
                  <a:pt x="9004" y="10244"/>
                </a:cubicBezTo>
                <a:cubicBezTo>
                  <a:pt x="9101" y="10285"/>
                  <a:pt x="9168" y="10334"/>
                  <a:pt x="9252" y="10393"/>
                </a:cubicBezTo>
                <a:cubicBezTo>
                  <a:pt x="9356" y="10466"/>
                  <a:pt x="9420" y="10528"/>
                  <a:pt x="9500" y="10616"/>
                </a:cubicBezTo>
                <a:cubicBezTo>
                  <a:pt x="9552" y="10674"/>
                  <a:pt x="9583" y="10748"/>
                  <a:pt x="9624" y="10815"/>
                </a:cubicBezTo>
                <a:cubicBezTo>
                  <a:pt x="9679" y="10904"/>
                  <a:pt x="9719" y="10992"/>
                  <a:pt x="9773" y="11088"/>
                </a:cubicBezTo>
                <a:cubicBezTo>
                  <a:pt x="9823" y="11177"/>
                  <a:pt x="9845" y="11267"/>
                  <a:pt x="9872" y="11361"/>
                </a:cubicBezTo>
                <a:cubicBezTo>
                  <a:pt x="9884" y="11404"/>
                  <a:pt x="9883" y="11527"/>
                  <a:pt x="9897" y="11485"/>
                </a:cubicBezTo>
                <a:cubicBezTo>
                  <a:pt x="9926" y="11398"/>
                  <a:pt x="9895" y="11348"/>
                  <a:pt x="9922" y="11261"/>
                </a:cubicBezTo>
                <a:cubicBezTo>
                  <a:pt x="9957" y="11150"/>
                  <a:pt x="9973" y="11050"/>
                  <a:pt x="9996" y="10939"/>
                </a:cubicBezTo>
                <a:cubicBezTo>
                  <a:pt x="9996" y="10947"/>
                  <a:pt x="9996" y="10956"/>
                  <a:pt x="9996" y="10964"/>
                </a:cubicBezTo>
                <a:cubicBezTo>
                  <a:pt x="9990" y="11096"/>
                  <a:pt x="9992" y="11233"/>
                  <a:pt x="9947" y="11361"/>
                </a:cubicBezTo>
                <a:cubicBezTo>
                  <a:pt x="9920" y="11437"/>
                  <a:pt x="9961" y="11457"/>
                  <a:pt x="9847" y="11460"/>
                </a:cubicBezTo>
                <a:cubicBezTo>
                  <a:pt x="9790" y="11461"/>
                  <a:pt x="9642" y="11389"/>
                  <a:pt x="9599" y="11361"/>
                </a:cubicBezTo>
                <a:cubicBezTo>
                  <a:pt x="9569" y="11341"/>
                  <a:pt x="9521" y="11308"/>
                  <a:pt x="9500" y="11286"/>
                </a:cubicBezTo>
                <a:cubicBezTo>
                  <a:pt x="9500" y="11278"/>
                  <a:pt x="9500" y="11269"/>
                  <a:pt x="9500" y="1126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02080" y="4037040"/>
            <a:ext cx="169920" cy="187200"/>
          </a:xfrm>
          <a:custGeom>
            <a:avLst/>
            <a:gdLst/>
            <a:ahLst/>
            <a:rect l="l" t="t" r="r" b="b"/>
            <a:pathLst>
              <a:path w="472" h="522">
                <a:moveTo>
                  <a:pt x="12229" y="11361"/>
                </a:moveTo>
                <a:cubicBezTo>
                  <a:pt x="12229" y="11319"/>
                  <a:pt x="12229" y="11311"/>
                  <a:pt x="12229" y="11286"/>
                </a:cubicBezTo>
                <a:cubicBezTo>
                  <a:pt x="12325" y="11363"/>
                  <a:pt x="12354" y="11535"/>
                  <a:pt x="12402" y="11658"/>
                </a:cubicBezTo>
                <a:cubicBezTo>
                  <a:pt x="12410" y="11675"/>
                  <a:pt x="12419" y="11691"/>
                  <a:pt x="12427" y="11708"/>
                </a:cubicBezTo>
                <a:cubicBezTo>
                  <a:pt x="12427" y="11765"/>
                  <a:pt x="12386" y="11635"/>
                  <a:pt x="12378" y="11609"/>
                </a:cubicBezTo>
                <a:cubicBezTo>
                  <a:pt x="12357" y="11539"/>
                  <a:pt x="12388" y="11473"/>
                  <a:pt x="12402" y="11410"/>
                </a:cubicBezTo>
                <a:cubicBezTo>
                  <a:pt x="12408" y="11381"/>
                  <a:pt x="12432" y="11302"/>
                  <a:pt x="12452" y="11286"/>
                </a:cubicBezTo>
                <a:cubicBezTo>
                  <a:pt x="12493" y="11253"/>
                  <a:pt x="12558" y="11225"/>
                  <a:pt x="12601" y="11212"/>
                </a:cubicBezTo>
                <a:cubicBezTo>
                  <a:pt x="12644" y="11199"/>
                  <a:pt x="12692" y="11237"/>
                  <a:pt x="12700" y="1126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375160" y="4000680"/>
            <a:ext cx="635040" cy="295200"/>
          </a:xfrm>
          <a:custGeom>
            <a:avLst/>
            <a:gdLst/>
            <a:ahLst/>
            <a:rect l="l" t="t" r="r" b="b"/>
            <a:pathLst>
              <a:path w="1763" h="820">
                <a:moveTo>
                  <a:pt x="14932" y="11509"/>
                </a:moveTo>
                <a:cubicBezTo>
                  <a:pt x="15026" y="11494"/>
                  <a:pt x="15139" y="11483"/>
                  <a:pt x="15230" y="11460"/>
                </a:cubicBezTo>
                <a:cubicBezTo>
                  <a:pt x="15271" y="11440"/>
                  <a:pt x="15287" y="11421"/>
                  <a:pt x="15280" y="11460"/>
                </a:cubicBezTo>
              </a:path>
              <a:path w="1763" h="820">
                <a:moveTo>
                  <a:pt x="15007" y="11633"/>
                </a:moveTo>
                <a:cubicBezTo>
                  <a:pt x="15072" y="11649"/>
                  <a:pt x="15151" y="11651"/>
                  <a:pt x="15230" y="11633"/>
                </a:cubicBezTo>
                <a:cubicBezTo>
                  <a:pt x="15280" y="11621"/>
                  <a:pt x="15281" y="11609"/>
                  <a:pt x="15329" y="11609"/>
                </a:cubicBezTo>
              </a:path>
              <a:path w="1763" h="820">
                <a:moveTo>
                  <a:pt x="15974" y="11336"/>
                </a:moveTo>
                <a:cubicBezTo>
                  <a:pt x="15971" y="11329"/>
                  <a:pt x="16030" y="11250"/>
                  <a:pt x="16073" y="11237"/>
                </a:cubicBezTo>
                <a:cubicBezTo>
                  <a:pt x="16160" y="11211"/>
                  <a:pt x="16215" y="11257"/>
                  <a:pt x="16247" y="11336"/>
                </a:cubicBezTo>
                <a:cubicBezTo>
                  <a:pt x="16315" y="11504"/>
                  <a:pt x="16116" y="11617"/>
                  <a:pt x="15999" y="11708"/>
                </a:cubicBezTo>
                <a:cubicBezTo>
                  <a:pt x="15915" y="11773"/>
                  <a:pt x="15822" y="11822"/>
                  <a:pt x="15801" y="11931"/>
                </a:cubicBezTo>
                <a:cubicBezTo>
                  <a:pt x="15906" y="11878"/>
                  <a:pt x="16011" y="11798"/>
                  <a:pt x="16123" y="11782"/>
                </a:cubicBezTo>
                <a:cubicBezTo>
                  <a:pt x="16188" y="11773"/>
                  <a:pt x="16219" y="11819"/>
                  <a:pt x="16272" y="11832"/>
                </a:cubicBezTo>
              </a:path>
              <a:path w="1763" h="820">
                <a:moveTo>
                  <a:pt x="16495" y="11261"/>
                </a:moveTo>
                <a:cubicBezTo>
                  <a:pt x="16518" y="11150"/>
                  <a:pt x="16569" y="11148"/>
                  <a:pt x="16669" y="11112"/>
                </a:cubicBezTo>
                <a:cubicBezTo>
                  <a:pt x="16669" y="11322"/>
                  <a:pt x="16600" y="11373"/>
                  <a:pt x="16446" y="11509"/>
                </a:cubicBezTo>
                <a:cubicBezTo>
                  <a:pt x="16531" y="11438"/>
                  <a:pt x="16639" y="11418"/>
                  <a:pt x="16694" y="11559"/>
                </a:cubicBezTo>
                <a:cubicBezTo>
                  <a:pt x="16761" y="11732"/>
                  <a:pt x="16595" y="11843"/>
                  <a:pt x="16446" y="11832"/>
                </a:cubicBezTo>
                <a:cubicBezTo>
                  <a:pt x="16405" y="11812"/>
                  <a:pt x="16389" y="11814"/>
                  <a:pt x="16396" y="117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07080" y="4037040"/>
            <a:ext cx="1420920" cy="303120"/>
          </a:xfrm>
          <a:custGeom>
            <a:avLst/>
            <a:gdLst/>
            <a:ahLst/>
            <a:rect l="l" t="t" r="r" b="b"/>
            <a:pathLst>
              <a:path w="3945" h="844">
                <a:moveTo>
                  <a:pt x="18355" y="11509"/>
                </a:moveTo>
                <a:cubicBezTo>
                  <a:pt x="18375" y="11631"/>
                  <a:pt x="18411" y="11781"/>
                  <a:pt x="18405" y="11906"/>
                </a:cubicBezTo>
                <a:cubicBezTo>
                  <a:pt x="18403" y="11957"/>
                  <a:pt x="18380" y="12056"/>
                  <a:pt x="18380" y="12005"/>
                </a:cubicBezTo>
              </a:path>
              <a:path w="3945" h="844">
                <a:moveTo>
                  <a:pt x="19025" y="11435"/>
                </a:moveTo>
                <a:cubicBezTo>
                  <a:pt x="18950" y="11465"/>
                  <a:pt x="18820" y="11495"/>
                  <a:pt x="18777" y="11509"/>
                </a:cubicBezTo>
                <a:cubicBezTo>
                  <a:pt x="18724" y="11526"/>
                  <a:pt x="18722" y="11665"/>
                  <a:pt x="18703" y="11733"/>
                </a:cubicBezTo>
                <a:cubicBezTo>
                  <a:pt x="18791" y="11715"/>
                  <a:pt x="18852" y="11672"/>
                  <a:pt x="18951" y="11683"/>
                </a:cubicBezTo>
                <a:cubicBezTo>
                  <a:pt x="19087" y="11699"/>
                  <a:pt x="19145" y="11922"/>
                  <a:pt x="19025" y="12005"/>
                </a:cubicBezTo>
                <a:cubicBezTo>
                  <a:pt x="18971" y="12042"/>
                  <a:pt x="18797" y="12091"/>
                  <a:pt x="18777" y="12005"/>
                </a:cubicBezTo>
                <a:cubicBezTo>
                  <a:pt x="18777" y="11997"/>
                  <a:pt x="18777" y="11989"/>
                  <a:pt x="18777" y="11981"/>
                </a:cubicBezTo>
              </a:path>
              <a:path w="3945" h="844">
                <a:moveTo>
                  <a:pt x="19472" y="11534"/>
                </a:moveTo>
                <a:cubicBezTo>
                  <a:pt x="19504" y="11648"/>
                  <a:pt x="19538" y="11763"/>
                  <a:pt x="19546" y="11881"/>
                </a:cubicBezTo>
                <a:cubicBezTo>
                  <a:pt x="19546" y="11889"/>
                  <a:pt x="19546" y="11898"/>
                  <a:pt x="19546" y="11906"/>
                </a:cubicBezTo>
              </a:path>
              <a:path w="3945" h="844">
                <a:moveTo>
                  <a:pt x="19298" y="11658"/>
                </a:moveTo>
                <a:cubicBezTo>
                  <a:pt x="19439" y="11658"/>
                  <a:pt x="19579" y="11658"/>
                  <a:pt x="19720" y="11658"/>
                </a:cubicBezTo>
              </a:path>
              <a:path w="3945" h="844">
                <a:moveTo>
                  <a:pt x="19869" y="11609"/>
                </a:moveTo>
                <a:cubicBezTo>
                  <a:pt x="19906" y="11688"/>
                  <a:pt x="19968" y="11885"/>
                  <a:pt x="19968" y="11881"/>
                </a:cubicBezTo>
                <a:cubicBezTo>
                  <a:pt x="19979" y="11680"/>
                  <a:pt x="19988" y="11622"/>
                  <a:pt x="20191" y="11559"/>
                </a:cubicBezTo>
                <a:cubicBezTo>
                  <a:pt x="20224" y="11551"/>
                  <a:pt x="20257" y="11542"/>
                  <a:pt x="20290" y="11534"/>
                </a:cubicBezTo>
              </a:path>
              <a:path w="3945" h="844">
                <a:moveTo>
                  <a:pt x="20638" y="11782"/>
                </a:moveTo>
                <a:cubicBezTo>
                  <a:pt x="20754" y="11782"/>
                  <a:pt x="20822" y="11799"/>
                  <a:pt x="20910" y="11733"/>
                </a:cubicBezTo>
              </a:path>
              <a:path w="3945" h="844">
                <a:moveTo>
                  <a:pt x="21258" y="11435"/>
                </a:moveTo>
                <a:cubicBezTo>
                  <a:pt x="21329" y="11362"/>
                  <a:pt x="21380" y="11324"/>
                  <a:pt x="21481" y="11311"/>
                </a:cubicBezTo>
                <a:cubicBezTo>
                  <a:pt x="21497" y="11311"/>
                  <a:pt x="21514" y="11311"/>
                  <a:pt x="21530" y="11311"/>
                </a:cubicBezTo>
                <a:cubicBezTo>
                  <a:pt x="21575" y="11489"/>
                  <a:pt x="21557" y="11524"/>
                  <a:pt x="21406" y="11633"/>
                </a:cubicBezTo>
                <a:cubicBezTo>
                  <a:pt x="21276" y="11727"/>
                  <a:pt x="21172" y="11818"/>
                  <a:pt x="21059" y="11931"/>
                </a:cubicBezTo>
                <a:cubicBezTo>
                  <a:pt x="21166" y="11886"/>
                  <a:pt x="21269" y="11806"/>
                  <a:pt x="21382" y="11757"/>
                </a:cubicBezTo>
                <a:cubicBezTo>
                  <a:pt x="21406" y="11805"/>
                  <a:pt x="21478" y="11917"/>
                  <a:pt x="21555" y="11906"/>
                </a:cubicBezTo>
                <a:cubicBezTo>
                  <a:pt x="21580" y="11898"/>
                  <a:pt x="21605" y="11889"/>
                  <a:pt x="21630" y="11881"/>
                </a:cubicBezTo>
              </a:path>
              <a:path w="3945" h="844">
                <a:moveTo>
                  <a:pt x="21853" y="11311"/>
                </a:moveTo>
                <a:cubicBezTo>
                  <a:pt x="21962" y="11248"/>
                  <a:pt x="22028" y="11226"/>
                  <a:pt x="22151" y="11212"/>
                </a:cubicBezTo>
                <a:cubicBezTo>
                  <a:pt x="22151" y="11373"/>
                  <a:pt x="22067" y="11404"/>
                  <a:pt x="21952" y="11509"/>
                </a:cubicBezTo>
                <a:cubicBezTo>
                  <a:pt x="21930" y="11531"/>
                  <a:pt x="21925" y="11540"/>
                  <a:pt x="21903" y="11534"/>
                </a:cubicBezTo>
                <a:cubicBezTo>
                  <a:pt x="21994" y="11511"/>
                  <a:pt x="22092" y="11461"/>
                  <a:pt x="22200" y="11485"/>
                </a:cubicBezTo>
                <a:cubicBezTo>
                  <a:pt x="22233" y="11501"/>
                  <a:pt x="22266" y="11518"/>
                  <a:pt x="22299" y="11534"/>
                </a:cubicBezTo>
                <a:cubicBezTo>
                  <a:pt x="22267" y="11717"/>
                  <a:pt x="22196" y="11868"/>
                  <a:pt x="21977" y="11881"/>
                </a:cubicBezTo>
                <a:cubicBezTo>
                  <a:pt x="21920" y="11862"/>
                  <a:pt x="21913" y="11854"/>
                  <a:pt x="21878" y="118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34040" y="2938320"/>
            <a:ext cx="1474920" cy="169920"/>
          </a:xfrm>
          <a:custGeom>
            <a:avLst/>
            <a:gdLst/>
            <a:ahLst/>
            <a:rect l="l" t="t" r="r" b="b"/>
            <a:pathLst>
              <a:path w="4094" h="472">
                <a:moveTo>
                  <a:pt x="17041" y="8508"/>
                </a:moveTo>
                <a:cubicBezTo>
                  <a:pt x="17041" y="8500"/>
                  <a:pt x="17041" y="8491"/>
                  <a:pt x="17041" y="8483"/>
                </a:cubicBezTo>
              </a:path>
              <a:path w="4094" h="472">
                <a:moveTo>
                  <a:pt x="17041" y="8483"/>
                </a:moveTo>
                <a:lnTo>
                  <a:pt x="17041" y="8483"/>
                </a:lnTo>
              </a:path>
              <a:path w="4094" h="472">
                <a:moveTo>
                  <a:pt x="20389" y="8260"/>
                </a:moveTo>
                <a:cubicBezTo>
                  <a:pt x="20494" y="8242"/>
                  <a:pt x="20601" y="8190"/>
                  <a:pt x="20712" y="8210"/>
                </a:cubicBezTo>
                <a:cubicBezTo>
                  <a:pt x="20720" y="8218"/>
                  <a:pt x="20729" y="8227"/>
                  <a:pt x="20737" y="8235"/>
                </a:cubicBezTo>
              </a:path>
              <a:path w="4094" h="472">
                <a:moveTo>
                  <a:pt x="20414" y="8508"/>
                </a:moveTo>
                <a:cubicBezTo>
                  <a:pt x="20523" y="8499"/>
                  <a:pt x="20629" y="8479"/>
                  <a:pt x="20737" y="8458"/>
                </a:cubicBezTo>
              </a:path>
              <a:path w="4094" h="472">
                <a:moveTo>
                  <a:pt x="21084" y="8161"/>
                </a:moveTo>
                <a:cubicBezTo>
                  <a:pt x="21091" y="8321"/>
                  <a:pt x="21114" y="8474"/>
                  <a:pt x="21134"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143760" y="2955960"/>
            <a:ext cx="1017360" cy="223920"/>
          </a:xfrm>
          <a:custGeom>
            <a:avLst/>
            <a:gdLst/>
            <a:ahLst/>
            <a:rect l="l" t="t" r="r" b="b"/>
            <a:pathLst>
              <a:path w="2828" h="621">
                <a:moveTo>
                  <a:pt x="17066" y="8508"/>
                </a:moveTo>
                <a:cubicBezTo>
                  <a:pt x="17098" y="8605"/>
                  <a:pt x="17117" y="8705"/>
                  <a:pt x="17140" y="8806"/>
                </a:cubicBezTo>
                <a:cubicBezTo>
                  <a:pt x="17196" y="8842"/>
                  <a:pt x="17135" y="8642"/>
                  <a:pt x="17140" y="8582"/>
                </a:cubicBezTo>
                <a:cubicBezTo>
                  <a:pt x="17150" y="8471"/>
                  <a:pt x="17238" y="8266"/>
                  <a:pt x="17388" y="8384"/>
                </a:cubicBezTo>
                <a:cubicBezTo>
                  <a:pt x="17493" y="8466"/>
                  <a:pt x="17488" y="8660"/>
                  <a:pt x="17562" y="8731"/>
                </a:cubicBezTo>
                <a:cubicBezTo>
                  <a:pt x="17562" y="8723"/>
                  <a:pt x="17562" y="8714"/>
                  <a:pt x="17562" y="8706"/>
                </a:cubicBezTo>
                <a:cubicBezTo>
                  <a:pt x="17485" y="8528"/>
                  <a:pt x="17504" y="8400"/>
                  <a:pt x="17735" y="8359"/>
                </a:cubicBezTo>
                <a:cubicBezTo>
                  <a:pt x="17998" y="8312"/>
                  <a:pt x="18064" y="8465"/>
                  <a:pt x="18107" y="8682"/>
                </a:cubicBezTo>
                <a:cubicBezTo>
                  <a:pt x="18114" y="8719"/>
                  <a:pt x="18027" y="8786"/>
                  <a:pt x="18132" y="8682"/>
                </a:cubicBezTo>
              </a:path>
              <a:path w="2828" h="621">
                <a:moveTo>
                  <a:pt x="18355" y="8483"/>
                </a:moveTo>
                <a:cubicBezTo>
                  <a:pt x="18489" y="8462"/>
                  <a:pt x="18574" y="8469"/>
                  <a:pt x="18703" y="8483"/>
                </a:cubicBezTo>
              </a:path>
              <a:path w="2828" h="621">
                <a:moveTo>
                  <a:pt x="19025" y="8260"/>
                </a:moveTo>
                <a:cubicBezTo>
                  <a:pt x="19058" y="8321"/>
                  <a:pt x="19141" y="8694"/>
                  <a:pt x="19174" y="8706"/>
                </a:cubicBezTo>
                <a:cubicBezTo>
                  <a:pt x="19191" y="8690"/>
                  <a:pt x="19207" y="8673"/>
                  <a:pt x="19224" y="8657"/>
                </a:cubicBezTo>
              </a:path>
              <a:path w="2828" h="621">
                <a:moveTo>
                  <a:pt x="19670" y="8235"/>
                </a:moveTo>
                <a:cubicBezTo>
                  <a:pt x="19540" y="8296"/>
                  <a:pt x="19249" y="8469"/>
                  <a:pt x="19422" y="8657"/>
                </a:cubicBezTo>
                <a:cubicBezTo>
                  <a:pt x="19597" y="8847"/>
                  <a:pt x="19868" y="8667"/>
                  <a:pt x="19893" y="8458"/>
                </a:cubicBezTo>
                <a:cubicBezTo>
                  <a:pt x="19915" y="8269"/>
                  <a:pt x="19791" y="8222"/>
                  <a:pt x="19645" y="82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97880" y="2894040"/>
            <a:ext cx="249120" cy="249120"/>
          </a:xfrm>
          <a:custGeom>
            <a:avLst/>
            <a:gdLst/>
            <a:ahLst/>
            <a:rect l="l" t="t" r="r" b="b"/>
            <a:pathLst>
              <a:path w="695" h="695">
                <a:moveTo>
                  <a:pt x="21431" y="8161"/>
                </a:moveTo>
                <a:cubicBezTo>
                  <a:pt x="21481" y="8098"/>
                  <a:pt x="21631" y="8034"/>
                  <a:pt x="21729" y="8037"/>
                </a:cubicBezTo>
                <a:cubicBezTo>
                  <a:pt x="21815" y="8040"/>
                  <a:pt x="21880" y="8109"/>
                  <a:pt x="21903" y="8186"/>
                </a:cubicBezTo>
                <a:cubicBezTo>
                  <a:pt x="21935" y="8291"/>
                  <a:pt x="21856" y="8358"/>
                  <a:pt x="21779" y="8409"/>
                </a:cubicBezTo>
                <a:cubicBezTo>
                  <a:pt x="21639" y="8502"/>
                  <a:pt x="21507" y="8593"/>
                  <a:pt x="21382" y="8706"/>
                </a:cubicBezTo>
                <a:cubicBezTo>
                  <a:pt x="21405" y="8778"/>
                  <a:pt x="21508" y="8637"/>
                  <a:pt x="21555" y="8607"/>
                </a:cubicBezTo>
                <a:cubicBezTo>
                  <a:pt x="21629" y="8560"/>
                  <a:pt x="21678" y="8553"/>
                  <a:pt x="21754" y="8607"/>
                </a:cubicBezTo>
                <a:cubicBezTo>
                  <a:pt x="21852" y="8676"/>
                  <a:pt x="21960" y="8713"/>
                  <a:pt x="22076" y="8632"/>
                </a:cubicBezTo>
                <a:cubicBezTo>
                  <a:pt x="22076" y="8624"/>
                  <a:pt x="22076" y="8615"/>
                  <a:pt x="22076" y="86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77960" y="6303960"/>
            <a:ext cx="1440" cy="1440"/>
          </a:xfrm>
          <a:custGeom>
            <a:avLst/>
            <a:gdLst/>
            <a:ahLst/>
            <a:rect l="l" t="t" r="r" b="b"/>
            <a:pathLst>
              <a:path w="1" h="1">
                <a:moveTo>
                  <a:pt x="4663" y="17512"/>
                </a:moveTo>
                <a:lnTo>
                  <a:pt x="4663" y="17512"/>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74"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ive:  Students will determine the unknown in a linear equation.</a:t>
            </a:r>
            <a:endParaRPr b="0" lang="en-US" sz="2800" spc="-1" strike="noStrike">
              <a:solidFill>
                <a:srgbClr val="000000"/>
              </a:solidFill>
              <a:latin typeface="Comic Sans MS"/>
            </a:endParaRPr>
          </a:p>
        </p:txBody>
      </p:sp>
      <p:sp>
        <p:nvSpPr>
          <p:cNvPr id="175" name=""/>
          <p:cNvSpPr/>
          <p:nvPr/>
        </p:nvSpPr>
        <p:spPr>
          <a:xfrm>
            <a:off x="5724360" y="4795920"/>
            <a:ext cx="1089360" cy="490320"/>
          </a:xfrm>
          <a:custGeom>
            <a:avLst/>
            <a:gdLst/>
            <a:ahLst/>
            <a:rect l="l" t="t" r="r" b="b"/>
            <a:pathLst>
              <a:path w="3027" h="1365">
                <a:moveTo>
                  <a:pt x="15925" y="13320"/>
                </a:moveTo>
                <a:cubicBezTo>
                  <a:pt x="15925" y="13345"/>
                  <a:pt x="15925" y="13353"/>
                  <a:pt x="15900" y="13345"/>
                </a:cubicBezTo>
              </a:path>
              <a:path w="3027" h="1365">
                <a:moveTo>
                  <a:pt x="17909" y="14337"/>
                </a:moveTo>
                <a:cubicBezTo>
                  <a:pt x="17928" y="14453"/>
                  <a:pt x="17949" y="14567"/>
                  <a:pt x="17959" y="14684"/>
                </a:cubicBezTo>
              </a:path>
              <a:path w="3027" h="1365">
                <a:moveTo>
                  <a:pt x="17934" y="13990"/>
                </a:moveTo>
                <a:lnTo>
                  <a:pt x="17934" y="13990"/>
                </a:lnTo>
                <a:lnTo>
                  <a:pt x="17934" y="13990"/>
                </a:lnTo>
              </a:path>
              <a:path w="3027" h="1365">
                <a:moveTo>
                  <a:pt x="17934" y="13990"/>
                </a:moveTo>
                <a:lnTo>
                  <a:pt x="17934" y="13990"/>
                </a:lnTo>
              </a:path>
              <a:path w="3027" h="1365">
                <a:moveTo>
                  <a:pt x="18926" y="13990"/>
                </a:moveTo>
                <a:cubicBezTo>
                  <a:pt x="18926" y="13998"/>
                  <a:pt x="18926" y="14007"/>
                  <a:pt x="18926" y="140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464080" y="4929120"/>
            <a:ext cx="1974960" cy="492120"/>
          </a:xfrm>
          <a:custGeom>
            <a:avLst/>
            <a:gdLst/>
            <a:ahLst/>
            <a:rect l="l" t="t" r="r" b="b"/>
            <a:pathLst>
              <a:path w="5483" h="1365">
                <a:moveTo>
                  <a:pt x="15354" y="13791"/>
                </a:moveTo>
                <a:cubicBezTo>
                  <a:pt x="15263" y="14017"/>
                  <a:pt x="15190" y="14273"/>
                  <a:pt x="15180" y="14536"/>
                </a:cubicBezTo>
                <a:cubicBezTo>
                  <a:pt x="15170" y="14791"/>
                  <a:pt x="15244" y="14856"/>
                  <a:pt x="15429" y="14932"/>
                </a:cubicBezTo>
              </a:path>
              <a:path w="5483" h="1365">
                <a:moveTo>
                  <a:pt x="15652" y="14114"/>
                </a:moveTo>
                <a:cubicBezTo>
                  <a:pt x="15634" y="14330"/>
                  <a:pt x="15608" y="14545"/>
                  <a:pt x="15577" y="14759"/>
                </a:cubicBezTo>
                <a:cubicBezTo>
                  <a:pt x="15577" y="14512"/>
                  <a:pt x="15586" y="14231"/>
                  <a:pt x="15726" y="14015"/>
                </a:cubicBezTo>
                <a:cubicBezTo>
                  <a:pt x="15776" y="13974"/>
                  <a:pt x="15825" y="13932"/>
                  <a:pt x="15875" y="13891"/>
                </a:cubicBezTo>
                <a:cubicBezTo>
                  <a:pt x="16181" y="14071"/>
                  <a:pt x="16160" y="14336"/>
                  <a:pt x="16123" y="14709"/>
                </a:cubicBezTo>
                <a:cubicBezTo>
                  <a:pt x="16102" y="14833"/>
                  <a:pt x="16094" y="14908"/>
                  <a:pt x="16098" y="14784"/>
                </a:cubicBezTo>
              </a:path>
              <a:path w="5483" h="1365">
                <a:moveTo>
                  <a:pt x="15751" y="14362"/>
                </a:moveTo>
                <a:cubicBezTo>
                  <a:pt x="16003" y="14331"/>
                  <a:pt x="16245" y="14291"/>
                  <a:pt x="16495" y="14312"/>
                </a:cubicBezTo>
              </a:path>
              <a:path w="5483" h="1365">
                <a:moveTo>
                  <a:pt x="16867" y="14337"/>
                </a:moveTo>
                <a:cubicBezTo>
                  <a:pt x="16842" y="14215"/>
                  <a:pt x="16756" y="14139"/>
                  <a:pt x="16619" y="14213"/>
                </a:cubicBezTo>
                <a:cubicBezTo>
                  <a:pt x="16396" y="14334"/>
                  <a:pt x="16451" y="14518"/>
                  <a:pt x="16470" y="14709"/>
                </a:cubicBezTo>
                <a:cubicBezTo>
                  <a:pt x="16756" y="14747"/>
                  <a:pt x="16726" y="14710"/>
                  <a:pt x="16917" y="14486"/>
                </a:cubicBezTo>
              </a:path>
              <a:path w="5483" h="1365">
                <a:moveTo>
                  <a:pt x="16892" y="13866"/>
                </a:moveTo>
                <a:cubicBezTo>
                  <a:pt x="16892" y="14124"/>
                  <a:pt x="16913" y="14379"/>
                  <a:pt x="16942" y="14635"/>
                </a:cubicBezTo>
                <a:cubicBezTo>
                  <a:pt x="16959" y="14759"/>
                  <a:pt x="16967" y="14766"/>
                  <a:pt x="16966" y="14833"/>
                </a:cubicBezTo>
              </a:path>
              <a:path w="5483" h="1365">
                <a:moveTo>
                  <a:pt x="17711" y="14387"/>
                </a:moveTo>
                <a:cubicBezTo>
                  <a:pt x="17641" y="14266"/>
                  <a:pt x="17484" y="14141"/>
                  <a:pt x="17338" y="14263"/>
                </a:cubicBezTo>
                <a:cubicBezTo>
                  <a:pt x="17200" y="14378"/>
                  <a:pt x="17088" y="14829"/>
                  <a:pt x="17413" y="14759"/>
                </a:cubicBezTo>
                <a:cubicBezTo>
                  <a:pt x="17574" y="14652"/>
                  <a:pt x="17630" y="14606"/>
                  <a:pt x="17661" y="14461"/>
                </a:cubicBezTo>
              </a:path>
              <a:path w="5483" h="1365">
                <a:moveTo>
                  <a:pt x="17512" y="13841"/>
                </a:moveTo>
                <a:cubicBezTo>
                  <a:pt x="17521" y="14138"/>
                  <a:pt x="17532" y="14441"/>
                  <a:pt x="17587" y="14734"/>
                </a:cubicBezTo>
                <a:cubicBezTo>
                  <a:pt x="17606" y="14791"/>
                  <a:pt x="17614" y="14798"/>
                  <a:pt x="17611" y="14833"/>
                </a:cubicBezTo>
              </a:path>
              <a:path w="5483" h="1365">
                <a:moveTo>
                  <a:pt x="18331" y="13866"/>
                </a:moveTo>
                <a:cubicBezTo>
                  <a:pt x="18352" y="14104"/>
                  <a:pt x="18430" y="14346"/>
                  <a:pt x="18430" y="14585"/>
                </a:cubicBezTo>
                <a:cubicBezTo>
                  <a:pt x="18410" y="14626"/>
                  <a:pt x="18401" y="14653"/>
                  <a:pt x="18405" y="14610"/>
                </a:cubicBezTo>
              </a:path>
              <a:path w="5483" h="1365">
                <a:moveTo>
                  <a:pt x="18107" y="14213"/>
                </a:moveTo>
                <a:cubicBezTo>
                  <a:pt x="18338" y="14191"/>
                  <a:pt x="18635" y="14099"/>
                  <a:pt x="18802" y="14288"/>
                </a:cubicBezTo>
                <a:cubicBezTo>
                  <a:pt x="18892" y="14389"/>
                  <a:pt x="18909" y="14510"/>
                  <a:pt x="18926" y="14635"/>
                </a:cubicBezTo>
              </a:path>
              <a:path w="5483" h="1365">
                <a:moveTo>
                  <a:pt x="19348" y="14114"/>
                </a:moveTo>
                <a:cubicBezTo>
                  <a:pt x="19242" y="14239"/>
                  <a:pt x="18957" y="14594"/>
                  <a:pt x="19323" y="14635"/>
                </a:cubicBezTo>
                <a:cubicBezTo>
                  <a:pt x="19569" y="14662"/>
                  <a:pt x="19725" y="14320"/>
                  <a:pt x="19496" y="14188"/>
                </a:cubicBezTo>
                <a:cubicBezTo>
                  <a:pt x="19379" y="14168"/>
                  <a:pt x="19358" y="14174"/>
                  <a:pt x="19298" y="14139"/>
                </a:cubicBezTo>
              </a:path>
              <a:path w="5483" h="1365">
                <a:moveTo>
                  <a:pt x="19720" y="14511"/>
                </a:moveTo>
                <a:cubicBezTo>
                  <a:pt x="19739" y="14585"/>
                  <a:pt x="19747" y="14592"/>
                  <a:pt x="19745" y="14635"/>
                </a:cubicBezTo>
                <a:cubicBezTo>
                  <a:pt x="19735" y="14443"/>
                  <a:pt x="19658" y="14223"/>
                  <a:pt x="19893" y="14139"/>
                </a:cubicBezTo>
                <a:cubicBezTo>
                  <a:pt x="20180" y="14037"/>
                  <a:pt x="20143" y="14468"/>
                  <a:pt x="20166" y="14610"/>
                </a:cubicBezTo>
                <a:cubicBezTo>
                  <a:pt x="20185" y="14667"/>
                  <a:pt x="20194" y="14710"/>
                  <a:pt x="20191" y="14660"/>
                </a:cubicBezTo>
              </a:path>
              <a:path w="5483" h="1365">
                <a:moveTo>
                  <a:pt x="20141" y="13692"/>
                </a:moveTo>
                <a:cubicBezTo>
                  <a:pt x="20431" y="13907"/>
                  <a:pt x="20675" y="14162"/>
                  <a:pt x="20662" y="14560"/>
                </a:cubicBezTo>
                <a:cubicBezTo>
                  <a:pt x="20656" y="14754"/>
                  <a:pt x="20490" y="14920"/>
                  <a:pt x="20389" y="150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04920"/>
            <a:ext cx="6870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bjective: Determine the unknown in a linear equation</a:t>
            </a:r>
            <a:endParaRPr b="0" lang="en-US" sz="3600" spc="-1" strike="noStrike">
              <a:solidFill>
                <a:srgbClr val="000000"/>
              </a:solidFill>
              <a:latin typeface="Comic Sans MS"/>
            </a:endParaRPr>
          </a:p>
        </p:txBody>
      </p:sp>
      <p:sp>
        <p:nvSpPr>
          <p:cNvPr id="178" name="PlaceHolder 2"/>
          <p:cNvSpPr>
            <a:spLocks noGrp="1"/>
          </p:cNvSpPr>
          <p:nvPr>
            <p:ph/>
          </p:nvPr>
        </p:nvSpPr>
        <p:spPr>
          <a:xfrm>
            <a:off x="-360" y="2133720"/>
            <a:ext cx="8534520" cy="449568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Comic Sans MS"/>
              </a:rPr>
              <a:t>Solving Addition Equations</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006600"/>
                </a:solidFill>
                <a:latin typeface="Comic Sans MS"/>
              </a:rPr>
              <a:t>- To solve an addition equation, </a:t>
            </a:r>
            <a:r>
              <a:rPr b="0" i="1" lang="en-US" sz="3200" spc="-1" strike="noStrike">
                <a:solidFill>
                  <a:srgbClr val="006600"/>
                </a:solidFill>
                <a:latin typeface="Comic Sans MS"/>
              </a:rPr>
              <a:t>subtract</a:t>
            </a:r>
            <a:r>
              <a:rPr b="0" lang="en-US" sz="3200" spc="-1" strike="noStrike">
                <a:solidFill>
                  <a:srgbClr val="006600"/>
                </a:solidFill>
                <a:latin typeface="Comic Sans MS"/>
              </a:rPr>
              <a:t> the same number from each side so that the variable is by itself on one side. (Isolated)</a:t>
            </a:r>
            <a:endParaRPr b="0" lang="en-US" sz="3200" spc="-1" strike="noStrike">
              <a:solidFill>
                <a:srgbClr val="000000"/>
              </a:solidFill>
              <a:latin typeface="Comic Sans MS"/>
            </a:endParaRPr>
          </a:p>
        </p:txBody>
      </p:sp>
      <p:sp>
        <p:nvSpPr>
          <p:cNvPr id="179" name=""/>
          <p:cNvSpPr/>
          <p:nvPr/>
        </p:nvSpPr>
        <p:spPr>
          <a:xfrm>
            <a:off x="2751120" y="4786200"/>
            <a:ext cx="1231920" cy="63720"/>
          </a:xfrm>
          <a:custGeom>
            <a:avLst/>
            <a:gdLst/>
            <a:ahLst/>
            <a:rect l="l" t="t" r="r" b="b"/>
            <a:pathLst>
              <a:path w="3424" h="175">
                <a:moveTo>
                  <a:pt x="7640" y="13295"/>
                </a:moveTo>
                <a:cubicBezTo>
                  <a:pt x="7740" y="13311"/>
                  <a:pt x="7834" y="13320"/>
                  <a:pt x="7938" y="13320"/>
                </a:cubicBezTo>
                <a:cubicBezTo>
                  <a:pt x="8044" y="13320"/>
                  <a:pt x="8180" y="13325"/>
                  <a:pt x="8285" y="13345"/>
                </a:cubicBezTo>
                <a:cubicBezTo>
                  <a:pt x="8393" y="13365"/>
                  <a:pt x="8496" y="13391"/>
                  <a:pt x="8607" y="13395"/>
                </a:cubicBezTo>
                <a:cubicBezTo>
                  <a:pt x="8774" y="13401"/>
                  <a:pt x="8939" y="13407"/>
                  <a:pt x="9103" y="13419"/>
                </a:cubicBezTo>
                <a:cubicBezTo>
                  <a:pt x="9276" y="13431"/>
                  <a:pt x="9452" y="13440"/>
                  <a:pt x="9624" y="13444"/>
                </a:cubicBezTo>
                <a:cubicBezTo>
                  <a:pt x="9841" y="13449"/>
                  <a:pt x="10057" y="13438"/>
                  <a:pt x="10269" y="13419"/>
                </a:cubicBezTo>
                <a:cubicBezTo>
                  <a:pt x="10318" y="13414"/>
                  <a:pt x="10381" y="13399"/>
                  <a:pt x="10418" y="13395"/>
                </a:cubicBezTo>
                <a:cubicBezTo>
                  <a:pt x="10501" y="13387"/>
                  <a:pt x="10586" y="13388"/>
                  <a:pt x="10666" y="13370"/>
                </a:cubicBezTo>
                <a:cubicBezTo>
                  <a:pt x="10736" y="13354"/>
                  <a:pt x="10796" y="13359"/>
                  <a:pt x="10864" y="13345"/>
                </a:cubicBezTo>
                <a:cubicBezTo>
                  <a:pt x="10916" y="13334"/>
                  <a:pt x="10957" y="13324"/>
                  <a:pt x="11013" y="13320"/>
                </a:cubicBezTo>
                <a:cubicBezTo>
                  <a:pt x="11021" y="13320"/>
                  <a:pt x="11030" y="13320"/>
                  <a:pt x="11038" y="13320"/>
                </a:cubicBezTo>
                <a:cubicBezTo>
                  <a:pt x="10998" y="13320"/>
                  <a:pt x="10910" y="13320"/>
                  <a:pt x="10840" y="13320"/>
                </a:cubicBezTo>
                <a:cubicBezTo>
                  <a:pt x="10532" y="13320"/>
                  <a:pt x="10226" y="13320"/>
                  <a:pt x="9922" y="13345"/>
                </a:cubicBezTo>
                <a:cubicBezTo>
                  <a:pt x="9777" y="13357"/>
                  <a:pt x="9644" y="13346"/>
                  <a:pt x="9500" y="13370"/>
                </a:cubicBezTo>
                <a:cubicBezTo>
                  <a:pt x="9285" y="13405"/>
                  <a:pt x="9093" y="13353"/>
                  <a:pt x="8880" y="13370"/>
                </a:cubicBezTo>
                <a:cubicBezTo>
                  <a:pt x="8724" y="13383"/>
                  <a:pt x="8561" y="13401"/>
                  <a:pt x="8409" y="13444"/>
                </a:cubicBezTo>
                <a:cubicBezTo>
                  <a:pt x="8314" y="13471"/>
                  <a:pt x="8235" y="13469"/>
                  <a:pt x="8136" y="13469"/>
                </a:cubicBezTo>
                <a:cubicBezTo>
                  <a:pt x="8070" y="13469"/>
                  <a:pt x="8004" y="13469"/>
                  <a:pt x="7938" y="13469"/>
                </a:cubicBezTo>
                <a:cubicBezTo>
                  <a:pt x="8153" y="13443"/>
                  <a:pt x="8367" y="13436"/>
                  <a:pt x="8582" y="13419"/>
                </a:cubicBezTo>
                <a:cubicBezTo>
                  <a:pt x="8840" y="13399"/>
                  <a:pt x="9092" y="13395"/>
                  <a:pt x="9351" y="13395"/>
                </a:cubicBezTo>
                <a:cubicBezTo>
                  <a:pt x="9550" y="13395"/>
                  <a:pt x="9750" y="13392"/>
                  <a:pt x="9947" y="13370"/>
                </a:cubicBezTo>
                <a:cubicBezTo>
                  <a:pt x="10086" y="13354"/>
                  <a:pt x="10231" y="13364"/>
                  <a:pt x="10368" y="13345"/>
                </a:cubicBezTo>
                <a:cubicBezTo>
                  <a:pt x="10527" y="13323"/>
                  <a:pt x="10677" y="13345"/>
                  <a:pt x="10840" y="13345"/>
                </a:cubicBezTo>
                <a:cubicBezTo>
                  <a:pt x="10919" y="13345"/>
                  <a:pt x="10964" y="13293"/>
                  <a:pt x="11038" y="13320"/>
                </a:cubicBezTo>
                <a:cubicBezTo>
                  <a:pt x="11046" y="13328"/>
                  <a:pt x="11055" y="13337"/>
                  <a:pt x="11063" y="13345"/>
                </a:cubicBezTo>
              </a:path>
            </a:pathLst>
          </a:custGeom>
          <a:noFill/>
          <a:ln cap="rnd" w="1908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 calcmode="lin" valueType="num">
                                      <p:cBhvr additive="base">
                                        <p:cTn id="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8">
                                            <p:txEl>
                                              <p:pRg st="1" end="1"/>
                                            </p:txEl>
                                          </p:spTgt>
                                        </p:tgtEl>
                                        <p:attrNameLst>
                                          <p:attrName>style.visibility</p:attrName>
                                        </p:attrNameLst>
                                      </p:cBhvr>
                                      <p:to>
                                        <p:strVal val="visible"/>
                                      </p:to>
                                    </p:set>
                                    <p:anim calcmode="lin" valueType="num">
                                      <p:cBhvr additive="base">
                                        <p:cTn id="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520" y="151920"/>
            <a:ext cx="853452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Determine the unknown in a linear equation</a:t>
            </a:r>
            <a:endParaRPr b="0" lang="en-US" sz="20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Examples: Solving Addition Equation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 x + 2 = 12</a:t>
            </a:r>
            <a:r>
              <a:rPr b="0" lang="en-US" sz="40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 4 + x = 16</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20 = x + 9</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1401840" y="1803240"/>
            <a:ext cx="1440" cy="1800"/>
          </a:xfrm>
          <a:custGeom>
            <a:avLst/>
            <a:gdLst/>
            <a:ahLst/>
            <a:rect l="l" t="t" r="r" b="b"/>
            <a:pathLst>
              <a:path w="1" h="1">
                <a:moveTo>
                  <a:pt x="3894" y="5011"/>
                </a:moveTo>
                <a:lnTo>
                  <a:pt x="3894" y="5011"/>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1581120" y="1857240"/>
            <a:ext cx="133560" cy="17640"/>
          </a:xfrm>
          <a:custGeom>
            <a:avLst/>
            <a:gdLst/>
            <a:ahLst/>
            <a:rect l="l" t="t" r="r" b="b"/>
            <a:pathLst>
              <a:path w="373" h="51">
                <a:moveTo>
                  <a:pt x="4390" y="5209"/>
                </a:moveTo>
                <a:cubicBezTo>
                  <a:pt x="4460" y="5167"/>
                  <a:pt x="4551" y="5184"/>
                  <a:pt x="4638" y="5184"/>
                </a:cubicBezTo>
                <a:cubicBezTo>
                  <a:pt x="4683" y="5184"/>
                  <a:pt x="4715" y="5159"/>
                  <a:pt x="4762" y="5159"/>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 name=""/>
          <p:cNvSpPr/>
          <p:nvPr/>
        </p:nvSpPr>
        <p:spPr>
          <a:xfrm>
            <a:off x="1955880" y="1803240"/>
            <a:ext cx="179280" cy="223920"/>
          </a:xfrm>
          <a:custGeom>
            <a:avLst/>
            <a:gdLst/>
            <a:ahLst/>
            <a:rect l="l" t="t" r="r" b="b"/>
            <a:pathLst>
              <a:path w="497" h="621">
                <a:moveTo>
                  <a:pt x="5432" y="5110"/>
                </a:moveTo>
                <a:cubicBezTo>
                  <a:pt x="5480" y="5074"/>
                  <a:pt x="5544" y="5033"/>
                  <a:pt x="5606" y="5011"/>
                </a:cubicBezTo>
                <a:cubicBezTo>
                  <a:pt x="5661" y="4992"/>
                  <a:pt x="5693" y="5042"/>
                  <a:pt x="5705" y="5085"/>
                </a:cubicBezTo>
                <a:cubicBezTo>
                  <a:pt x="5739" y="5205"/>
                  <a:pt x="5717" y="5267"/>
                  <a:pt x="5631" y="5358"/>
                </a:cubicBezTo>
                <a:cubicBezTo>
                  <a:pt x="5553" y="5440"/>
                  <a:pt x="5540" y="5539"/>
                  <a:pt x="5482" y="5631"/>
                </a:cubicBezTo>
                <a:cubicBezTo>
                  <a:pt x="5482" y="5623"/>
                  <a:pt x="5482" y="5614"/>
                  <a:pt x="5482" y="5606"/>
                </a:cubicBezTo>
                <a:cubicBezTo>
                  <a:pt x="5482" y="5543"/>
                  <a:pt x="5492" y="5509"/>
                  <a:pt x="5556" y="5482"/>
                </a:cubicBezTo>
                <a:cubicBezTo>
                  <a:pt x="5595" y="5466"/>
                  <a:pt x="5695" y="5538"/>
                  <a:pt x="5730" y="5556"/>
                </a:cubicBezTo>
                <a:cubicBezTo>
                  <a:pt x="5825" y="5604"/>
                  <a:pt x="5847" y="5565"/>
                  <a:pt x="5904" y="5531"/>
                </a:cubicBezTo>
                <a:cubicBezTo>
                  <a:pt x="5912" y="5531"/>
                  <a:pt x="5920" y="5531"/>
                  <a:pt x="5928" y="553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303200" y="2152800"/>
            <a:ext cx="250920" cy="312480"/>
          </a:xfrm>
          <a:custGeom>
            <a:avLst/>
            <a:gdLst/>
            <a:ahLst/>
            <a:rect l="l" t="t" r="r" b="b"/>
            <a:pathLst>
              <a:path w="696" h="869">
                <a:moveTo>
                  <a:pt x="3770" y="6077"/>
                </a:moveTo>
                <a:cubicBezTo>
                  <a:pt x="3840" y="6216"/>
                  <a:pt x="4012" y="6347"/>
                  <a:pt x="4118" y="6474"/>
                </a:cubicBezTo>
                <a:cubicBezTo>
                  <a:pt x="4151" y="6514"/>
                  <a:pt x="4292" y="6655"/>
                  <a:pt x="4316" y="6697"/>
                </a:cubicBezTo>
                <a:cubicBezTo>
                  <a:pt x="4316" y="6705"/>
                  <a:pt x="4316" y="6714"/>
                  <a:pt x="4316" y="6722"/>
                </a:cubicBezTo>
              </a:path>
              <a:path w="696" h="869">
                <a:moveTo>
                  <a:pt x="4242" y="5978"/>
                </a:moveTo>
                <a:cubicBezTo>
                  <a:pt x="4123" y="6049"/>
                  <a:pt x="3993" y="6309"/>
                  <a:pt x="3919" y="6424"/>
                </a:cubicBezTo>
                <a:cubicBezTo>
                  <a:pt x="3843" y="6542"/>
                  <a:pt x="3749" y="6687"/>
                  <a:pt x="3671" y="6796"/>
                </a:cubicBezTo>
                <a:cubicBezTo>
                  <a:pt x="3644" y="6834"/>
                  <a:pt x="3606" y="6826"/>
                  <a:pt x="3646" y="68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73160" y="2116080"/>
            <a:ext cx="90720" cy="142920"/>
          </a:xfrm>
          <a:custGeom>
            <a:avLst/>
            <a:gdLst/>
            <a:ahLst/>
            <a:rect l="l" t="t" r="r" b="b"/>
            <a:pathLst>
              <a:path w="249" h="398">
                <a:moveTo>
                  <a:pt x="5606" y="5879"/>
                </a:moveTo>
                <a:cubicBezTo>
                  <a:pt x="5543" y="5926"/>
                  <a:pt x="5495" y="6081"/>
                  <a:pt x="5482" y="6176"/>
                </a:cubicBezTo>
                <a:cubicBezTo>
                  <a:pt x="5482" y="6209"/>
                  <a:pt x="5482" y="6243"/>
                  <a:pt x="5482" y="6276"/>
                </a:cubicBezTo>
                <a:cubicBezTo>
                  <a:pt x="5586" y="6259"/>
                  <a:pt x="5692" y="6222"/>
                  <a:pt x="5730" y="6102"/>
                </a:cubicBezTo>
                <a:cubicBezTo>
                  <a:pt x="5748" y="6045"/>
                  <a:pt x="5676" y="5938"/>
                  <a:pt x="5631" y="5928"/>
                </a:cubicBezTo>
                <a:cubicBezTo>
                  <a:pt x="5623" y="5928"/>
                  <a:pt x="5614" y="5928"/>
                  <a:pt x="5606" y="59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320920" y="2224080"/>
            <a:ext cx="125280" cy="71280"/>
          </a:xfrm>
          <a:custGeom>
            <a:avLst/>
            <a:gdLst/>
            <a:ahLst/>
            <a:rect l="l" t="t" r="r" b="b"/>
            <a:pathLst>
              <a:path w="348" h="200">
                <a:moveTo>
                  <a:pt x="6449" y="6201"/>
                </a:moveTo>
                <a:cubicBezTo>
                  <a:pt x="6464" y="6247"/>
                  <a:pt x="6666" y="6212"/>
                  <a:pt x="6722" y="6201"/>
                </a:cubicBezTo>
                <a:cubicBezTo>
                  <a:pt x="6779" y="6190"/>
                  <a:pt x="6779" y="6149"/>
                  <a:pt x="6796" y="6201"/>
                </a:cubicBezTo>
              </a:path>
              <a:path w="348" h="200">
                <a:moveTo>
                  <a:pt x="6573" y="6375"/>
                </a:moveTo>
                <a:cubicBezTo>
                  <a:pt x="6633" y="6375"/>
                  <a:pt x="6688" y="6355"/>
                  <a:pt x="6747" y="6350"/>
                </a:cubicBezTo>
                <a:cubicBezTo>
                  <a:pt x="6755" y="6350"/>
                  <a:pt x="6764" y="6350"/>
                  <a:pt x="6772" y="6350"/>
                </a:cubicBezTo>
              </a:path>
            </a:pathLst>
          </a:custGeom>
          <a:noFill/>
          <a:ln cap="rnd" w="1908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0" name=""/>
          <p:cNvSpPr/>
          <p:nvPr/>
        </p:nvSpPr>
        <p:spPr>
          <a:xfrm>
            <a:off x="2554200" y="1776240"/>
            <a:ext cx="527040" cy="608040"/>
          </a:xfrm>
          <a:custGeom>
            <a:avLst/>
            <a:gdLst/>
            <a:ahLst/>
            <a:rect l="l" t="t" r="r" b="b"/>
            <a:pathLst>
              <a:path w="1465" h="1688">
                <a:moveTo>
                  <a:pt x="7094" y="5110"/>
                </a:moveTo>
                <a:cubicBezTo>
                  <a:pt x="7163" y="5098"/>
                  <a:pt x="7221" y="5085"/>
                  <a:pt x="7293" y="5085"/>
                </a:cubicBezTo>
                <a:cubicBezTo>
                  <a:pt x="7317" y="5085"/>
                  <a:pt x="7326" y="5085"/>
                  <a:pt x="7342" y="5085"/>
                </a:cubicBezTo>
              </a:path>
              <a:path w="1465" h="1688">
                <a:moveTo>
                  <a:pt x="8086" y="5085"/>
                </a:moveTo>
                <a:cubicBezTo>
                  <a:pt x="8122" y="5014"/>
                  <a:pt x="8149" y="4955"/>
                  <a:pt x="8235" y="4936"/>
                </a:cubicBezTo>
                <a:cubicBezTo>
                  <a:pt x="8361" y="4908"/>
                  <a:pt x="8286" y="5085"/>
                  <a:pt x="8260" y="5135"/>
                </a:cubicBezTo>
                <a:cubicBezTo>
                  <a:pt x="8208" y="5235"/>
                  <a:pt x="8190" y="5191"/>
                  <a:pt x="8136" y="5259"/>
                </a:cubicBezTo>
                <a:cubicBezTo>
                  <a:pt x="8111" y="5308"/>
                  <a:pt x="8102" y="5325"/>
                  <a:pt x="8086" y="5358"/>
                </a:cubicBezTo>
                <a:cubicBezTo>
                  <a:pt x="8138" y="5307"/>
                  <a:pt x="8183" y="5239"/>
                  <a:pt x="8260" y="5234"/>
                </a:cubicBezTo>
                <a:cubicBezTo>
                  <a:pt x="8344" y="5228"/>
                  <a:pt x="8361" y="5291"/>
                  <a:pt x="8434" y="5308"/>
                </a:cubicBezTo>
                <a:cubicBezTo>
                  <a:pt x="8490" y="5321"/>
                  <a:pt x="8513" y="5294"/>
                  <a:pt x="8558" y="5283"/>
                </a:cubicBezTo>
              </a:path>
              <a:path w="1465" h="1688">
                <a:moveTo>
                  <a:pt x="7491" y="5804"/>
                </a:moveTo>
                <a:cubicBezTo>
                  <a:pt x="7491" y="6020"/>
                  <a:pt x="7472" y="6235"/>
                  <a:pt x="7441" y="6449"/>
                </a:cubicBezTo>
                <a:cubicBezTo>
                  <a:pt x="7423" y="6540"/>
                  <a:pt x="7415" y="6547"/>
                  <a:pt x="7417" y="6598"/>
                </a:cubicBezTo>
              </a:path>
              <a:path w="1465" h="1688">
                <a:moveTo>
                  <a:pt x="7888" y="5928"/>
                </a:moveTo>
                <a:cubicBezTo>
                  <a:pt x="7843" y="6040"/>
                  <a:pt x="7793" y="6116"/>
                  <a:pt x="7764" y="6251"/>
                </a:cubicBezTo>
                <a:cubicBezTo>
                  <a:pt x="7743" y="6352"/>
                  <a:pt x="7676" y="6618"/>
                  <a:pt x="7863" y="6623"/>
                </a:cubicBezTo>
                <a:cubicBezTo>
                  <a:pt x="8055" y="6628"/>
                  <a:pt x="8157" y="6463"/>
                  <a:pt x="8186" y="6300"/>
                </a:cubicBezTo>
                <a:cubicBezTo>
                  <a:pt x="8210" y="6167"/>
                  <a:pt x="8137" y="6050"/>
                  <a:pt x="8037" y="5978"/>
                </a:cubicBezTo>
                <a:cubicBezTo>
                  <a:pt x="7983" y="5939"/>
                  <a:pt x="7938" y="5937"/>
                  <a:pt x="7913"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179960" y="1874880"/>
            <a:ext cx="455400" cy="312840"/>
          </a:xfrm>
          <a:custGeom>
            <a:avLst/>
            <a:gdLst/>
            <a:ahLst/>
            <a:rect l="l" t="t" r="r" b="b"/>
            <a:pathLst>
              <a:path w="1266" h="869">
                <a:moveTo>
                  <a:pt x="11683" y="5259"/>
                </a:moveTo>
                <a:cubicBezTo>
                  <a:pt x="11802" y="5317"/>
                  <a:pt x="11928" y="5637"/>
                  <a:pt x="11981" y="5755"/>
                </a:cubicBezTo>
                <a:cubicBezTo>
                  <a:pt x="12027" y="5857"/>
                  <a:pt x="12055" y="5917"/>
                  <a:pt x="12055" y="6028"/>
                </a:cubicBezTo>
              </a:path>
              <a:path w="1266" h="869">
                <a:moveTo>
                  <a:pt x="12154" y="5209"/>
                </a:moveTo>
                <a:cubicBezTo>
                  <a:pt x="11967" y="5485"/>
                  <a:pt x="11762" y="5754"/>
                  <a:pt x="11609" y="6052"/>
                </a:cubicBezTo>
                <a:cubicBezTo>
                  <a:pt x="11609" y="6087"/>
                  <a:pt x="11618" y="6091"/>
                  <a:pt x="11658" y="6052"/>
                </a:cubicBezTo>
              </a:path>
              <a:path w="1266" h="869">
                <a:moveTo>
                  <a:pt x="12328" y="5482"/>
                </a:moveTo>
                <a:cubicBezTo>
                  <a:pt x="12493" y="5435"/>
                  <a:pt x="12653" y="5398"/>
                  <a:pt x="12824" y="5383"/>
                </a:cubicBezTo>
              </a:path>
              <a:path w="1266" h="869">
                <a:moveTo>
                  <a:pt x="12303" y="5705"/>
                </a:moveTo>
                <a:cubicBezTo>
                  <a:pt x="12494" y="5657"/>
                  <a:pt x="12683" y="5602"/>
                  <a:pt x="12874" y="55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02120" y="1803240"/>
            <a:ext cx="206280" cy="312840"/>
          </a:xfrm>
          <a:custGeom>
            <a:avLst/>
            <a:gdLst/>
            <a:ahLst/>
            <a:rect l="l" t="t" r="r" b="b"/>
            <a:pathLst>
              <a:path w="571" h="869">
                <a:moveTo>
                  <a:pt x="13965" y="5011"/>
                </a:moveTo>
                <a:cubicBezTo>
                  <a:pt x="13795" y="5200"/>
                  <a:pt x="13511" y="5487"/>
                  <a:pt x="13618" y="5779"/>
                </a:cubicBezTo>
                <a:cubicBezTo>
                  <a:pt x="13659" y="5812"/>
                  <a:pt x="13701" y="5846"/>
                  <a:pt x="13742" y="5879"/>
                </a:cubicBezTo>
                <a:cubicBezTo>
                  <a:pt x="14055" y="5789"/>
                  <a:pt x="14249" y="5661"/>
                  <a:pt x="14163" y="5283"/>
                </a:cubicBezTo>
                <a:cubicBezTo>
                  <a:pt x="14123" y="5108"/>
                  <a:pt x="14000" y="5124"/>
                  <a:pt x="13866" y="51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03640" y="1866960"/>
            <a:ext cx="2519280" cy="3321000"/>
          </a:xfrm>
          <a:custGeom>
            <a:avLst/>
            <a:gdLst/>
            <a:ahLst/>
            <a:rect l="l" t="t" r="r" b="b"/>
            <a:pathLst>
              <a:path w="6996" h="9229">
                <a:moveTo>
                  <a:pt x="13395" y="5184"/>
                </a:moveTo>
                <a:cubicBezTo>
                  <a:pt x="13366" y="5399"/>
                  <a:pt x="13330" y="5596"/>
                  <a:pt x="13271" y="5804"/>
                </a:cubicBezTo>
              </a:path>
              <a:path w="6996" h="9229">
                <a:moveTo>
                  <a:pt x="12626" y="8905"/>
                </a:moveTo>
                <a:cubicBezTo>
                  <a:pt x="12775" y="8905"/>
                  <a:pt x="12825" y="8905"/>
                  <a:pt x="12923" y="8880"/>
                </a:cubicBezTo>
              </a:path>
              <a:path w="6996" h="9229">
                <a:moveTo>
                  <a:pt x="6871" y="13568"/>
                </a:moveTo>
                <a:cubicBezTo>
                  <a:pt x="6735" y="13826"/>
                  <a:pt x="6598" y="14086"/>
                  <a:pt x="6449" y="14337"/>
                </a:cubicBezTo>
                <a:cubicBezTo>
                  <a:pt x="6433" y="14362"/>
                  <a:pt x="6416" y="14387"/>
                  <a:pt x="6400" y="14412"/>
                </a:cubicBezTo>
              </a:path>
              <a:path w="6996" h="9229">
                <a:moveTo>
                  <a:pt x="12204" y="12502"/>
                </a:moveTo>
                <a:cubicBezTo>
                  <a:pt x="12359" y="12483"/>
                  <a:pt x="12517" y="12431"/>
                  <a:pt x="12675" y="12452"/>
                </a:cubicBezTo>
                <a:cubicBezTo>
                  <a:pt x="12683" y="12460"/>
                  <a:pt x="12692" y="12469"/>
                  <a:pt x="12700" y="12477"/>
                </a:cubicBezTo>
              </a:path>
              <a:path w="6996" h="9229">
                <a:moveTo>
                  <a:pt x="12254" y="12750"/>
                </a:moveTo>
                <a:cubicBezTo>
                  <a:pt x="12414" y="12724"/>
                  <a:pt x="12564" y="12706"/>
                  <a:pt x="12725" y="127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054080" y="3143160"/>
            <a:ext cx="312840" cy="374760"/>
          </a:xfrm>
          <a:custGeom>
            <a:avLst/>
            <a:gdLst/>
            <a:ahLst/>
            <a:rect l="l" t="t" r="r" b="b"/>
            <a:pathLst>
              <a:path w="869" h="1043">
                <a:moveTo>
                  <a:pt x="2927" y="9079"/>
                </a:moveTo>
                <a:cubicBezTo>
                  <a:pt x="3067" y="9041"/>
                  <a:pt x="3209" y="9019"/>
                  <a:pt x="3349" y="8979"/>
                </a:cubicBezTo>
              </a:path>
              <a:path w="869" h="1043">
                <a:moveTo>
                  <a:pt x="3597" y="8830"/>
                </a:moveTo>
                <a:cubicBezTo>
                  <a:pt x="3579" y="8903"/>
                  <a:pt x="3548" y="8980"/>
                  <a:pt x="3522" y="9054"/>
                </a:cubicBezTo>
                <a:cubicBezTo>
                  <a:pt x="3618" y="9095"/>
                  <a:pt x="3700" y="9077"/>
                  <a:pt x="3795" y="9029"/>
                </a:cubicBezTo>
              </a:path>
              <a:path w="869" h="1043">
                <a:moveTo>
                  <a:pt x="3746" y="8731"/>
                </a:moveTo>
                <a:cubicBezTo>
                  <a:pt x="3746" y="8936"/>
                  <a:pt x="3762" y="9164"/>
                  <a:pt x="3721" y="9351"/>
                </a:cubicBezTo>
                <a:cubicBezTo>
                  <a:pt x="3721" y="9379"/>
                  <a:pt x="3723" y="9390"/>
                  <a:pt x="3746" y="9401"/>
                </a:cubicBezTo>
              </a:path>
              <a:path w="869" h="1043">
                <a:moveTo>
                  <a:pt x="3497" y="9525"/>
                </a:moveTo>
                <a:cubicBezTo>
                  <a:pt x="3508" y="9525"/>
                  <a:pt x="3489" y="9581"/>
                  <a:pt x="3473" y="9649"/>
                </a:cubicBezTo>
                <a:cubicBezTo>
                  <a:pt x="3465" y="9674"/>
                  <a:pt x="3456" y="9698"/>
                  <a:pt x="3448" y="9723"/>
                </a:cubicBezTo>
                <a:cubicBezTo>
                  <a:pt x="3546" y="9789"/>
                  <a:pt x="3584" y="9773"/>
                  <a:pt x="3671" y="9699"/>
                </a:cubicBezTo>
                <a:cubicBezTo>
                  <a:pt x="3701" y="9669"/>
                  <a:pt x="3712" y="9655"/>
                  <a:pt x="3721" y="9624"/>
                </a:cubicBezTo>
                <a:cubicBezTo>
                  <a:pt x="3664" y="9587"/>
                  <a:pt x="3627" y="9555"/>
                  <a:pt x="3572" y="9550"/>
                </a:cubicBezTo>
                <a:cubicBezTo>
                  <a:pt x="3564" y="9550"/>
                  <a:pt x="3555" y="9550"/>
                  <a:pt x="3547" y="95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652840" y="3106800"/>
            <a:ext cx="428400" cy="243000"/>
          </a:xfrm>
          <a:custGeom>
            <a:avLst/>
            <a:gdLst/>
            <a:ahLst/>
            <a:rect l="l" t="t" r="r" b="b"/>
            <a:pathLst>
              <a:path w="1192" h="671">
                <a:moveTo>
                  <a:pt x="7367" y="8954"/>
                </a:moveTo>
                <a:cubicBezTo>
                  <a:pt x="7508" y="8954"/>
                  <a:pt x="7648" y="8954"/>
                  <a:pt x="7789" y="8954"/>
                </a:cubicBezTo>
              </a:path>
              <a:path w="1192" h="671">
                <a:moveTo>
                  <a:pt x="8310" y="8830"/>
                </a:moveTo>
                <a:cubicBezTo>
                  <a:pt x="8271" y="8907"/>
                  <a:pt x="8235" y="8984"/>
                  <a:pt x="8186" y="9054"/>
                </a:cubicBezTo>
                <a:cubicBezTo>
                  <a:pt x="8296" y="9029"/>
                  <a:pt x="8431" y="8983"/>
                  <a:pt x="8533" y="8954"/>
                </a:cubicBezTo>
                <a:cubicBezTo>
                  <a:pt x="8541" y="8954"/>
                  <a:pt x="8550" y="8954"/>
                  <a:pt x="8558" y="8954"/>
                </a:cubicBezTo>
              </a:path>
              <a:path w="1192" h="671">
                <a:moveTo>
                  <a:pt x="8508" y="8632"/>
                </a:moveTo>
                <a:cubicBezTo>
                  <a:pt x="8487" y="8820"/>
                  <a:pt x="8433" y="8996"/>
                  <a:pt x="8384" y="9178"/>
                </a:cubicBezTo>
                <a:cubicBezTo>
                  <a:pt x="8364" y="9254"/>
                  <a:pt x="8332" y="9288"/>
                  <a:pt x="8359" y="93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697120" y="4456080"/>
            <a:ext cx="490680" cy="187200"/>
          </a:xfrm>
          <a:custGeom>
            <a:avLst/>
            <a:gdLst/>
            <a:ahLst/>
            <a:rect l="l" t="t" r="r" b="b"/>
            <a:pathLst>
              <a:path w="1365" h="521">
                <a:moveTo>
                  <a:pt x="7491" y="12700"/>
                </a:moveTo>
                <a:cubicBezTo>
                  <a:pt x="7569" y="12687"/>
                  <a:pt x="7632" y="12675"/>
                  <a:pt x="7714" y="12675"/>
                </a:cubicBezTo>
                <a:cubicBezTo>
                  <a:pt x="7722" y="12675"/>
                  <a:pt x="7731" y="12675"/>
                  <a:pt x="7739" y="12675"/>
                </a:cubicBezTo>
              </a:path>
              <a:path w="1365" h="521">
                <a:moveTo>
                  <a:pt x="8855" y="12551"/>
                </a:moveTo>
                <a:cubicBezTo>
                  <a:pt x="8837" y="12478"/>
                  <a:pt x="8710" y="12387"/>
                  <a:pt x="8632" y="12378"/>
                </a:cubicBezTo>
                <a:cubicBezTo>
                  <a:pt x="8419" y="12354"/>
                  <a:pt x="8414" y="12549"/>
                  <a:pt x="8458" y="12675"/>
                </a:cubicBezTo>
                <a:cubicBezTo>
                  <a:pt x="8602" y="12654"/>
                  <a:pt x="8703" y="12659"/>
                  <a:pt x="8756" y="12502"/>
                </a:cubicBezTo>
                <a:cubicBezTo>
                  <a:pt x="8776" y="12637"/>
                  <a:pt x="8793" y="12739"/>
                  <a:pt x="8781" y="12874"/>
                </a:cubicBezTo>
                <a:cubicBezTo>
                  <a:pt x="8781" y="12898"/>
                  <a:pt x="8781" y="12906"/>
                  <a:pt x="8806" y="1289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09880" y="3483000"/>
            <a:ext cx="473040" cy="241200"/>
          </a:xfrm>
          <a:custGeom>
            <a:avLst/>
            <a:gdLst/>
            <a:ahLst/>
            <a:rect l="l" t="t" r="r" b="b"/>
            <a:pathLst>
              <a:path w="1316" h="671">
                <a:moveTo>
                  <a:pt x="5606" y="9674"/>
                </a:moveTo>
                <a:cubicBezTo>
                  <a:pt x="5662" y="9861"/>
                  <a:pt x="5741" y="10067"/>
                  <a:pt x="5829" y="10244"/>
                </a:cubicBezTo>
                <a:cubicBezTo>
                  <a:pt x="5846" y="10269"/>
                  <a:pt x="5862" y="10294"/>
                  <a:pt x="5879" y="10319"/>
                </a:cubicBezTo>
              </a:path>
              <a:path w="1316" h="671">
                <a:moveTo>
                  <a:pt x="6003" y="9674"/>
                </a:moveTo>
                <a:cubicBezTo>
                  <a:pt x="5872" y="9860"/>
                  <a:pt x="5697" y="10059"/>
                  <a:pt x="5606" y="10269"/>
                </a:cubicBezTo>
                <a:cubicBezTo>
                  <a:pt x="5580" y="10330"/>
                  <a:pt x="5637" y="10325"/>
                  <a:pt x="5581" y="10344"/>
                </a:cubicBezTo>
              </a:path>
              <a:path w="1316" h="671">
                <a:moveTo>
                  <a:pt x="6400" y="9922"/>
                </a:moveTo>
                <a:cubicBezTo>
                  <a:pt x="6451" y="9870"/>
                  <a:pt x="6655" y="9897"/>
                  <a:pt x="6747" y="9897"/>
                </a:cubicBezTo>
                <a:cubicBezTo>
                  <a:pt x="6826" y="9897"/>
                  <a:pt x="6855" y="9873"/>
                  <a:pt x="6871" y="9922"/>
                </a:cubicBezTo>
              </a:path>
              <a:path w="1316" h="671">
                <a:moveTo>
                  <a:pt x="6375" y="10120"/>
                </a:moveTo>
                <a:cubicBezTo>
                  <a:pt x="6534" y="10120"/>
                  <a:pt x="6688" y="10102"/>
                  <a:pt x="6846" y="10096"/>
                </a:cubicBezTo>
                <a:cubicBezTo>
                  <a:pt x="6871" y="10096"/>
                  <a:pt x="6879" y="10096"/>
                  <a:pt x="6896" y="100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705040" y="3490920"/>
            <a:ext cx="349200" cy="216000"/>
          </a:xfrm>
          <a:custGeom>
            <a:avLst/>
            <a:gdLst/>
            <a:ahLst/>
            <a:rect l="l" t="t" r="r" b="b"/>
            <a:pathLst>
              <a:path w="968" h="596">
                <a:moveTo>
                  <a:pt x="7565" y="9748"/>
                </a:moveTo>
                <a:cubicBezTo>
                  <a:pt x="7565" y="9908"/>
                  <a:pt x="7530" y="10061"/>
                  <a:pt x="7516" y="10220"/>
                </a:cubicBezTo>
                <a:cubicBezTo>
                  <a:pt x="7505" y="10342"/>
                  <a:pt x="7527" y="10266"/>
                  <a:pt x="7615" y="10170"/>
                </a:cubicBezTo>
              </a:path>
              <a:path w="968" h="596">
                <a:moveTo>
                  <a:pt x="7938" y="9748"/>
                </a:moveTo>
                <a:cubicBezTo>
                  <a:pt x="8073" y="9694"/>
                  <a:pt x="8132" y="9689"/>
                  <a:pt x="8260" y="9748"/>
                </a:cubicBezTo>
                <a:cubicBezTo>
                  <a:pt x="8226" y="9986"/>
                  <a:pt x="8120" y="10013"/>
                  <a:pt x="7938" y="10145"/>
                </a:cubicBezTo>
                <a:cubicBezTo>
                  <a:pt x="7921" y="10162"/>
                  <a:pt x="7905" y="10178"/>
                  <a:pt x="7888" y="10195"/>
                </a:cubicBezTo>
                <a:cubicBezTo>
                  <a:pt x="7950" y="10216"/>
                  <a:pt x="8139" y="10204"/>
                  <a:pt x="8235" y="10195"/>
                </a:cubicBezTo>
                <a:cubicBezTo>
                  <a:pt x="8331" y="10186"/>
                  <a:pt x="8395" y="10170"/>
                  <a:pt x="8483" y="101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295880" y="3009960"/>
            <a:ext cx="919080" cy="276120"/>
          </a:xfrm>
          <a:custGeom>
            <a:avLst/>
            <a:gdLst/>
            <a:ahLst/>
            <a:rect l="l" t="t" r="r" b="b"/>
            <a:pathLst>
              <a:path w="2556" h="770">
                <a:moveTo>
                  <a:pt x="12055" y="8533"/>
                </a:moveTo>
                <a:cubicBezTo>
                  <a:pt x="12069" y="8568"/>
                  <a:pt x="12315" y="9262"/>
                  <a:pt x="12278" y="8979"/>
                </a:cubicBezTo>
              </a:path>
              <a:path w="2556" h="770">
                <a:moveTo>
                  <a:pt x="12427" y="8359"/>
                </a:moveTo>
                <a:cubicBezTo>
                  <a:pt x="12258" y="8596"/>
                  <a:pt x="12096" y="8838"/>
                  <a:pt x="11931" y="9079"/>
                </a:cubicBezTo>
              </a:path>
              <a:path w="2556" h="770">
                <a:moveTo>
                  <a:pt x="12700" y="8657"/>
                </a:moveTo>
                <a:cubicBezTo>
                  <a:pt x="12835" y="8657"/>
                  <a:pt x="12963" y="8641"/>
                  <a:pt x="13097" y="8632"/>
                </a:cubicBezTo>
              </a:path>
              <a:path w="2556" h="770">
                <a:moveTo>
                  <a:pt x="13494" y="8409"/>
                </a:moveTo>
                <a:cubicBezTo>
                  <a:pt x="13492" y="8468"/>
                  <a:pt x="13437" y="9077"/>
                  <a:pt x="13444" y="9079"/>
                </a:cubicBezTo>
                <a:cubicBezTo>
                  <a:pt x="13461" y="9062"/>
                  <a:pt x="13477" y="9046"/>
                  <a:pt x="13494" y="9029"/>
                </a:cubicBezTo>
              </a:path>
              <a:path w="2556" h="770">
                <a:moveTo>
                  <a:pt x="13816" y="8384"/>
                </a:moveTo>
                <a:cubicBezTo>
                  <a:pt x="13919" y="8384"/>
                  <a:pt x="14140" y="8368"/>
                  <a:pt x="14213" y="8458"/>
                </a:cubicBezTo>
                <a:cubicBezTo>
                  <a:pt x="14383" y="8666"/>
                  <a:pt x="13969" y="8915"/>
                  <a:pt x="13866" y="9029"/>
                </a:cubicBezTo>
                <a:cubicBezTo>
                  <a:pt x="13841" y="9062"/>
                  <a:pt x="13816" y="9095"/>
                  <a:pt x="13791" y="9128"/>
                </a:cubicBezTo>
                <a:cubicBezTo>
                  <a:pt x="13873" y="9107"/>
                  <a:pt x="13919" y="9041"/>
                  <a:pt x="14015" y="9029"/>
                </a:cubicBezTo>
                <a:cubicBezTo>
                  <a:pt x="14116" y="9016"/>
                  <a:pt x="14188" y="9105"/>
                  <a:pt x="14288" y="9103"/>
                </a:cubicBezTo>
                <a:cubicBezTo>
                  <a:pt x="14405" y="9084"/>
                  <a:pt x="14426" y="9090"/>
                  <a:pt x="14486"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009800" y="4500720"/>
            <a:ext cx="2365200" cy="465120"/>
          </a:xfrm>
          <a:custGeom>
            <a:avLst/>
            <a:gdLst/>
            <a:ahLst/>
            <a:rect l="l" t="t" r="r" b="b"/>
            <a:pathLst>
              <a:path w="6574" h="1290">
                <a:moveTo>
                  <a:pt x="2828" y="12774"/>
                </a:moveTo>
                <a:cubicBezTo>
                  <a:pt x="2755" y="12774"/>
                  <a:pt x="3009" y="12774"/>
                  <a:pt x="3026" y="12774"/>
                </a:cubicBezTo>
                <a:cubicBezTo>
                  <a:pt x="3051" y="12774"/>
                  <a:pt x="3059" y="12774"/>
                  <a:pt x="3076" y="12774"/>
                </a:cubicBezTo>
              </a:path>
              <a:path w="6574" h="1290">
                <a:moveTo>
                  <a:pt x="4638" y="12626"/>
                </a:moveTo>
                <a:cubicBezTo>
                  <a:pt x="4625" y="12571"/>
                  <a:pt x="4531" y="12487"/>
                  <a:pt x="4465" y="12502"/>
                </a:cubicBezTo>
                <a:cubicBezTo>
                  <a:pt x="4381" y="12521"/>
                  <a:pt x="4360" y="12689"/>
                  <a:pt x="4341" y="12750"/>
                </a:cubicBezTo>
                <a:cubicBezTo>
                  <a:pt x="4481" y="12728"/>
                  <a:pt x="4490" y="12707"/>
                  <a:pt x="4589" y="12601"/>
                </a:cubicBezTo>
                <a:cubicBezTo>
                  <a:pt x="4589" y="12707"/>
                  <a:pt x="4617" y="12796"/>
                  <a:pt x="4638" y="12898"/>
                </a:cubicBezTo>
                <a:cubicBezTo>
                  <a:pt x="4638" y="12906"/>
                  <a:pt x="4638" y="12915"/>
                  <a:pt x="4638" y="12923"/>
                </a:cubicBezTo>
              </a:path>
              <a:path w="6574" h="1290">
                <a:moveTo>
                  <a:pt x="2952" y="13246"/>
                </a:moveTo>
                <a:cubicBezTo>
                  <a:pt x="2992" y="13254"/>
                  <a:pt x="3084" y="13277"/>
                  <a:pt x="3175" y="13271"/>
                </a:cubicBezTo>
                <a:cubicBezTo>
                  <a:pt x="3455" y="13252"/>
                  <a:pt x="3715" y="13260"/>
                  <a:pt x="3994" y="13271"/>
                </a:cubicBezTo>
                <a:cubicBezTo>
                  <a:pt x="4275" y="13282"/>
                  <a:pt x="4557" y="13270"/>
                  <a:pt x="4837" y="13295"/>
                </a:cubicBezTo>
                <a:cubicBezTo>
                  <a:pt x="5076" y="13316"/>
                  <a:pt x="5292" y="13299"/>
                  <a:pt x="5531" y="13295"/>
                </a:cubicBezTo>
                <a:cubicBezTo>
                  <a:pt x="5752" y="13291"/>
                  <a:pt x="5957" y="13314"/>
                  <a:pt x="6176" y="13345"/>
                </a:cubicBezTo>
                <a:cubicBezTo>
                  <a:pt x="6408" y="13378"/>
                  <a:pt x="6637" y="13370"/>
                  <a:pt x="6871" y="13370"/>
                </a:cubicBezTo>
                <a:cubicBezTo>
                  <a:pt x="7121" y="13370"/>
                  <a:pt x="7366" y="13384"/>
                  <a:pt x="7615" y="13395"/>
                </a:cubicBezTo>
                <a:cubicBezTo>
                  <a:pt x="8053" y="13415"/>
                  <a:pt x="8495" y="13392"/>
                  <a:pt x="8930" y="13370"/>
                </a:cubicBezTo>
                <a:cubicBezTo>
                  <a:pt x="9080" y="13362"/>
                  <a:pt x="9226" y="13352"/>
                  <a:pt x="9376" y="13345"/>
                </a:cubicBezTo>
              </a:path>
              <a:path w="6574" h="1290">
                <a:moveTo>
                  <a:pt x="8781" y="13593"/>
                </a:moveTo>
                <a:cubicBezTo>
                  <a:pt x="8736" y="13669"/>
                  <a:pt x="8716" y="13704"/>
                  <a:pt x="8706" y="13791"/>
                </a:cubicBezTo>
                <a:cubicBezTo>
                  <a:pt x="8865" y="13769"/>
                  <a:pt x="8866" y="13733"/>
                  <a:pt x="8855" y="13593"/>
                </a:cubicBezTo>
                <a:cubicBezTo>
                  <a:pt x="8757" y="13568"/>
                  <a:pt x="8725" y="13560"/>
                  <a:pt x="8657" y="135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473120" y="4848120"/>
            <a:ext cx="46080" cy="304920"/>
          </a:xfrm>
          <a:custGeom>
            <a:avLst/>
            <a:gdLst/>
            <a:ahLst/>
            <a:rect l="l" t="t" r="r" b="b"/>
            <a:pathLst>
              <a:path w="125" h="844">
                <a:moveTo>
                  <a:pt x="4093" y="13469"/>
                </a:moveTo>
                <a:cubicBezTo>
                  <a:pt x="4119" y="13675"/>
                  <a:pt x="4161" y="13883"/>
                  <a:pt x="4192" y="14089"/>
                </a:cubicBezTo>
                <a:cubicBezTo>
                  <a:pt x="4205" y="14178"/>
                  <a:pt x="4217" y="14230"/>
                  <a:pt x="4217" y="143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687680" y="4867200"/>
            <a:ext cx="18720" cy="285840"/>
          </a:xfrm>
          <a:custGeom>
            <a:avLst/>
            <a:gdLst/>
            <a:ahLst/>
            <a:rect l="l" t="t" r="r" b="b"/>
            <a:pathLst>
              <a:path w="51" h="794">
                <a:moveTo>
                  <a:pt x="4688" y="13543"/>
                </a:moveTo>
                <a:cubicBezTo>
                  <a:pt x="4688" y="13427"/>
                  <a:pt x="4708" y="13725"/>
                  <a:pt x="4713" y="13841"/>
                </a:cubicBezTo>
                <a:cubicBezTo>
                  <a:pt x="4715" y="13895"/>
                  <a:pt x="4670" y="14290"/>
                  <a:pt x="4738" y="143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90800" y="4964040"/>
            <a:ext cx="81000" cy="90720"/>
          </a:xfrm>
          <a:custGeom>
            <a:avLst/>
            <a:gdLst/>
            <a:ahLst/>
            <a:rect l="l" t="t" r="r" b="b"/>
            <a:pathLst>
              <a:path w="225" h="249">
                <a:moveTo>
                  <a:pt x="5556" y="13816"/>
                </a:moveTo>
                <a:cubicBezTo>
                  <a:pt x="5630" y="13816"/>
                  <a:pt x="5686" y="13805"/>
                  <a:pt x="5755" y="13791"/>
                </a:cubicBezTo>
              </a:path>
              <a:path w="225" h="249">
                <a:moveTo>
                  <a:pt x="5531" y="14039"/>
                </a:moveTo>
                <a:cubicBezTo>
                  <a:pt x="5581" y="14039"/>
                  <a:pt x="5630" y="14039"/>
                  <a:pt x="5680" y="14039"/>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4" name=""/>
          <p:cNvSpPr/>
          <p:nvPr/>
        </p:nvSpPr>
        <p:spPr>
          <a:xfrm>
            <a:off x="2313000" y="4902120"/>
            <a:ext cx="179280" cy="250920"/>
          </a:xfrm>
          <a:custGeom>
            <a:avLst/>
            <a:gdLst/>
            <a:ahLst/>
            <a:rect l="l" t="t" r="r" b="b"/>
            <a:pathLst>
              <a:path w="498" h="695">
                <a:moveTo>
                  <a:pt x="6499" y="13692"/>
                </a:moveTo>
                <a:cubicBezTo>
                  <a:pt x="6491" y="13689"/>
                  <a:pt x="6429" y="13651"/>
                  <a:pt x="6424" y="13643"/>
                </a:cubicBezTo>
                <a:cubicBezTo>
                  <a:pt x="6424" y="13635"/>
                  <a:pt x="6424" y="13626"/>
                  <a:pt x="6424" y="13618"/>
                </a:cubicBezTo>
                <a:cubicBezTo>
                  <a:pt x="6506" y="13837"/>
                  <a:pt x="6708" y="14049"/>
                  <a:pt x="6871" y="14238"/>
                </a:cubicBezTo>
                <a:cubicBezTo>
                  <a:pt x="6909" y="14282"/>
                  <a:pt x="6921" y="14323"/>
                  <a:pt x="6921" y="142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33880" y="4429080"/>
            <a:ext cx="171360" cy="303120"/>
          </a:xfrm>
          <a:custGeom>
            <a:avLst/>
            <a:gdLst/>
            <a:ahLst/>
            <a:rect l="l" t="t" r="r" b="b"/>
            <a:pathLst>
              <a:path w="472" h="844">
                <a:moveTo>
                  <a:pt x="11485" y="12402"/>
                </a:moveTo>
                <a:cubicBezTo>
                  <a:pt x="11589" y="12402"/>
                  <a:pt x="11693" y="12660"/>
                  <a:pt x="11733" y="12725"/>
                </a:cubicBezTo>
                <a:cubicBezTo>
                  <a:pt x="11769" y="12783"/>
                  <a:pt x="11932" y="13141"/>
                  <a:pt x="11956" y="13047"/>
                </a:cubicBezTo>
              </a:path>
              <a:path w="472" h="844">
                <a:moveTo>
                  <a:pt x="11881" y="12303"/>
                </a:moveTo>
                <a:cubicBezTo>
                  <a:pt x="11760" y="12569"/>
                  <a:pt x="11628" y="12838"/>
                  <a:pt x="11559" y="13122"/>
                </a:cubicBezTo>
                <a:cubicBezTo>
                  <a:pt x="11559" y="13146"/>
                  <a:pt x="11559" y="13154"/>
                  <a:pt x="11584"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705200" y="4384800"/>
            <a:ext cx="46080" cy="322200"/>
          </a:xfrm>
          <a:custGeom>
            <a:avLst/>
            <a:gdLst/>
            <a:ahLst/>
            <a:rect l="l" t="t" r="r" b="b"/>
            <a:pathLst>
              <a:path w="125" h="894">
                <a:moveTo>
                  <a:pt x="13072" y="12179"/>
                </a:moveTo>
                <a:cubicBezTo>
                  <a:pt x="13072" y="12422"/>
                  <a:pt x="13086" y="12657"/>
                  <a:pt x="13122" y="12898"/>
                </a:cubicBezTo>
                <a:cubicBezTo>
                  <a:pt x="13143" y="13037"/>
                  <a:pt x="13135" y="13125"/>
                  <a:pt x="13196" y="129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84840" y="4394160"/>
            <a:ext cx="44280" cy="338040"/>
          </a:xfrm>
          <a:custGeom>
            <a:avLst/>
            <a:gdLst/>
            <a:ahLst/>
            <a:rect l="l" t="t" r="r" b="b"/>
            <a:pathLst>
              <a:path w="125" h="943">
                <a:moveTo>
                  <a:pt x="13568" y="12204"/>
                </a:moveTo>
                <a:cubicBezTo>
                  <a:pt x="13613" y="12447"/>
                  <a:pt x="13642" y="12678"/>
                  <a:pt x="13667" y="12923"/>
                </a:cubicBezTo>
                <a:cubicBezTo>
                  <a:pt x="13676" y="13014"/>
                  <a:pt x="13692" y="13188"/>
                  <a:pt x="13692" y="130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911160" y="1884240"/>
            <a:ext cx="2678040" cy="357480"/>
          </a:xfrm>
          <a:custGeom>
            <a:avLst/>
            <a:gdLst/>
            <a:ahLst/>
            <a:rect l="l" t="t" r="r" b="b"/>
            <a:pathLst>
              <a:path w="7442" h="993">
                <a:moveTo>
                  <a:pt x="2530" y="6226"/>
                </a:moveTo>
                <a:cubicBezTo>
                  <a:pt x="2624" y="6132"/>
                  <a:pt x="2427" y="6201"/>
                  <a:pt x="2654" y="6077"/>
                </a:cubicBezTo>
                <a:cubicBezTo>
                  <a:pt x="2871" y="5958"/>
                  <a:pt x="3139" y="5960"/>
                  <a:pt x="3373" y="5904"/>
                </a:cubicBezTo>
                <a:cubicBezTo>
                  <a:pt x="3958" y="5764"/>
                  <a:pt x="4534" y="5681"/>
                  <a:pt x="5135" y="5655"/>
                </a:cubicBezTo>
                <a:cubicBezTo>
                  <a:pt x="5458" y="5641"/>
                  <a:pt x="5779" y="5595"/>
                  <a:pt x="6102" y="5581"/>
                </a:cubicBezTo>
                <a:cubicBezTo>
                  <a:pt x="6375" y="5570"/>
                  <a:pt x="6649" y="5560"/>
                  <a:pt x="6921" y="5556"/>
                </a:cubicBezTo>
                <a:cubicBezTo>
                  <a:pt x="7219" y="5552"/>
                  <a:pt x="7495" y="5495"/>
                  <a:pt x="7789" y="5457"/>
                </a:cubicBezTo>
                <a:cubicBezTo>
                  <a:pt x="8462" y="5371"/>
                  <a:pt x="9297" y="5182"/>
                  <a:pt x="9971" y="5234"/>
                </a:cubicBezTo>
                <a:cubicBezTo>
                  <a:pt x="9971" y="5242"/>
                  <a:pt x="9971" y="5251"/>
                  <a:pt x="9971" y="52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000080" y="3375000"/>
            <a:ext cx="2509920" cy="36360"/>
          </a:xfrm>
          <a:custGeom>
            <a:avLst/>
            <a:gdLst/>
            <a:ahLst/>
            <a:rect l="l" t="t" r="r" b="b"/>
            <a:pathLst>
              <a:path w="6971" h="100">
                <a:moveTo>
                  <a:pt x="2778" y="9426"/>
                </a:moveTo>
                <a:cubicBezTo>
                  <a:pt x="3052" y="9419"/>
                  <a:pt x="3323" y="9385"/>
                  <a:pt x="3597" y="9376"/>
                </a:cubicBezTo>
                <a:cubicBezTo>
                  <a:pt x="4242" y="9356"/>
                  <a:pt x="4887" y="9440"/>
                  <a:pt x="5531" y="9451"/>
                </a:cubicBezTo>
                <a:cubicBezTo>
                  <a:pt x="6394" y="9466"/>
                  <a:pt x="7273" y="9516"/>
                  <a:pt x="8136" y="9475"/>
                </a:cubicBezTo>
                <a:cubicBezTo>
                  <a:pt x="8665" y="9450"/>
                  <a:pt x="9171" y="9390"/>
                  <a:pt x="9699" y="9426"/>
                </a:cubicBezTo>
                <a:cubicBezTo>
                  <a:pt x="9715" y="9426"/>
                  <a:pt x="9732" y="9426"/>
                  <a:pt x="9748" y="9426"/>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80">
                                            <p:txEl>
                                              <p:pRg st="1" end="1"/>
                                            </p:txEl>
                                          </p:spTgt>
                                        </p:tgtEl>
                                        <p:attrNameLst>
                                          <p:attrName>style.visibility</p:attrName>
                                        </p:attrNameLst>
                                      </p:cBhvr>
                                      <p:to>
                                        <p:strVal val="visible"/>
                                      </p:to>
                                    </p:set>
                                    <p:anim calcmode="lin" valueType="num">
                                      <p:cBhvr additive="base">
                                        <p:cTn id="21"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0">
                                            <p:txEl>
                                              <p:pRg st="2" end="2"/>
                                            </p:txEl>
                                          </p:spTgt>
                                        </p:tgtEl>
                                        <p:attrNameLst>
                                          <p:attrName>style.visibility</p:attrName>
                                        </p:attrNameLst>
                                      </p:cBhvr>
                                      <p:to>
                                        <p:strVal val="visible"/>
                                      </p:to>
                                    </p:set>
                                    <p:anim calcmode="lin" valueType="num">
                                      <p:cBhvr additive="base">
                                        <p:cTn id="2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0">
                                            <p:txEl>
                                              <p:pRg st="2" end="2"/>
                                            </p:txEl>
                                          </p:spTgt>
                                        </p:tgtEl>
                                        <p:attrNameLst>
                                          <p:attrName>style.visibility</p:attrName>
                                        </p:attrNameLst>
                                      </p:cBhvr>
                                      <p:to>
                                        <p:strVal val="visible"/>
                                      </p:to>
                                    </p:set>
                                    <p:anim calcmode="lin" valueType="num">
                                      <p:cBhvr additive="base">
                                        <p:cTn id="3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51920"/>
            <a:ext cx="82296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Determine the unknown in a linear equation</a:t>
            </a:r>
            <a:endParaRPr b="0" lang="en-US" sz="1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y + 25 = 140</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5 + r = 125</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61 = z + 36</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1465200" y="1625760"/>
            <a:ext cx="79560" cy="9360"/>
          </a:xfrm>
          <a:custGeom>
            <a:avLst/>
            <a:gdLst/>
            <a:ahLst/>
            <a:rect l="l" t="t" r="r" b="b"/>
            <a:pathLst>
              <a:path w="224" h="26">
                <a:moveTo>
                  <a:pt x="4068" y="4539"/>
                </a:moveTo>
                <a:cubicBezTo>
                  <a:pt x="4143" y="4524"/>
                  <a:pt x="4210" y="4514"/>
                  <a:pt x="4291" y="4514"/>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 name=""/>
          <p:cNvSpPr/>
          <p:nvPr/>
        </p:nvSpPr>
        <p:spPr>
          <a:xfrm>
            <a:off x="1768320" y="1554120"/>
            <a:ext cx="357480" cy="204840"/>
          </a:xfrm>
          <a:custGeom>
            <a:avLst/>
            <a:gdLst/>
            <a:ahLst/>
            <a:rect l="l" t="t" r="r" b="b"/>
            <a:pathLst>
              <a:path w="994" h="572">
                <a:moveTo>
                  <a:pt x="5060" y="4390"/>
                </a:moveTo>
                <a:cubicBezTo>
                  <a:pt x="4999" y="4370"/>
                  <a:pt x="5078" y="4338"/>
                  <a:pt x="5110" y="4341"/>
                </a:cubicBezTo>
                <a:cubicBezTo>
                  <a:pt x="5340" y="4362"/>
                  <a:pt x="5249" y="4649"/>
                  <a:pt x="5159" y="4762"/>
                </a:cubicBezTo>
                <a:cubicBezTo>
                  <a:pt x="5087" y="4853"/>
                  <a:pt x="5020" y="4890"/>
                  <a:pt x="4936" y="4862"/>
                </a:cubicBezTo>
                <a:cubicBezTo>
                  <a:pt x="4913" y="4771"/>
                  <a:pt x="4942" y="4713"/>
                  <a:pt x="5060" y="4688"/>
                </a:cubicBezTo>
                <a:cubicBezTo>
                  <a:pt x="5166" y="4665"/>
                  <a:pt x="5247" y="4745"/>
                  <a:pt x="5283" y="4837"/>
                </a:cubicBezTo>
                <a:cubicBezTo>
                  <a:pt x="5283" y="4862"/>
                  <a:pt x="5283" y="4870"/>
                  <a:pt x="5308" y="4862"/>
                </a:cubicBezTo>
              </a:path>
              <a:path w="994" h="572">
                <a:moveTo>
                  <a:pt x="5829" y="4316"/>
                </a:moveTo>
                <a:cubicBezTo>
                  <a:pt x="5761" y="4327"/>
                  <a:pt x="5688" y="4350"/>
                  <a:pt x="5631" y="4366"/>
                </a:cubicBezTo>
                <a:cubicBezTo>
                  <a:pt x="5570" y="4383"/>
                  <a:pt x="5565" y="4503"/>
                  <a:pt x="5556" y="4564"/>
                </a:cubicBezTo>
                <a:cubicBezTo>
                  <a:pt x="5642" y="4552"/>
                  <a:pt x="5772" y="4500"/>
                  <a:pt x="5854" y="4564"/>
                </a:cubicBezTo>
                <a:cubicBezTo>
                  <a:pt x="6052" y="4717"/>
                  <a:pt x="5733" y="4801"/>
                  <a:pt x="5655" y="4837"/>
                </a:cubicBezTo>
                <a:cubicBezTo>
                  <a:pt x="5627" y="4866"/>
                  <a:pt x="5619" y="4869"/>
                  <a:pt x="5631" y="48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098880" y="3517920"/>
            <a:ext cx="142920" cy="189000"/>
          </a:xfrm>
          <a:custGeom>
            <a:avLst/>
            <a:gdLst/>
            <a:ahLst/>
            <a:rect l="l" t="t" r="r" b="b"/>
            <a:pathLst>
              <a:path w="398" h="522">
                <a:moveTo>
                  <a:pt x="8855" y="9798"/>
                </a:moveTo>
                <a:cubicBezTo>
                  <a:pt x="8920" y="9798"/>
                  <a:pt x="8900" y="9759"/>
                  <a:pt x="8880" y="9773"/>
                </a:cubicBezTo>
                <a:cubicBezTo>
                  <a:pt x="8757" y="9858"/>
                  <a:pt x="8616" y="10095"/>
                  <a:pt x="8607" y="10244"/>
                </a:cubicBezTo>
                <a:cubicBezTo>
                  <a:pt x="8615" y="10261"/>
                  <a:pt x="8624" y="10277"/>
                  <a:pt x="8632" y="10294"/>
                </a:cubicBezTo>
                <a:cubicBezTo>
                  <a:pt x="8797" y="10285"/>
                  <a:pt x="8954" y="10292"/>
                  <a:pt x="9004" y="10096"/>
                </a:cubicBezTo>
                <a:cubicBezTo>
                  <a:pt x="9028" y="10001"/>
                  <a:pt x="8982" y="9843"/>
                  <a:pt x="8880" y="9823"/>
                </a:cubicBezTo>
                <a:cubicBezTo>
                  <a:pt x="8837" y="9823"/>
                  <a:pt x="8812" y="9817"/>
                  <a:pt x="8781" y="979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94040" y="3537000"/>
            <a:ext cx="17280" cy="195120"/>
          </a:xfrm>
          <a:custGeom>
            <a:avLst/>
            <a:gdLst/>
            <a:ahLst/>
            <a:rect l="l" t="t" r="r" b="b"/>
            <a:pathLst>
              <a:path w="50" h="546">
                <a:moveTo>
                  <a:pt x="8086" y="9847"/>
                </a:moveTo>
                <a:cubicBezTo>
                  <a:pt x="8086" y="9740"/>
                  <a:pt x="8067" y="10013"/>
                  <a:pt x="8062" y="10120"/>
                </a:cubicBezTo>
                <a:cubicBezTo>
                  <a:pt x="8059" y="10188"/>
                  <a:pt x="8021" y="10315"/>
                  <a:pt x="8062" y="10368"/>
                </a:cubicBezTo>
                <a:cubicBezTo>
                  <a:pt x="8062" y="10326"/>
                  <a:pt x="8056" y="10300"/>
                  <a:pt x="8037" y="102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697120" y="3527280"/>
            <a:ext cx="9720" cy="196920"/>
          </a:xfrm>
          <a:custGeom>
            <a:avLst/>
            <a:gdLst/>
            <a:ahLst/>
            <a:rect l="l" t="t" r="r" b="b"/>
            <a:pathLst>
              <a:path w="26" h="547">
                <a:moveTo>
                  <a:pt x="7516" y="9823"/>
                </a:moveTo>
                <a:cubicBezTo>
                  <a:pt x="7516" y="9706"/>
                  <a:pt x="7493" y="10003"/>
                  <a:pt x="7491" y="10120"/>
                </a:cubicBezTo>
                <a:cubicBezTo>
                  <a:pt x="7490" y="10195"/>
                  <a:pt x="7491" y="10269"/>
                  <a:pt x="7491"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357280" y="3456000"/>
            <a:ext cx="108000" cy="88920"/>
          </a:xfrm>
          <a:custGeom>
            <a:avLst/>
            <a:gdLst/>
            <a:ahLst/>
            <a:rect l="l" t="t" r="r" b="b"/>
            <a:pathLst>
              <a:path w="299" h="249">
                <a:moveTo>
                  <a:pt x="6548" y="9599"/>
                </a:moveTo>
                <a:cubicBezTo>
                  <a:pt x="6647" y="9599"/>
                  <a:pt x="6747" y="9599"/>
                  <a:pt x="6846" y="9599"/>
                </a:cubicBezTo>
              </a:path>
              <a:path w="299" h="249">
                <a:moveTo>
                  <a:pt x="6548" y="9823"/>
                </a:moveTo>
                <a:cubicBezTo>
                  <a:pt x="6564" y="9868"/>
                  <a:pt x="6644" y="9847"/>
                  <a:pt x="6697" y="9847"/>
                </a:cubicBezTo>
                <a:cubicBezTo>
                  <a:pt x="6739" y="9847"/>
                  <a:pt x="6747" y="9847"/>
                  <a:pt x="6772" y="9847"/>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0" name=""/>
          <p:cNvSpPr/>
          <p:nvPr/>
        </p:nvSpPr>
        <p:spPr>
          <a:xfrm>
            <a:off x="1928880" y="3394080"/>
            <a:ext cx="206280" cy="214200"/>
          </a:xfrm>
          <a:custGeom>
            <a:avLst/>
            <a:gdLst/>
            <a:ahLst/>
            <a:rect l="l" t="t" r="r" b="b"/>
            <a:pathLst>
              <a:path w="571" h="596">
                <a:moveTo>
                  <a:pt x="5383" y="9674"/>
                </a:moveTo>
                <a:cubicBezTo>
                  <a:pt x="5356" y="9628"/>
                  <a:pt x="5358" y="9608"/>
                  <a:pt x="5358" y="9550"/>
                </a:cubicBezTo>
                <a:cubicBezTo>
                  <a:pt x="5416" y="9665"/>
                  <a:pt x="5407" y="9771"/>
                  <a:pt x="5432" y="9897"/>
                </a:cubicBezTo>
                <a:cubicBezTo>
                  <a:pt x="5442" y="9947"/>
                  <a:pt x="5457" y="10047"/>
                  <a:pt x="5457" y="9996"/>
                </a:cubicBezTo>
                <a:cubicBezTo>
                  <a:pt x="5423" y="9895"/>
                  <a:pt x="5431" y="9827"/>
                  <a:pt x="5457" y="9723"/>
                </a:cubicBezTo>
                <a:cubicBezTo>
                  <a:pt x="5484" y="9614"/>
                  <a:pt x="5494" y="9523"/>
                  <a:pt x="5606" y="9475"/>
                </a:cubicBezTo>
                <a:cubicBezTo>
                  <a:pt x="5690" y="9439"/>
                  <a:pt x="5765" y="9426"/>
                  <a:pt x="5854" y="9426"/>
                </a:cubicBezTo>
                <a:cubicBezTo>
                  <a:pt x="5856" y="9426"/>
                  <a:pt x="5931" y="9464"/>
                  <a:pt x="5928" y="9475"/>
                </a:cubicBezTo>
                <a:cubicBezTo>
                  <a:pt x="5920" y="9475"/>
                  <a:pt x="5912" y="9475"/>
                  <a:pt x="5904" y="94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446120" y="3340080"/>
            <a:ext cx="81000" cy="61920"/>
          </a:xfrm>
          <a:custGeom>
            <a:avLst/>
            <a:gdLst/>
            <a:ahLst/>
            <a:rect l="l" t="t" r="r" b="b"/>
            <a:pathLst>
              <a:path w="225" h="175">
                <a:moveTo>
                  <a:pt x="4118" y="9401"/>
                </a:moveTo>
                <a:cubicBezTo>
                  <a:pt x="4132" y="9316"/>
                  <a:pt x="4124" y="9382"/>
                  <a:pt x="4142" y="9327"/>
                </a:cubicBezTo>
                <a:cubicBezTo>
                  <a:pt x="4089" y="9309"/>
                  <a:pt x="4062" y="9339"/>
                  <a:pt x="4018" y="9426"/>
                </a:cubicBezTo>
                <a:cubicBezTo>
                  <a:pt x="4018" y="9434"/>
                  <a:pt x="4018" y="9443"/>
                  <a:pt x="4018" y="9451"/>
                </a:cubicBezTo>
                <a:cubicBezTo>
                  <a:pt x="4074" y="9447"/>
                  <a:pt x="4263" y="9456"/>
                  <a:pt x="4242" y="9351"/>
                </a:cubicBezTo>
                <a:cubicBezTo>
                  <a:pt x="4232" y="9300"/>
                  <a:pt x="4183" y="9287"/>
                  <a:pt x="4142" y="9277"/>
                </a:cubicBezTo>
              </a:path>
            </a:pathLst>
          </a:custGeom>
          <a:noFill/>
          <a:ln cap="rnd" w="1908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2" name=""/>
          <p:cNvSpPr/>
          <p:nvPr/>
        </p:nvSpPr>
        <p:spPr>
          <a:xfrm>
            <a:off x="2946240" y="3160800"/>
            <a:ext cx="27000" cy="98280"/>
          </a:xfrm>
          <a:custGeom>
            <a:avLst/>
            <a:gdLst/>
            <a:ahLst/>
            <a:rect l="l" t="t" r="r" b="b"/>
            <a:pathLst>
              <a:path w="75" h="274">
                <a:moveTo>
                  <a:pt x="8186" y="8781"/>
                </a:moveTo>
                <a:cubicBezTo>
                  <a:pt x="8226" y="8879"/>
                  <a:pt x="8250" y="8948"/>
                  <a:pt x="8260"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938160" y="1776240"/>
            <a:ext cx="2946600" cy="1617840"/>
          </a:xfrm>
          <a:custGeom>
            <a:avLst/>
            <a:gdLst/>
            <a:ahLst/>
            <a:rect l="l" t="t" r="r" b="b"/>
            <a:pathLst>
              <a:path w="8187" h="4491">
                <a:moveTo>
                  <a:pt x="2877" y="5308"/>
                </a:moveTo>
                <a:cubicBezTo>
                  <a:pt x="3026" y="5302"/>
                  <a:pt x="3175" y="5273"/>
                  <a:pt x="3324" y="5283"/>
                </a:cubicBezTo>
                <a:cubicBezTo>
                  <a:pt x="3589" y="5301"/>
                  <a:pt x="3851" y="5288"/>
                  <a:pt x="4118" y="5308"/>
                </a:cubicBezTo>
                <a:cubicBezTo>
                  <a:pt x="4407" y="5330"/>
                  <a:pt x="4697" y="5353"/>
                  <a:pt x="4986" y="5358"/>
                </a:cubicBezTo>
                <a:cubicBezTo>
                  <a:pt x="5193" y="5362"/>
                  <a:pt x="5401" y="5352"/>
                  <a:pt x="5606" y="5333"/>
                </a:cubicBezTo>
                <a:cubicBezTo>
                  <a:pt x="5863" y="5309"/>
                  <a:pt x="6118" y="5291"/>
                  <a:pt x="6375" y="5259"/>
                </a:cubicBezTo>
                <a:cubicBezTo>
                  <a:pt x="6614" y="5229"/>
                  <a:pt x="6855" y="5233"/>
                  <a:pt x="7094" y="5209"/>
                </a:cubicBezTo>
                <a:cubicBezTo>
                  <a:pt x="7370" y="5182"/>
                  <a:pt x="7639" y="5123"/>
                  <a:pt x="7913" y="5085"/>
                </a:cubicBezTo>
                <a:cubicBezTo>
                  <a:pt x="8297" y="5032"/>
                  <a:pt x="8692" y="4968"/>
                  <a:pt x="9079" y="4961"/>
                </a:cubicBezTo>
                <a:cubicBezTo>
                  <a:pt x="9181" y="4959"/>
                  <a:pt x="9276" y="4948"/>
                  <a:pt x="9376" y="4936"/>
                </a:cubicBezTo>
              </a:path>
              <a:path w="8187" h="4491">
                <a:moveTo>
                  <a:pt x="2604" y="9426"/>
                </a:moveTo>
                <a:cubicBezTo>
                  <a:pt x="2816" y="9382"/>
                  <a:pt x="3032" y="9326"/>
                  <a:pt x="3249" y="9302"/>
                </a:cubicBezTo>
                <a:cubicBezTo>
                  <a:pt x="3744" y="9246"/>
                  <a:pt x="4239" y="9190"/>
                  <a:pt x="4738" y="9203"/>
                </a:cubicBezTo>
                <a:cubicBezTo>
                  <a:pt x="5311" y="9217"/>
                  <a:pt x="5876" y="9207"/>
                  <a:pt x="6449" y="9203"/>
                </a:cubicBezTo>
                <a:cubicBezTo>
                  <a:pt x="6938" y="9200"/>
                  <a:pt x="7426" y="9194"/>
                  <a:pt x="7913" y="9227"/>
                </a:cubicBezTo>
                <a:cubicBezTo>
                  <a:pt x="8375" y="9258"/>
                  <a:pt x="8839" y="9273"/>
                  <a:pt x="9302" y="9277"/>
                </a:cubicBezTo>
                <a:cubicBezTo>
                  <a:pt x="9692" y="9281"/>
                  <a:pt x="10079" y="9288"/>
                  <a:pt x="10468" y="9302"/>
                </a:cubicBezTo>
                <a:cubicBezTo>
                  <a:pt x="10575" y="9306"/>
                  <a:pt x="10683" y="9300"/>
                  <a:pt x="10790" y="9302"/>
                </a:cubicBezTo>
              </a:path>
              <a:path w="8187" h="4491">
                <a:moveTo>
                  <a:pt x="7640" y="8930"/>
                </a:moveTo>
                <a:cubicBezTo>
                  <a:pt x="7640" y="8922"/>
                  <a:pt x="7640" y="8913"/>
                  <a:pt x="7640" y="8905"/>
                </a:cubicBezTo>
                <a:cubicBezTo>
                  <a:pt x="7709" y="8895"/>
                  <a:pt x="7773" y="8868"/>
                  <a:pt x="7838" y="88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64080" y="982800"/>
            <a:ext cx="608040" cy="892080"/>
          </a:xfrm>
          <a:custGeom>
            <a:avLst/>
            <a:gdLst/>
            <a:ahLst/>
            <a:rect l="l" t="t" r="r" b="b"/>
            <a:pathLst>
              <a:path w="1688" h="2481">
                <a:moveTo>
                  <a:pt x="15801" y="3175"/>
                </a:moveTo>
                <a:cubicBezTo>
                  <a:pt x="15801" y="3278"/>
                  <a:pt x="15778" y="3712"/>
                  <a:pt x="15825" y="3696"/>
                </a:cubicBezTo>
              </a:path>
              <a:path w="1688" h="2481">
                <a:moveTo>
                  <a:pt x="16098" y="3175"/>
                </a:moveTo>
                <a:cubicBezTo>
                  <a:pt x="16125" y="3282"/>
                  <a:pt x="16108" y="3403"/>
                  <a:pt x="16123" y="3522"/>
                </a:cubicBezTo>
                <a:cubicBezTo>
                  <a:pt x="16131" y="3547"/>
                  <a:pt x="16140" y="3572"/>
                  <a:pt x="16148" y="3597"/>
                </a:cubicBezTo>
              </a:path>
              <a:path w="1688" h="2481">
                <a:moveTo>
                  <a:pt x="16545" y="3051"/>
                </a:moveTo>
                <a:cubicBezTo>
                  <a:pt x="16512" y="3057"/>
                  <a:pt x="16412" y="3060"/>
                  <a:pt x="16396" y="3101"/>
                </a:cubicBezTo>
                <a:cubicBezTo>
                  <a:pt x="16370" y="3168"/>
                  <a:pt x="16356" y="3254"/>
                  <a:pt x="16346" y="3324"/>
                </a:cubicBezTo>
                <a:cubicBezTo>
                  <a:pt x="16396" y="3299"/>
                  <a:pt x="16414" y="3235"/>
                  <a:pt x="16495" y="3249"/>
                </a:cubicBezTo>
                <a:cubicBezTo>
                  <a:pt x="16624" y="3271"/>
                  <a:pt x="16627" y="3419"/>
                  <a:pt x="16545" y="3497"/>
                </a:cubicBezTo>
                <a:cubicBezTo>
                  <a:pt x="16472" y="3567"/>
                  <a:pt x="16428" y="3565"/>
                  <a:pt x="16346" y="3547"/>
                </a:cubicBezTo>
              </a:path>
              <a:path w="1688" h="2481">
                <a:moveTo>
                  <a:pt x="15180" y="3845"/>
                </a:moveTo>
                <a:cubicBezTo>
                  <a:pt x="15198" y="4037"/>
                  <a:pt x="15224" y="4223"/>
                  <a:pt x="15230" y="4415"/>
                </a:cubicBezTo>
                <a:cubicBezTo>
                  <a:pt x="15230" y="4443"/>
                  <a:pt x="15228" y="4449"/>
                  <a:pt x="15205" y="4415"/>
                </a:cubicBezTo>
              </a:path>
              <a:path w="1688" h="2481">
                <a:moveTo>
                  <a:pt x="16148" y="3944"/>
                </a:moveTo>
                <a:cubicBezTo>
                  <a:pt x="16125" y="3967"/>
                  <a:pt x="16117" y="3978"/>
                  <a:pt x="16123" y="3944"/>
                </a:cubicBezTo>
                <a:cubicBezTo>
                  <a:pt x="16189" y="3894"/>
                  <a:pt x="16247" y="3900"/>
                  <a:pt x="16247" y="4018"/>
                </a:cubicBezTo>
                <a:cubicBezTo>
                  <a:pt x="16247" y="4205"/>
                  <a:pt x="16181" y="4315"/>
                  <a:pt x="15999" y="4341"/>
                </a:cubicBezTo>
                <a:cubicBezTo>
                  <a:pt x="16032" y="4235"/>
                  <a:pt x="16043" y="4187"/>
                  <a:pt x="16123" y="4118"/>
                </a:cubicBezTo>
                <a:cubicBezTo>
                  <a:pt x="16194" y="4156"/>
                  <a:pt x="16238" y="4263"/>
                  <a:pt x="16297" y="4291"/>
                </a:cubicBezTo>
                <a:cubicBezTo>
                  <a:pt x="16297" y="4283"/>
                  <a:pt x="16297" y="4274"/>
                  <a:pt x="16297" y="4266"/>
                </a:cubicBezTo>
              </a:path>
              <a:path w="1688" h="2481">
                <a:moveTo>
                  <a:pt x="16594" y="3795"/>
                </a:moveTo>
                <a:cubicBezTo>
                  <a:pt x="16555" y="3827"/>
                  <a:pt x="16506" y="3847"/>
                  <a:pt x="16470" y="3870"/>
                </a:cubicBezTo>
                <a:cubicBezTo>
                  <a:pt x="16411" y="3909"/>
                  <a:pt x="16421" y="3952"/>
                  <a:pt x="16421" y="4018"/>
                </a:cubicBezTo>
                <a:cubicBezTo>
                  <a:pt x="16478" y="4018"/>
                  <a:pt x="16614" y="3986"/>
                  <a:pt x="16644" y="4043"/>
                </a:cubicBezTo>
                <a:cubicBezTo>
                  <a:pt x="16704" y="4158"/>
                  <a:pt x="16598" y="4295"/>
                  <a:pt x="16470" y="4242"/>
                </a:cubicBezTo>
                <a:cubicBezTo>
                  <a:pt x="16454" y="4225"/>
                  <a:pt x="16437" y="4209"/>
                  <a:pt x="16421" y="4192"/>
                </a:cubicBezTo>
              </a:path>
              <a:path w="1688" h="2481">
                <a:moveTo>
                  <a:pt x="15304" y="4539"/>
                </a:moveTo>
                <a:cubicBezTo>
                  <a:pt x="15667" y="4477"/>
                  <a:pt x="16027" y="4407"/>
                  <a:pt x="16396" y="4390"/>
                </a:cubicBezTo>
                <a:cubicBezTo>
                  <a:pt x="16549" y="4383"/>
                  <a:pt x="16728" y="4406"/>
                  <a:pt x="16867" y="4366"/>
                </a:cubicBezTo>
              </a:path>
              <a:path w="1688" h="2481">
                <a:moveTo>
                  <a:pt x="16594" y="4589"/>
                </a:moveTo>
                <a:cubicBezTo>
                  <a:pt x="16584" y="4629"/>
                  <a:pt x="16557" y="4651"/>
                  <a:pt x="16545" y="4688"/>
                </a:cubicBezTo>
                <a:cubicBezTo>
                  <a:pt x="16519" y="4766"/>
                  <a:pt x="16452" y="4922"/>
                  <a:pt x="16545" y="4961"/>
                </a:cubicBezTo>
                <a:cubicBezTo>
                  <a:pt x="16686" y="5021"/>
                  <a:pt x="16803" y="4847"/>
                  <a:pt x="16768" y="4713"/>
                </a:cubicBezTo>
                <a:cubicBezTo>
                  <a:pt x="16736" y="4591"/>
                  <a:pt x="16643" y="4589"/>
                  <a:pt x="16545" y="4589"/>
                </a:cubicBezTo>
              </a:path>
              <a:path w="1688" h="2481">
                <a:moveTo>
                  <a:pt x="16173" y="2729"/>
                </a:moveTo>
                <a:cubicBezTo>
                  <a:pt x="16135" y="2816"/>
                  <a:pt x="16159" y="2880"/>
                  <a:pt x="16173" y="2977"/>
                </a:cubicBezTo>
              </a:path>
              <a:path w="1688" h="2481">
                <a:moveTo>
                  <a:pt x="15974" y="4713"/>
                </a:moveTo>
                <a:cubicBezTo>
                  <a:pt x="15965" y="4767"/>
                  <a:pt x="15947" y="4812"/>
                  <a:pt x="15925" y="4862"/>
                </a:cubicBezTo>
                <a:cubicBezTo>
                  <a:pt x="15937" y="4866"/>
                  <a:pt x="16110" y="4884"/>
                  <a:pt x="16123" y="4862"/>
                </a:cubicBezTo>
                <a:cubicBezTo>
                  <a:pt x="16123" y="4845"/>
                  <a:pt x="16123" y="4829"/>
                  <a:pt x="16123" y="4812"/>
                </a:cubicBezTo>
              </a:path>
              <a:path w="1688" h="2481">
                <a:moveTo>
                  <a:pt x="16098" y="4564"/>
                </a:moveTo>
                <a:cubicBezTo>
                  <a:pt x="16058" y="4682"/>
                  <a:pt x="16055" y="4850"/>
                  <a:pt x="16049" y="4986"/>
                </a:cubicBezTo>
                <a:cubicBezTo>
                  <a:pt x="16049" y="5011"/>
                  <a:pt x="16049" y="5019"/>
                  <a:pt x="16049" y="4986"/>
                </a:cubicBezTo>
              </a:path>
              <a:path w="1688" h="2481">
                <a:moveTo>
                  <a:pt x="15627" y="4688"/>
                </a:moveTo>
                <a:cubicBezTo>
                  <a:pt x="15556" y="4782"/>
                  <a:pt x="15616" y="5022"/>
                  <a:pt x="15627" y="5159"/>
                </a:cubicBezTo>
                <a:cubicBezTo>
                  <a:pt x="15627" y="5176"/>
                  <a:pt x="15627" y="5192"/>
                  <a:pt x="15627" y="52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38880" y="1490760"/>
            <a:ext cx="142920" cy="36360"/>
          </a:xfrm>
          <a:custGeom>
            <a:avLst/>
            <a:gdLst/>
            <a:ahLst/>
            <a:rect l="l" t="t" r="r" b="b"/>
            <a:pathLst>
              <a:path w="398" h="101">
                <a:moveTo>
                  <a:pt x="15106" y="4242"/>
                </a:moveTo>
                <a:cubicBezTo>
                  <a:pt x="15237" y="4213"/>
                  <a:pt x="15372" y="4177"/>
                  <a:pt x="15503" y="4142"/>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1017720" y="3205080"/>
            <a:ext cx="63360" cy="19080"/>
          </a:xfrm>
          <a:custGeom>
            <a:avLst/>
            <a:gdLst/>
            <a:ahLst/>
            <a:rect l="l" t="t" r="r" b="b"/>
            <a:pathLst>
              <a:path w="174" h="50">
                <a:moveTo>
                  <a:pt x="2828" y="8954"/>
                </a:moveTo>
                <a:cubicBezTo>
                  <a:pt x="2853" y="8950"/>
                  <a:pt x="2983" y="8891"/>
                  <a:pt x="3001" y="8905"/>
                </a:cubicBezTo>
                <a:cubicBezTo>
                  <a:pt x="3001" y="8913"/>
                  <a:pt x="3001" y="8922"/>
                  <a:pt x="3001" y="893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7" name=""/>
          <p:cNvSpPr/>
          <p:nvPr/>
        </p:nvSpPr>
        <p:spPr>
          <a:xfrm>
            <a:off x="1231920" y="3152880"/>
            <a:ext cx="9360" cy="133200"/>
          </a:xfrm>
          <a:custGeom>
            <a:avLst/>
            <a:gdLst/>
            <a:ahLst/>
            <a:rect l="l" t="t" r="r" b="b"/>
            <a:pathLst>
              <a:path w="26" h="373">
                <a:moveTo>
                  <a:pt x="3423" y="8781"/>
                </a:moveTo>
                <a:cubicBezTo>
                  <a:pt x="3423" y="8707"/>
                  <a:pt x="3414" y="8880"/>
                  <a:pt x="3423" y="8954"/>
                </a:cubicBezTo>
                <a:cubicBezTo>
                  <a:pt x="3443" y="9053"/>
                  <a:pt x="3451" y="9069"/>
                  <a:pt x="3448" y="91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393920" y="3125880"/>
            <a:ext cx="125280" cy="142920"/>
          </a:xfrm>
          <a:custGeom>
            <a:avLst/>
            <a:gdLst/>
            <a:ahLst/>
            <a:rect l="l" t="t" r="r" b="b"/>
            <a:pathLst>
              <a:path w="348" h="398">
                <a:moveTo>
                  <a:pt x="4142" y="8682"/>
                </a:moveTo>
                <a:cubicBezTo>
                  <a:pt x="4070" y="8696"/>
                  <a:pt x="3956" y="8678"/>
                  <a:pt x="3894" y="8706"/>
                </a:cubicBezTo>
                <a:cubicBezTo>
                  <a:pt x="3873" y="8716"/>
                  <a:pt x="3871" y="8841"/>
                  <a:pt x="3870" y="8855"/>
                </a:cubicBezTo>
                <a:cubicBezTo>
                  <a:pt x="3942" y="8846"/>
                  <a:pt x="4178" y="8788"/>
                  <a:pt x="4217" y="8905"/>
                </a:cubicBezTo>
                <a:cubicBezTo>
                  <a:pt x="4277" y="9083"/>
                  <a:pt x="3997" y="9084"/>
                  <a:pt x="3919"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929120" y="4152960"/>
            <a:ext cx="455760" cy="561960"/>
          </a:xfrm>
          <a:custGeom>
            <a:avLst/>
            <a:gdLst/>
            <a:ahLst/>
            <a:rect l="l" t="t" r="r" b="b"/>
            <a:pathLst>
              <a:path w="1266" h="1564">
                <a:moveTo>
                  <a:pt x="13692" y="13097"/>
                </a:moveTo>
                <a:cubicBezTo>
                  <a:pt x="13861" y="13034"/>
                  <a:pt x="14011" y="12999"/>
                  <a:pt x="14188" y="13022"/>
                </a:cubicBezTo>
              </a:path>
              <a:path w="1266" h="1564">
                <a:moveTo>
                  <a:pt x="14957" y="11534"/>
                </a:moveTo>
                <a:cubicBezTo>
                  <a:pt x="14951" y="11657"/>
                  <a:pt x="14939" y="11762"/>
                  <a:pt x="14908" y="118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55920" y="4749840"/>
            <a:ext cx="536400" cy="179280"/>
          </a:xfrm>
          <a:custGeom>
            <a:avLst/>
            <a:gdLst/>
            <a:ahLst/>
            <a:rect l="l" t="t" r="r" b="b"/>
            <a:pathLst>
              <a:path w="1490" h="497">
                <a:moveTo>
                  <a:pt x="6821" y="13320"/>
                </a:moveTo>
                <a:cubicBezTo>
                  <a:pt x="6887" y="13320"/>
                  <a:pt x="6954" y="13320"/>
                  <a:pt x="7020" y="13320"/>
                </a:cubicBezTo>
              </a:path>
              <a:path w="1490" h="497">
                <a:moveTo>
                  <a:pt x="7441" y="13246"/>
                </a:moveTo>
                <a:cubicBezTo>
                  <a:pt x="7536" y="13219"/>
                  <a:pt x="7586" y="13196"/>
                  <a:pt x="7689" y="13196"/>
                </a:cubicBezTo>
                <a:cubicBezTo>
                  <a:pt x="7673" y="13298"/>
                  <a:pt x="7639" y="13333"/>
                  <a:pt x="7565" y="13395"/>
                </a:cubicBezTo>
                <a:cubicBezTo>
                  <a:pt x="7514" y="13438"/>
                  <a:pt x="7581" y="13364"/>
                  <a:pt x="7665" y="13370"/>
                </a:cubicBezTo>
                <a:cubicBezTo>
                  <a:pt x="7790" y="13379"/>
                  <a:pt x="7848" y="13534"/>
                  <a:pt x="7739" y="13618"/>
                </a:cubicBezTo>
                <a:cubicBezTo>
                  <a:pt x="7660" y="13679"/>
                  <a:pt x="7546" y="13634"/>
                  <a:pt x="7466" y="13618"/>
                </a:cubicBezTo>
              </a:path>
              <a:path w="1490" h="497">
                <a:moveTo>
                  <a:pt x="7938" y="13271"/>
                </a:moveTo>
                <a:cubicBezTo>
                  <a:pt x="7921" y="13339"/>
                  <a:pt x="7874" y="13387"/>
                  <a:pt x="7863" y="13469"/>
                </a:cubicBezTo>
                <a:cubicBezTo>
                  <a:pt x="7849" y="13572"/>
                  <a:pt x="7910" y="13668"/>
                  <a:pt x="8012" y="13692"/>
                </a:cubicBezTo>
                <a:cubicBezTo>
                  <a:pt x="8086" y="13709"/>
                  <a:pt x="8247" y="13664"/>
                  <a:pt x="8285" y="13593"/>
                </a:cubicBezTo>
                <a:cubicBezTo>
                  <a:pt x="8285" y="13548"/>
                  <a:pt x="8281" y="13535"/>
                  <a:pt x="8310" y="13519"/>
                </a:cubicBezTo>
                <a:cubicBezTo>
                  <a:pt x="8237" y="13475"/>
                  <a:pt x="8187" y="13471"/>
                  <a:pt x="8161" y="13568"/>
                </a:cubicBezTo>
                <a:cubicBezTo>
                  <a:pt x="8161" y="13610"/>
                  <a:pt x="8161" y="13618"/>
                  <a:pt x="8161" y="136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517920" y="4830840"/>
            <a:ext cx="260280" cy="260280"/>
          </a:xfrm>
          <a:custGeom>
            <a:avLst/>
            <a:gdLst/>
            <a:ahLst/>
            <a:rect l="l" t="t" r="r" b="b"/>
            <a:pathLst>
              <a:path w="720" h="721">
                <a:moveTo>
                  <a:pt x="9773" y="13891"/>
                </a:moveTo>
                <a:cubicBezTo>
                  <a:pt x="9793" y="13995"/>
                  <a:pt x="9803" y="14040"/>
                  <a:pt x="9773" y="14139"/>
                </a:cubicBezTo>
                <a:cubicBezTo>
                  <a:pt x="10024" y="13982"/>
                  <a:pt x="10266" y="13632"/>
                  <a:pt x="10492"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56120" y="4357800"/>
            <a:ext cx="785880" cy="785880"/>
          </a:xfrm>
          <a:custGeom>
            <a:avLst/>
            <a:gdLst/>
            <a:ahLst/>
            <a:rect l="l" t="t" r="r" b="b"/>
            <a:pathLst>
              <a:path w="2183" h="2184">
                <a:moveTo>
                  <a:pt x="14883" y="12204"/>
                </a:moveTo>
                <a:cubicBezTo>
                  <a:pt x="14883" y="12145"/>
                  <a:pt x="14871" y="12232"/>
                  <a:pt x="14858" y="12254"/>
                </a:cubicBezTo>
                <a:cubicBezTo>
                  <a:pt x="14858" y="12255"/>
                  <a:pt x="14839" y="12180"/>
                  <a:pt x="14957" y="12154"/>
                </a:cubicBezTo>
                <a:cubicBezTo>
                  <a:pt x="15278" y="12083"/>
                  <a:pt x="14935" y="12528"/>
                  <a:pt x="14858" y="12576"/>
                </a:cubicBezTo>
                <a:cubicBezTo>
                  <a:pt x="14712" y="12638"/>
                  <a:pt x="14684" y="12663"/>
                  <a:pt x="14585" y="12650"/>
                </a:cubicBezTo>
                <a:cubicBezTo>
                  <a:pt x="14626" y="12575"/>
                  <a:pt x="14730" y="12333"/>
                  <a:pt x="14858" y="12452"/>
                </a:cubicBezTo>
                <a:cubicBezTo>
                  <a:pt x="14919" y="12509"/>
                  <a:pt x="14944" y="12598"/>
                  <a:pt x="14957" y="12675"/>
                </a:cubicBezTo>
              </a:path>
              <a:path w="2183" h="2184">
                <a:moveTo>
                  <a:pt x="15528" y="12129"/>
                </a:moveTo>
                <a:cubicBezTo>
                  <a:pt x="15506" y="12121"/>
                  <a:pt x="15382" y="12105"/>
                  <a:pt x="15354" y="12129"/>
                </a:cubicBezTo>
                <a:cubicBezTo>
                  <a:pt x="15333" y="12147"/>
                  <a:pt x="15269" y="12302"/>
                  <a:pt x="15255" y="12328"/>
                </a:cubicBezTo>
                <a:cubicBezTo>
                  <a:pt x="15308" y="12257"/>
                  <a:pt x="15420" y="12266"/>
                  <a:pt x="15453" y="12378"/>
                </a:cubicBezTo>
                <a:cubicBezTo>
                  <a:pt x="15507" y="12560"/>
                  <a:pt x="15299" y="12586"/>
                  <a:pt x="15180" y="12551"/>
                </a:cubicBezTo>
                <a:cubicBezTo>
                  <a:pt x="15164" y="12543"/>
                  <a:pt x="15147" y="12534"/>
                  <a:pt x="15131" y="12526"/>
                </a:cubicBezTo>
              </a:path>
              <a:path w="2183" h="2184">
                <a:moveTo>
                  <a:pt x="13940" y="12824"/>
                </a:moveTo>
                <a:cubicBezTo>
                  <a:pt x="13932" y="12924"/>
                  <a:pt x="13938" y="13124"/>
                  <a:pt x="13866" y="13196"/>
                </a:cubicBezTo>
                <a:cubicBezTo>
                  <a:pt x="13858" y="13196"/>
                  <a:pt x="13849" y="13196"/>
                  <a:pt x="13841" y="13196"/>
                </a:cubicBezTo>
              </a:path>
              <a:path w="2183" h="2184">
                <a:moveTo>
                  <a:pt x="14610" y="12973"/>
                </a:moveTo>
                <a:cubicBezTo>
                  <a:pt x="14629" y="12880"/>
                  <a:pt x="14761" y="12806"/>
                  <a:pt x="14858" y="12824"/>
                </a:cubicBezTo>
                <a:cubicBezTo>
                  <a:pt x="15066" y="12863"/>
                  <a:pt x="14720" y="13081"/>
                  <a:pt x="14684" y="13097"/>
                </a:cubicBezTo>
                <a:cubicBezTo>
                  <a:pt x="14645" y="13097"/>
                  <a:pt x="14647" y="13086"/>
                  <a:pt x="14709" y="13047"/>
                </a:cubicBezTo>
                <a:cubicBezTo>
                  <a:pt x="14847" y="13038"/>
                  <a:pt x="15009" y="13137"/>
                  <a:pt x="14808" y="13271"/>
                </a:cubicBezTo>
                <a:cubicBezTo>
                  <a:pt x="14587" y="13418"/>
                  <a:pt x="14477" y="13305"/>
                  <a:pt x="14709" y="13122"/>
                </a:cubicBezTo>
              </a:path>
              <a:path w="2183" h="2184">
                <a:moveTo>
                  <a:pt x="15255" y="12799"/>
                </a:moveTo>
                <a:cubicBezTo>
                  <a:pt x="15230" y="12960"/>
                  <a:pt x="15174" y="13109"/>
                  <a:pt x="15156" y="13271"/>
                </a:cubicBezTo>
                <a:cubicBezTo>
                  <a:pt x="15359" y="13307"/>
                  <a:pt x="15413" y="13202"/>
                  <a:pt x="15528" y="13047"/>
                </a:cubicBezTo>
                <a:cubicBezTo>
                  <a:pt x="15384" y="13047"/>
                  <a:pt x="15311" y="13113"/>
                  <a:pt x="15255" y="13246"/>
                </a:cubicBezTo>
                <a:cubicBezTo>
                  <a:pt x="15255" y="13262"/>
                  <a:pt x="15255" y="13279"/>
                  <a:pt x="15255" y="13295"/>
                </a:cubicBezTo>
              </a:path>
              <a:path w="2183" h="2184">
                <a:moveTo>
                  <a:pt x="13767" y="13444"/>
                </a:moveTo>
                <a:cubicBezTo>
                  <a:pt x="14065" y="13444"/>
                  <a:pt x="14362" y="13412"/>
                  <a:pt x="14660" y="13395"/>
                </a:cubicBezTo>
                <a:cubicBezTo>
                  <a:pt x="15034" y="13374"/>
                  <a:pt x="15578" y="13251"/>
                  <a:pt x="15949" y="13345"/>
                </a:cubicBezTo>
                <a:cubicBezTo>
                  <a:pt x="15949" y="13353"/>
                  <a:pt x="15949" y="13362"/>
                  <a:pt x="15949" y="13370"/>
                </a:cubicBezTo>
              </a:path>
              <a:path w="2183" h="2184">
                <a:moveTo>
                  <a:pt x="15379" y="13667"/>
                </a:moveTo>
                <a:cubicBezTo>
                  <a:pt x="15354" y="13841"/>
                  <a:pt x="15298" y="14016"/>
                  <a:pt x="15255" y="14188"/>
                </a:cubicBezTo>
                <a:cubicBezTo>
                  <a:pt x="15247" y="14221"/>
                  <a:pt x="15238" y="14255"/>
                  <a:pt x="15230" y="14288"/>
                </a:cubicBezTo>
              </a:path>
              <a:path w="2183" h="2184">
                <a:moveTo>
                  <a:pt x="14536" y="13692"/>
                </a:moveTo>
                <a:cubicBezTo>
                  <a:pt x="14536" y="13599"/>
                  <a:pt x="14481" y="13809"/>
                  <a:pt x="14436" y="13891"/>
                </a:cubicBezTo>
                <a:cubicBezTo>
                  <a:pt x="14383" y="13987"/>
                  <a:pt x="14338" y="14084"/>
                  <a:pt x="14312" y="14188"/>
                </a:cubicBezTo>
                <a:cubicBezTo>
                  <a:pt x="14406" y="14239"/>
                  <a:pt x="14553" y="14271"/>
                  <a:pt x="14660" y="14188"/>
                </a:cubicBezTo>
                <a:cubicBezTo>
                  <a:pt x="14688" y="14166"/>
                  <a:pt x="14703" y="14096"/>
                  <a:pt x="14709" y="14064"/>
                </a:cubicBezTo>
                <a:cubicBezTo>
                  <a:pt x="14607" y="14033"/>
                  <a:pt x="14530" y="14012"/>
                  <a:pt x="14486" y="14139"/>
                </a:cubicBezTo>
                <a:cubicBezTo>
                  <a:pt x="14481" y="14152"/>
                  <a:pt x="14501" y="14280"/>
                  <a:pt x="14511" y="14288"/>
                </a:cubicBezTo>
                <a:cubicBezTo>
                  <a:pt x="14536" y="14288"/>
                  <a:pt x="14544" y="14288"/>
                  <a:pt x="14536" y="142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027080" y="4911840"/>
            <a:ext cx="2241720" cy="196560"/>
          </a:xfrm>
          <a:custGeom>
            <a:avLst/>
            <a:gdLst/>
            <a:ahLst/>
            <a:rect l="l" t="t" r="r" b="b"/>
            <a:pathLst>
              <a:path w="6227" h="546">
                <a:moveTo>
                  <a:pt x="2853" y="14188"/>
                </a:moveTo>
                <a:cubicBezTo>
                  <a:pt x="2906" y="14160"/>
                  <a:pt x="3037" y="14084"/>
                  <a:pt x="3125" y="14064"/>
                </a:cubicBezTo>
                <a:cubicBezTo>
                  <a:pt x="3335" y="14016"/>
                  <a:pt x="3580" y="13957"/>
                  <a:pt x="3795" y="13965"/>
                </a:cubicBezTo>
                <a:cubicBezTo>
                  <a:pt x="4061" y="13975"/>
                  <a:pt x="4320" y="13985"/>
                  <a:pt x="4589" y="13965"/>
                </a:cubicBezTo>
                <a:cubicBezTo>
                  <a:pt x="4836" y="13947"/>
                  <a:pt x="5087" y="13941"/>
                  <a:pt x="5333" y="13915"/>
                </a:cubicBezTo>
                <a:cubicBezTo>
                  <a:pt x="5615" y="13886"/>
                  <a:pt x="5894" y="13876"/>
                  <a:pt x="6176" y="13841"/>
                </a:cubicBezTo>
                <a:cubicBezTo>
                  <a:pt x="6474" y="13804"/>
                  <a:pt x="6771" y="13791"/>
                  <a:pt x="7069" y="13767"/>
                </a:cubicBezTo>
                <a:cubicBezTo>
                  <a:pt x="7311" y="13748"/>
                  <a:pt x="7546" y="13742"/>
                  <a:pt x="7789" y="13742"/>
                </a:cubicBezTo>
                <a:cubicBezTo>
                  <a:pt x="7999" y="13742"/>
                  <a:pt x="8202" y="13755"/>
                  <a:pt x="8409" y="13767"/>
                </a:cubicBezTo>
                <a:cubicBezTo>
                  <a:pt x="8549" y="13775"/>
                  <a:pt x="8884" y="13823"/>
                  <a:pt x="9004" y="13742"/>
                </a:cubicBezTo>
                <a:cubicBezTo>
                  <a:pt x="9115" y="13667"/>
                  <a:pt x="9004" y="13810"/>
                  <a:pt x="9029" y="13643"/>
                </a:cubicBezTo>
              </a:path>
              <a:path w="6227" h="546">
                <a:moveTo>
                  <a:pt x="8260" y="13915"/>
                </a:moveTo>
                <a:cubicBezTo>
                  <a:pt x="8182" y="13885"/>
                  <a:pt x="8139" y="13949"/>
                  <a:pt x="8111" y="14039"/>
                </a:cubicBezTo>
                <a:cubicBezTo>
                  <a:pt x="8090" y="14109"/>
                  <a:pt x="8123" y="14190"/>
                  <a:pt x="8210" y="14163"/>
                </a:cubicBezTo>
                <a:cubicBezTo>
                  <a:pt x="8278" y="14142"/>
                  <a:pt x="8371" y="14040"/>
                  <a:pt x="8359" y="13965"/>
                </a:cubicBezTo>
                <a:cubicBezTo>
                  <a:pt x="8354" y="13931"/>
                  <a:pt x="8284" y="13897"/>
                  <a:pt x="8260" y="138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143080" y="5126040"/>
            <a:ext cx="179280" cy="231840"/>
          </a:xfrm>
          <a:custGeom>
            <a:avLst/>
            <a:gdLst/>
            <a:ahLst/>
            <a:rect l="l" t="t" r="r" b="b"/>
            <a:pathLst>
              <a:path w="497" h="646">
                <a:moveTo>
                  <a:pt x="5953" y="14312"/>
                </a:moveTo>
                <a:cubicBezTo>
                  <a:pt x="6079" y="14312"/>
                  <a:pt x="6199" y="14260"/>
                  <a:pt x="6325" y="14238"/>
                </a:cubicBezTo>
                <a:cubicBezTo>
                  <a:pt x="6333" y="14238"/>
                  <a:pt x="6342" y="14238"/>
                  <a:pt x="6350" y="14238"/>
                </a:cubicBezTo>
                <a:cubicBezTo>
                  <a:pt x="6273" y="14467"/>
                  <a:pt x="6153" y="14600"/>
                  <a:pt x="6003" y="14784"/>
                </a:cubicBezTo>
                <a:cubicBezTo>
                  <a:pt x="5986" y="14809"/>
                  <a:pt x="5970" y="14833"/>
                  <a:pt x="5953" y="14858"/>
                </a:cubicBezTo>
                <a:cubicBezTo>
                  <a:pt x="5972" y="14916"/>
                  <a:pt x="6228" y="14842"/>
                  <a:pt x="6276" y="14833"/>
                </a:cubicBezTo>
                <a:cubicBezTo>
                  <a:pt x="6356" y="14819"/>
                  <a:pt x="6383" y="14808"/>
                  <a:pt x="6449" y="148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76240" y="5205240"/>
            <a:ext cx="108000" cy="108000"/>
          </a:xfrm>
          <a:custGeom>
            <a:avLst/>
            <a:gdLst/>
            <a:ahLst/>
            <a:rect l="l" t="t" r="r" b="b"/>
            <a:pathLst>
              <a:path w="299" h="299">
                <a:moveTo>
                  <a:pt x="4961" y="14536"/>
                </a:moveTo>
                <a:cubicBezTo>
                  <a:pt x="4892" y="14536"/>
                  <a:pt x="5124" y="14490"/>
                  <a:pt x="5135" y="14486"/>
                </a:cubicBezTo>
                <a:cubicBezTo>
                  <a:pt x="5175" y="14466"/>
                  <a:pt x="5181" y="14457"/>
                  <a:pt x="5209" y="14461"/>
                </a:cubicBezTo>
              </a:path>
              <a:path w="299" h="299">
                <a:moveTo>
                  <a:pt x="4961" y="14734"/>
                </a:moveTo>
                <a:cubicBezTo>
                  <a:pt x="4953" y="14742"/>
                  <a:pt x="4944" y="14751"/>
                  <a:pt x="4936" y="14759"/>
                </a:cubicBezTo>
                <a:cubicBezTo>
                  <a:pt x="5033" y="14759"/>
                  <a:pt x="5115" y="14727"/>
                  <a:pt x="5209" y="14709"/>
                </a:cubicBezTo>
                <a:cubicBezTo>
                  <a:pt x="5245" y="14702"/>
                  <a:pt x="5234" y="14670"/>
                  <a:pt x="5234" y="147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54080" y="4857840"/>
            <a:ext cx="81000" cy="27000"/>
          </a:xfrm>
          <a:custGeom>
            <a:avLst/>
            <a:gdLst/>
            <a:ahLst/>
            <a:rect l="l" t="t" r="r" b="b"/>
            <a:pathLst>
              <a:path w="224" h="75">
                <a:moveTo>
                  <a:pt x="2927" y="13568"/>
                </a:moveTo>
                <a:cubicBezTo>
                  <a:pt x="3009" y="13524"/>
                  <a:pt x="3057" y="13503"/>
                  <a:pt x="3150" y="13494"/>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7" name=""/>
          <p:cNvSpPr/>
          <p:nvPr/>
        </p:nvSpPr>
        <p:spPr>
          <a:xfrm>
            <a:off x="1125360" y="4205160"/>
            <a:ext cx="473400" cy="1251000"/>
          </a:xfrm>
          <a:custGeom>
            <a:avLst/>
            <a:gdLst/>
            <a:ahLst/>
            <a:rect l="l" t="t" r="r" b="b"/>
            <a:pathLst>
              <a:path w="1316" h="3474">
                <a:moveTo>
                  <a:pt x="3349" y="13345"/>
                </a:moveTo>
                <a:cubicBezTo>
                  <a:pt x="3430" y="13328"/>
                  <a:pt x="3481" y="13249"/>
                  <a:pt x="3572" y="13271"/>
                </a:cubicBezTo>
                <a:cubicBezTo>
                  <a:pt x="3619" y="13282"/>
                  <a:pt x="3504" y="13457"/>
                  <a:pt x="3497" y="13469"/>
                </a:cubicBezTo>
                <a:cubicBezTo>
                  <a:pt x="3489" y="13477"/>
                  <a:pt x="3481" y="13486"/>
                  <a:pt x="3473" y="13494"/>
                </a:cubicBezTo>
                <a:cubicBezTo>
                  <a:pt x="3584" y="13478"/>
                  <a:pt x="3700" y="13460"/>
                  <a:pt x="3671" y="13643"/>
                </a:cubicBezTo>
                <a:cubicBezTo>
                  <a:pt x="3646" y="13801"/>
                  <a:pt x="3501" y="13758"/>
                  <a:pt x="3423" y="13692"/>
                </a:cubicBezTo>
              </a:path>
              <a:path w="1316" h="3474">
                <a:moveTo>
                  <a:pt x="3894" y="13221"/>
                </a:moveTo>
                <a:cubicBezTo>
                  <a:pt x="3879" y="13378"/>
                  <a:pt x="3851" y="13490"/>
                  <a:pt x="3919" y="13643"/>
                </a:cubicBezTo>
                <a:cubicBezTo>
                  <a:pt x="4018" y="13866"/>
                  <a:pt x="4146" y="13611"/>
                  <a:pt x="4192" y="13519"/>
                </a:cubicBezTo>
                <a:cubicBezTo>
                  <a:pt x="4061" y="13322"/>
                  <a:pt x="3997" y="13612"/>
                  <a:pt x="3969" y="13717"/>
                </a:cubicBezTo>
              </a:path>
              <a:path w="1316" h="3474">
                <a:moveTo>
                  <a:pt x="3646" y="12204"/>
                </a:moveTo>
                <a:cubicBezTo>
                  <a:pt x="3654" y="12196"/>
                  <a:pt x="3663" y="12187"/>
                  <a:pt x="3671" y="12179"/>
                </a:cubicBezTo>
                <a:cubicBezTo>
                  <a:pt x="3636" y="12191"/>
                  <a:pt x="3646" y="12186"/>
                  <a:pt x="3646" y="12229"/>
                </a:cubicBezTo>
                <a:cubicBezTo>
                  <a:pt x="3623" y="12237"/>
                  <a:pt x="3607" y="12270"/>
                  <a:pt x="3597" y="12303"/>
                </a:cubicBezTo>
                <a:cubicBezTo>
                  <a:pt x="3585" y="12341"/>
                  <a:pt x="3575" y="12371"/>
                  <a:pt x="3547" y="12402"/>
                </a:cubicBezTo>
                <a:cubicBezTo>
                  <a:pt x="3514" y="12439"/>
                  <a:pt x="3522" y="12487"/>
                  <a:pt x="3497" y="12526"/>
                </a:cubicBezTo>
                <a:cubicBezTo>
                  <a:pt x="3474" y="12561"/>
                  <a:pt x="3464" y="12589"/>
                  <a:pt x="3448" y="12626"/>
                </a:cubicBezTo>
                <a:cubicBezTo>
                  <a:pt x="3428" y="12666"/>
                  <a:pt x="3419" y="12672"/>
                  <a:pt x="3423" y="12700"/>
                </a:cubicBezTo>
                <a:cubicBezTo>
                  <a:pt x="3394" y="12720"/>
                  <a:pt x="3402" y="12730"/>
                  <a:pt x="3373" y="12750"/>
                </a:cubicBezTo>
                <a:cubicBezTo>
                  <a:pt x="3364" y="12786"/>
                  <a:pt x="3347" y="12840"/>
                  <a:pt x="3324" y="12874"/>
                </a:cubicBezTo>
                <a:cubicBezTo>
                  <a:pt x="3289" y="12925"/>
                  <a:pt x="3224" y="12992"/>
                  <a:pt x="3200" y="13047"/>
                </a:cubicBezTo>
                <a:cubicBezTo>
                  <a:pt x="3187" y="13077"/>
                  <a:pt x="3160" y="13116"/>
                  <a:pt x="3150" y="13146"/>
                </a:cubicBezTo>
                <a:cubicBezTo>
                  <a:pt x="3137" y="13186"/>
                  <a:pt x="3138" y="13156"/>
                  <a:pt x="3125" y="13196"/>
                </a:cubicBezTo>
              </a:path>
              <a:path w="1316" h="3474">
                <a:moveTo>
                  <a:pt x="3448" y="11683"/>
                </a:moveTo>
                <a:cubicBezTo>
                  <a:pt x="3418" y="11693"/>
                  <a:pt x="3267" y="11719"/>
                  <a:pt x="3249" y="11733"/>
                </a:cubicBezTo>
                <a:cubicBezTo>
                  <a:pt x="3203" y="11770"/>
                  <a:pt x="3239" y="11849"/>
                  <a:pt x="3225" y="11906"/>
                </a:cubicBezTo>
                <a:cubicBezTo>
                  <a:pt x="3225" y="11931"/>
                  <a:pt x="3225" y="11939"/>
                  <a:pt x="3249" y="11931"/>
                </a:cubicBezTo>
                <a:cubicBezTo>
                  <a:pt x="3258" y="11905"/>
                  <a:pt x="3311" y="11872"/>
                  <a:pt x="3349" y="11857"/>
                </a:cubicBezTo>
                <a:cubicBezTo>
                  <a:pt x="3391" y="11840"/>
                  <a:pt x="3421" y="11832"/>
                  <a:pt x="3473" y="11832"/>
                </a:cubicBezTo>
                <a:cubicBezTo>
                  <a:pt x="3511" y="11832"/>
                  <a:pt x="3538" y="11838"/>
                  <a:pt x="3547" y="11881"/>
                </a:cubicBezTo>
                <a:cubicBezTo>
                  <a:pt x="3566" y="11969"/>
                  <a:pt x="3515" y="12019"/>
                  <a:pt x="3448" y="12055"/>
                </a:cubicBezTo>
                <a:cubicBezTo>
                  <a:pt x="3399" y="12081"/>
                  <a:pt x="3376" y="12080"/>
                  <a:pt x="3324" y="12080"/>
                </a:cubicBezTo>
                <a:cubicBezTo>
                  <a:pt x="3280" y="12080"/>
                  <a:pt x="3284" y="12081"/>
                  <a:pt x="3249" y="12055"/>
                </a:cubicBezTo>
              </a:path>
              <a:path w="1316" h="3474">
                <a:moveTo>
                  <a:pt x="3746" y="12105"/>
                </a:moveTo>
                <a:cubicBezTo>
                  <a:pt x="3746" y="12046"/>
                  <a:pt x="3726" y="12170"/>
                  <a:pt x="3721" y="12229"/>
                </a:cubicBezTo>
                <a:cubicBezTo>
                  <a:pt x="3712" y="12325"/>
                  <a:pt x="3746" y="12407"/>
                  <a:pt x="3746" y="12502"/>
                </a:cubicBezTo>
                <a:cubicBezTo>
                  <a:pt x="3746" y="12511"/>
                  <a:pt x="3746" y="12592"/>
                  <a:pt x="3746" y="12526"/>
                </a:cubicBezTo>
                <a:cubicBezTo>
                  <a:pt x="3746" y="12394"/>
                  <a:pt x="3746" y="12261"/>
                  <a:pt x="3746" y="12129"/>
                </a:cubicBezTo>
                <a:cubicBezTo>
                  <a:pt x="3746" y="12117"/>
                  <a:pt x="3746" y="12013"/>
                  <a:pt x="3746" y="12080"/>
                </a:cubicBezTo>
                <a:cubicBezTo>
                  <a:pt x="3746" y="12229"/>
                  <a:pt x="3746" y="12377"/>
                  <a:pt x="3746" y="12526"/>
                </a:cubicBezTo>
                <a:cubicBezTo>
                  <a:pt x="3746" y="12369"/>
                  <a:pt x="3746" y="12212"/>
                  <a:pt x="3746" y="12055"/>
                </a:cubicBezTo>
              </a:path>
              <a:path w="1316" h="3474">
                <a:moveTo>
                  <a:pt x="4291" y="14238"/>
                </a:moveTo>
                <a:cubicBezTo>
                  <a:pt x="4207" y="14252"/>
                  <a:pt x="4129" y="14282"/>
                  <a:pt x="4043" y="14288"/>
                </a:cubicBezTo>
                <a:cubicBezTo>
                  <a:pt x="4018" y="14288"/>
                  <a:pt x="4010" y="14288"/>
                  <a:pt x="3994" y="14288"/>
                </a:cubicBezTo>
                <a:cubicBezTo>
                  <a:pt x="4164" y="14432"/>
                  <a:pt x="4220" y="14333"/>
                  <a:pt x="4043" y="14536"/>
                </a:cubicBezTo>
                <a:cubicBezTo>
                  <a:pt x="4096" y="14462"/>
                  <a:pt x="4164" y="14421"/>
                  <a:pt x="4266" y="14436"/>
                </a:cubicBezTo>
                <a:cubicBezTo>
                  <a:pt x="4363" y="14450"/>
                  <a:pt x="4440" y="14589"/>
                  <a:pt x="4440" y="14684"/>
                </a:cubicBezTo>
                <a:cubicBezTo>
                  <a:pt x="4440" y="14837"/>
                  <a:pt x="4284" y="14869"/>
                  <a:pt x="4167" y="14883"/>
                </a:cubicBezTo>
                <a:cubicBezTo>
                  <a:pt x="4047" y="14898"/>
                  <a:pt x="4044" y="14821"/>
                  <a:pt x="3969" y="14784"/>
                </a:cubicBezTo>
              </a:path>
              <a:path w="1316" h="3474">
                <a:moveTo>
                  <a:pt x="3522" y="14486"/>
                </a:moveTo>
                <a:cubicBezTo>
                  <a:pt x="3522" y="14434"/>
                  <a:pt x="3520" y="14412"/>
                  <a:pt x="3547" y="14387"/>
                </a:cubicBezTo>
                <a:cubicBezTo>
                  <a:pt x="3563" y="14372"/>
                  <a:pt x="3660" y="14283"/>
                  <a:pt x="3696" y="14312"/>
                </a:cubicBezTo>
                <a:cubicBezTo>
                  <a:pt x="3706" y="14320"/>
                  <a:pt x="3763" y="14385"/>
                  <a:pt x="3770" y="14412"/>
                </a:cubicBezTo>
                <a:cubicBezTo>
                  <a:pt x="3791" y="14492"/>
                  <a:pt x="3771" y="14555"/>
                  <a:pt x="3721" y="14610"/>
                </a:cubicBezTo>
                <a:cubicBezTo>
                  <a:pt x="3679" y="14656"/>
                  <a:pt x="3608" y="14691"/>
                  <a:pt x="3572" y="14734"/>
                </a:cubicBezTo>
                <a:cubicBezTo>
                  <a:pt x="3532" y="14781"/>
                  <a:pt x="3501" y="14874"/>
                  <a:pt x="3497" y="14932"/>
                </a:cubicBezTo>
                <a:cubicBezTo>
                  <a:pt x="3492" y="15010"/>
                  <a:pt x="3473" y="15073"/>
                  <a:pt x="3473" y="15156"/>
                </a:cubicBezTo>
                <a:cubicBezTo>
                  <a:pt x="3505" y="15100"/>
                  <a:pt x="3508" y="15029"/>
                  <a:pt x="3572" y="14982"/>
                </a:cubicBezTo>
                <a:cubicBezTo>
                  <a:pt x="3588" y="14974"/>
                  <a:pt x="3605" y="14965"/>
                  <a:pt x="3621" y="14957"/>
                </a:cubicBezTo>
                <a:cubicBezTo>
                  <a:pt x="3647" y="15021"/>
                  <a:pt x="3699" y="15006"/>
                  <a:pt x="3721" y="15032"/>
                </a:cubicBezTo>
                <a:cubicBezTo>
                  <a:pt x="3732" y="15045"/>
                  <a:pt x="3755" y="15077"/>
                  <a:pt x="3795" y="15056"/>
                </a:cubicBezTo>
                <a:cubicBezTo>
                  <a:pt x="3820" y="15032"/>
                  <a:pt x="3829" y="15024"/>
                  <a:pt x="3845" y="150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678040" y="1598760"/>
            <a:ext cx="81000" cy="9360"/>
          </a:xfrm>
          <a:custGeom>
            <a:avLst/>
            <a:gdLst/>
            <a:ahLst/>
            <a:rect l="l" t="t" r="r" b="b"/>
            <a:pathLst>
              <a:path w="225" h="26">
                <a:moveTo>
                  <a:pt x="7441" y="4465"/>
                </a:moveTo>
                <a:cubicBezTo>
                  <a:pt x="7501" y="4465"/>
                  <a:pt x="7542" y="4443"/>
                  <a:pt x="7590" y="4440"/>
                </a:cubicBezTo>
                <a:cubicBezTo>
                  <a:pt x="7615" y="4440"/>
                  <a:pt x="7640" y="4440"/>
                  <a:pt x="7665" y="4440"/>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9" name=""/>
          <p:cNvSpPr/>
          <p:nvPr/>
        </p:nvSpPr>
        <p:spPr>
          <a:xfrm>
            <a:off x="2946240" y="1509840"/>
            <a:ext cx="108000" cy="177840"/>
          </a:xfrm>
          <a:custGeom>
            <a:avLst/>
            <a:gdLst/>
            <a:ahLst/>
            <a:rect l="l" t="t" r="r" b="b"/>
            <a:pathLst>
              <a:path w="298" h="497">
                <a:moveTo>
                  <a:pt x="8359" y="4217"/>
                </a:moveTo>
                <a:cubicBezTo>
                  <a:pt x="8462" y="4191"/>
                  <a:pt x="8490" y="4413"/>
                  <a:pt x="8458" y="4514"/>
                </a:cubicBezTo>
                <a:cubicBezTo>
                  <a:pt x="8406" y="4682"/>
                  <a:pt x="8211" y="4764"/>
                  <a:pt x="8210" y="4564"/>
                </a:cubicBezTo>
                <a:cubicBezTo>
                  <a:pt x="8318" y="4492"/>
                  <a:pt x="8345" y="4531"/>
                  <a:pt x="8434" y="4614"/>
                </a:cubicBezTo>
                <a:cubicBezTo>
                  <a:pt x="8456" y="4636"/>
                  <a:pt x="8461" y="4644"/>
                  <a:pt x="8483" y="46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116160" y="1482840"/>
            <a:ext cx="108000" cy="179280"/>
          </a:xfrm>
          <a:custGeom>
            <a:avLst/>
            <a:gdLst/>
            <a:ahLst/>
            <a:rect l="l" t="t" r="r" b="b"/>
            <a:pathLst>
              <a:path w="298" h="497">
                <a:moveTo>
                  <a:pt x="8905" y="4118"/>
                </a:moveTo>
                <a:cubicBezTo>
                  <a:pt x="8840" y="4118"/>
                  <a:pt x="8785" y="4128"/>
                  <a:pt x="8731" y="4142"/>
                </a:cubicBezTo>
                <a:cubicBezTo>
                  <a:pt x="8702" y="4150"/>
                  <a:pt x="8671" y="4200"/>
                  <a:pt x="8657" y="4242"/>
                </a:cubicBezTo>
                <a:cubicBezTo>
                  <a:pt x="8657" y="4266"/>
                  <a:pt x="8657" y="4275"/>
                  <a:pt x="8657" y="4291"/>
                </a:cubicBezTo>
                <a:cubicBezTo>
                  <a:pt x="8722" y="4324"/>
                  <a:pt x="8819" y="4284"/>
                  <a:pt x="8880" y="4316"/>
                </a:cubicBezTo>
                <a:cubicBezTo>
                  <a:pt x="9022" y="4391"/>
                  <a:pt x="8920" y="4501"/>
                  <a:pt x="8830" y="4564"/>
                </a:cubicBezTo>
                <a:cubicBezTo>
                  <a:pt x="8749" y="4605"/>
                  <a:pt x="8737" y="4621"/>
                  <a:pt x="8682" y="46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017800" y="1946160"/>
            <a:ext cx="63360" cy="98640"/>
          </a:xfrm>
          <a:custGeom>
            <a:avLst/>
            <a:gdLst/>
            <a:ahLst/>
            <a:rect l="l" t="t" r="r" b="b"/>
            <a:pathLst>
              <a:path w="174" h="274">
                <a:moveTo>
                  <a:pt x="5730" y="5432"/>
                </a:moveTo>
                <a:cubicBezTo>
                  <a:pt x="5730" y="5424"/>
                  <a:pt x="5730" y="5415"/>
                  <a:pt x="5730" y="5407"/>
                </a:cubicBezTo>
                <a:cubicBezTo>
                  <a:pt x="5653" y="5407"/>
                  <a:pt x="5620" y="5484"/>
                  <a:pt x="5606" y="5556"/>
                </a:cubicBezTo>
                <a:cubicBezTo>
                  <a:pt x="5591" y="5630"/>
                  <a:pt x="5618" y="5627"/>
                  <a:pt x="5631" y="5680"/>
                </a:cubicBezTo>
                <a:cubicBezTo>
                  <a:pt x="5713" y="5629"/>
                  <a:pt x="5760" y="5583"/>
                  <a:pt x="5779" y="5482"/>
                </a:cubicBezTo>
                <a:cubicBezTo>
                  <a:pt x="5792" y="5414"/>
                  <a:pt x="5757" y="5417"/>
                  <a:pt x="5705" y="54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670040" y="2125800"/>
            <a:ext cx="125280" cy="196560"/>
          </a:xfrm>
          <a:custGeom>
            <a:avLst/>
            <a:gdLst/>
            <a:ahLst/>
            <a:rect l="l" t="t" r="r" b="b"/>
            <a:pathLst>
              <a:path w="349" h="546">
                <a:moveTo>
                  <a:pt x="4638" y="5904"/>
                </a:moveTo>
                <a:cubicBezTo>
                  <a:pt x="4734" y="6054"/>
                  <a:pt x="4801" y="6227"/>
                  <a:pt x="4911" y="6375"/>
                </a:cubicBezTo>
                <a:cubicBezTo>
                  <a:pt x="4958" y="6439"/>
                  <a:pt x="4950" y="6448"/>
                  <a:pt x="4986" y="64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8320" y="2098800"/>
            <a:ext cx="44640" cy="357120"/>
          </a:xfrm>
          <a:custGeom>
            <a:avLst/>
            <a:gdLst/>
            <a:ahLst/>
            <a:rect l="l" t="t" r="r" b="b"/>
            <a:pathLst>
              <a:path w="125" h="993">
                <a:moveTo>
                  <a:pt x="5035" y="5829"/>
                </a:moveTo>
                <a:cubicBezTo>
                  <a:pt x="5035" y="6026"/>
                  <a:pt x="4988" y="6206"/>
                  <a:pt x="4961" y="6400"/>
                </a:cubicBezTo>
                <a:cubicBezTo>
                  <a:pt x="4942" y="6535"/>
                  <a:pt x="4911" y="6683"/>
                  <a:pt x="4911" y="68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41720" y="2054160"/>
            <a:ext cx="115560" cy="9720"/>
          </a:xfrm>
          <a:custGeom>
            <a:avLst/>
            <a:gdLst/>
            <a:ahLst/>
            <a:rect l="l" t="t" r="r" b="b"/>
            <a:pathLst>
              <a:path w="323" h="26">
                <a:moveTo>
                  <a:pt x="6251" y="5730"/>
                </a:moveTo>
                <a:cubicBezTo>
                  <a:pt x="6180" y="5730"/>
                  <a:pt x="6421" y="5705"/>
                  <a:pt x="6424" y="5705"/>
                </a:cubicBezTo>
                <a:cubicBezTo>
                  <a:pt x="6463" y="5701"/>
                  <a:pt x="6508" y="5705"/>
                  <a:pt x="6548" y="5705"/>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5" name=""/>
          <p:cNvSpPr/>
          <p:nvPr/>
        </p:nvSpPr>
        <p:spPr>
          <a:xfrm>
            <a:off x="2241720" y="2133720"/>
            <a:ext cx="125280" cy="9360"/>
          </a:xfrm>
          <a:custGeom>
            <a:avLst/>
            <a:gdLst/>
            <a:ahLst/>
            <a:rect l="l" t="t" r="r" b="b"/>
            <a:pathLst>
              <a:path w="348" h="26">
                <a:moveTo>
                  <a:pt x="6226" y="5953"/>
                </a:moveTo>
                <a:cubicBezTo>
                  <a:pt x="6345" y="5953"/>
                  <a:pt x="6456" y="5936"/>
                  <a:pt x="6573" y="5928"/>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6" name=""/>
          <p:cNvSpPr/>
          <p:nvPr/>
        </p:nvSpPr>
        <p:spPr>
          <a:xfrm>
            <a:off x="2911320" y="1224000"/>
            <a:ext cx="204840" cy="231840"/>
          </a:xfrm>
          <a:custGeom>
            <a:avLst/>
            <a:gdLst/>
            <a:ahLst/>
            <a:rect l="l" t="t" r="r" b="b"/>
            <a:pathLst>
              <a:path w="572" h="646">
                <a:moveTo>
                  <a:pt x="8111" y="3398"/>
                </a:moveTo>
                <a:cubicBezTo>
                  <a:pt x="8091" y="3398"/>
                  <a:pt x="8349" y="3706"/>
                  <a:pt x="8384" y="3746"/>
                </a:cubicBezTo>
                <a:cubicBezTo>
                  <a:pt x="8450" y="3821"/>
                  <a:pt x="8631" y="3939"/>
                  <a:pt x="8657" y="40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28960" y="1009800"/>
            <a:ext cx="108000" cy="169560"/>
          </a:xfrm>
          <a:custGeom>
            <a:avLst/>
            <a:gdLst/>
            <a:ahLst/>
            <a:rect l="l" t="t" r="r" b="b"/>
            <a:pathLst>
              <a:path w="299" h="472">
                <a:moveTo>
                  <a:pt x="8210" y="2853"/>
                </a:moveTo>
                <a:cubicBezTo>
                  <a:pt x="8163" y="2837"/>
                  <a:pt x="8192" y="2808"/>
                  <a:pt x="8235" y="2803"/>
                </a:cubicBezTo>
                <a:cubicBezTo>
                  <a:pt x="8275" y="2799"/>
                  <a:pt x="8328" y="2833"/>
                  <a:pt x="8334" y="2853"/>
                </a:cubicBezTo>
                <a:cubicBezTo>
                  <a:pt x="8352" y="2907"/>
                  <a:pt x="8364" y="2978"/>
                  <a:pt x="8310" y="3026"/>
                </a:cubicBezTo>
                <a:cubicBezTo>
                  <a:pt x="8280" y="3053"/>
                  <a:pt x="8262" y="3076"/>
                  <a:pt x="8210" y="3076"/>
                </a:cubicBezTo>
                <a:cubicBezTo>
                  <a:pt x="8239" y="3047"/>
                  <a:pt x="8256" y="3003"/>
                  <a:pt x="8285" y="3001"/>
                </a:cubicBezTo>
                <a:cubicBezTo>
                  <a:pt x="8353" y="2996"/>
                  <a:pt x="8414" y="3000"/>
                  <a:pt x="8434" y="3076"/>
                </a:cubicBezTo>
                <a:cubicBezTo>
                  <a:pt x="8459" y="3169"/>
                  <a:pt x="8369" y="3255"/>
                  <a:pt x="8285" y="3274"/>
                </a:cubicBezTo>
                <a:cubicBezTo>
                  <a:pt x="8259" y="3280"/>
                  <a:pt x="8120" y="3291"/>
                  <a:pt x="8136" y="3249"/>
                </a:cubicBezTo>
                <a:cubicBezTo>
                  <a:pt x="8144" y="3241"/>
                  <a:pt x="8153" y="3233"/>
                  <a:pt x="8161" y="32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116160" y="1125360"/>
            <a:ext cx="19080" cy="115920"/>
          </a:xfrm>
          <a:custGeom>
            <a:avLst/>
            <a:gdLst/>
            <a:ahLst/>
            <a:rect l="l" t="t" r="r" b="b"/>
            <a:pathLst>
              <a:path w="50" h="324">
                <a:moveTo>
                  <a:pt x="8682" y="3175"/>
                </a:moveTo>
                <a:cubicBezTo>
                  <a:pt x="8675" y="3154"/>
                  <a:pt x="8657" y="3107"/>
                  <a:pt x="8657" y="3150"/>
                </a:cubicBezTo>
                <a:cubicBezTo>
                  <a:pt x="8657" y="3239"/>
                  <a:pt x="8677" y="3313"/>
                  <a:pt x="8682" y="3398"/>
                </a:cubicBezTo>
                <a:cubicBezTo>
                  <a:pt x="8682" y="3439"/>
                  <a:pt x="8673" y="3456"/>
                  <a:pt x="8706" y="34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52880" y="1911240"/>
            <a:ext cx="133200" cy="241560"/>
          </a:xfrm>
          <a:custGeom>
            <a:avLst/>
            <a:gdLst/>
            <a:ahLst/>
            <a:rect l="l" t="t" r="r" b="b"/>
            <a:pathLst>
              <a:path w="373" h="671">
                <a:moveTo>
                  <a:pt x="9029" y="5308"/>
                </a:moveTo>
                <a:cubicBezTo>
                  <a:pt x="8979" y="5322"/>
                  <a:pt x="8790" y="5358"/>
                  <a:pt x="8756" y="5383"/>
                </a:cubicBezTo>
                <a:cubicBezTo>
                  <a:pt x="8693" y="5429"/>
                  <a:pt x="8781" y="5528"/>
                  <a:pt x="8781" y="5606"/>
                </a:cubicBezTo>
                <a:cubicBezTo>
                  <a:pt x="8773" y="5606"/>
                  <a:pt x="8764" y="5606"/>
                  <a:pt x="8756" y="5606"/>
                </a:cubicBezTo>
                <a:cubicBezTo>
                  <a:pt x="8843" y="5584"/>
                  <a:pt x="8865" y="5469"/>
                  <a:pt x="8979" y="5482"/>
                </a:cubicBezTo>
                <a:cubicBezTo>
                  <a:pt x="9215" y="5508"/>
                  <a:pt x="9107" y="5802"/>
                  <a:pt x="9004" y="5904"/>
                </a:cubicBezTo>
                <a:cubicBezTo>
                  <a:pt x="8915" y="5993"/>
                  <a:pt x="8849" y="5993"/>
                  <a:pt x="8756"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973240" y="1990800"/>
            <a:ext cx="19080" cy="260280"/>
          </a:xfrm>
          <a:custGeom>
            <a:avLst/>
            <a:gdLst/>
            <a:ahLst/>
            <a:rect l="l" t="t" r="r" b="b"/>
            <a:pathLst>
              <a:path w="51" h="721">
                <a:moveTo>
                  <a:pt x="8285" y="5531"/>
                </a:moveTo>
                <a:cubicBezTo>
                  <a:pt x="8224" y="5551"/>
                  <a:pt x="8308" y="5936"/>
                  <a:pt x="8310" y="5978"/>
                </a:cubicBezTo>
                <a:cubicBezTo>
                  <a:pt x="8316" y="6085"/>
                  <a:pt x="8310" y="6309"/>
                  <a:pt x="8310" y="62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732040" y="2017800"/>
            <a:ext cx="19080" cy="349200"/>
          </a:xfrm>
          <a:custGeom>
            <a:avLst/>
            <a:gdLst/>
            <a:ahLst/>
            <a:rect l="l" t="t" r="r" b="b"/>
            <a:pathLst>
              <a:path w="51" h="968">
                <a:moveTo>
                  <a:pt x="7615" y="5606"/>
                </a:moveTo>
                <a:cubicBezTo>
                  <a:pt x="7442" y="5664"/>
                  <a:pt x="7609" y="5945"/>
                  <a:pt x="7615" y="6127"/>
                </a:cubicBezTo>
                <a:cubicBezTo>
                  <a:pt x="7620" y="6284"/>
                  <a:pt x="7627" y="6420"/>
                  <a:pt x="7640" y="65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705120" y="1795320"/>
            <a:ext cx="135000" cy="169920"/>
          </a:xfrm>
          <a:custGeom>
            <a:avLst/>
            <a:gdLst/>
            <a:ahLst/>
            <a:rect l="l" t="t" r="r" b="b"/>
            <a:pathLst>
              <a:path w="373" h="472">
                <a:moveTo>
                  <a:pt x="10294" y="5333"/>
                </a:moveTo>
                <a:cubicBezTo>
                  <a:pt x="10334" y="5373"/>
                  <a:pt x="10382" y="5445"/>
                  <a:pt x="10418" y="5457"/>
                </a:cubicBezTo>
                <a:cubicBezTo>
                  <a:pt x="10495" y="5292"/>
                  <a:pt x="10574" y="5142"/>
                  <a:pt x="10666" y="49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098880" y="3116160"/>
            <a:ext cx="125280" cy="142920"/>
          </a:xfrm>
          <a:custGeom>
            <a:avLst/>
            <a:gdLst/>
            <a:ahLst/>
            <a:rect l="l" t="t" r="r" b="b"/>
            <a:pathLst>
              <a:path w="348" h="398">
                <a:moveTo>
                  <a:pt x="8905" y="8657"/>
                </a:moveTo>
                <a:cubicBezTo>
                  <a:pt x="8848" y="8657"/>
                  <a:pt x="8798" y="8644"/>
                  <a:pt x="8756" y="8682"/>
                </a:cubicBezTo>
                <a:cubicBezTo>
                  <a:pt x="8701" y="8732"/>
                  <a:pt x="8713" y="8752"/>
                  <a:pt x="8682" y="8806"/>
                </a:cubicBezTo>
                <a:cubicBezTo>
                  <a:pt x="8738" y="8828"/>
                  <a:pt x="8806" y="8787"/>
                  <a:pt x="8880" y="8806"/>
                </a:cubicBezTo>
                <a:cubicBezTo>
                  <a:pt x="9054" y="8850"/>
                  <a:pt x="8910" y="9028"/>
                  <a:pt x="8806" y="9054"/>
                </a:cubicBezTo>
                <a:cubicBezTo>
                  <a:pt x="8741" y="9070"/>
                  <a:pt x="8637" y="9059"/>
                  <a:pt x="8607"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705640" y="2759040"/>
            <a:ext cx="18720" cy="152280"/>
          </a:xfrm>
          <a:custGeom>
            <a:avLst/>
            <a:gdLst/>
            <a:ahLst/>
            <a:rect l="l" t="t" r="r" b="b"/>
            <a:pathLst>
              <a:path w="51" h="422">
                <a:moveTo>
                  <a:pt x="15900" y="7689"/>
                </a:moveTo>
                <a:cubicBezTo>
                  <a:pt x="15900" y="7614"/>
                  <a:pt x="15875" y="7962"/>
                  <a:pt x="15875" y="7962"/>
                </a:cubicBezTo>
                <a:cubicBezTo>
                  <a:pt x="15871" y="8013"/>
                  <a:pt x="15871" y="8176"/>
                  <a:pt x="15850" y="80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867280" y="2705040"/>
            <a:ext cx="125640" cy="189000"/>
          </a:xfrm>
          <a:custGeom>
            <a:avLst/>
            <a:gdLst/>
            <a:ahLst/>
            <a:rect l="l" t="t" r="r" b="b"/>
            <a:pathLst>
              <a:path w="348" h="522">
                <a:moveTo>
                  <a:pt x="16495" y="7516"/>
                </a:moveTo>
                <a:cubicBezTo>
                  <a:pt x="16455" y="7539"/>
                  <a:pt x="16395" y="7525"/>
                  <a:pt x="16371" y="7565"/>
                </a:cubicBezTo>
                <a:cubicBezTo>
                  <a:pt x="16339" y="7619"/>
                  <a:pt x="16313" y="7708"/>
                  <a:pt x="16297" y="7764"/>
                </a:cubicBezTo>
                <a:cubicBezTo>
                  <a:pt x="16406" y="7730"/>
                  <a:pt x="16578" y="7660"/>
                  <a:pt x="16644" y="7813"/>
                </a:cubicBezTo>
                <a:cubicBezTo>
                  <a:pt x="16735" y="8025"/>
                  <a:pt x="16408" y="8007"/>
                  <a:pt x="16321" y="79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214960" y="2973240"/>
            <a:ext cx="9360" cy="135000"/>
          </a:xfrm>
          <a:custGeom>
            <a:avLst/>
            <a:gdLst/>
            <a:ahLst/>
            <a:rect l="l" t="t" r="r" b="b"/>
            <a:pathLst>
              <a:path w="26" h="373">
                <a:moveTo>
                  <a:pt x="14511" y="8260"/>
                </a:moveTo>
                <a:cubicBezTo>
                  <a:pt x="14511" y="8371"/>
                  <a:pt x="14500" y="8479"/>
                  <a:pt x="14486" y="8582"/>
                </a:cubicBezTo>
                <a:cubicBezTo>
                  <a:pt x="14486" y="8599"/>
                  <a:pt x="14486" y="8615"/>
                  <a:pt x="14486"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97320" y="3044880"/>
            <a:ext cx="115920" cy="9360"/>
          </a:xfrm>
          <a:custGeom>
            <a:avLst/>
            <a:gdLst/>
            <a:ahLst/>
            <a:rect l="l" t="t" r="r" b="b"/>
            <a:pathLst>
              <a:path w="324" h="26">
                <a:moveTo>
                  <a:pt x="14436" y="8483"/>
                </a:moveTo>
                <a:cubicBezTo>
                  <a:pt x="14546" y="8465"/>
                  <a:pt x="14647" y="8458"/>
                  <a:pt x="14759" y="8458"/>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5473800" y="2982960"/>
            <a:ext cx="27000" cy="160200"/>
          </a:xfrm>
          <a:custGeom>
            <a:avLst/>
            <a:gdLst/>
            <a:ahLst/>
            <a:rect l="l" t="t" r="r" b="b"/>
            <a:pathLst>
              <a:path w="76" h="447">
                <a:moveTo>
                  <a:pt x="15280" y="8310"/>
                </a:moveTo>
                <a:cubicBezTo>
                  <a:pt x="15280" y="8271"/>
                  <a:pt x="15240" y="8613"/>
                  <a:pt x="15230" y="8657"/>
                </a:cubicBezTo>
                <a:cubicBezTo>
                  <a:pt x="15211" y="8714"/>
                  <a:pt x="15185" y="8739"/>
                  <a:pt x="15230" y="873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724360" y="2963880"/>
            <a:ext cx="17640" cy="162000"/>
          </a:xfrm>
          <a:custGeom>
            <a:avLst/>
            <a:gdLst/>
            <a:ahLst/>
            <a:rect l="l" t="t" r="r" b="b"/>
            <a:pathLst>
              <a:path w="50" h="448">
                <a:moveTo>
                  <a:pt x="15900" y="8285"/>
                </a:moveTo>
                <a:cubicBezTo>
                  <a:pt x="15923" y="8262"/>
                  <a:pt x="15931" y="8258"/>
                  <a:pt x="15925" y="8235"/>
                </a:cubicBezTo>
                <a:cubicBezTo>
                  <a:pt x="15987" y="8322"/>
                  <a:pt x="15949" y="8504"/>
                  <a:pt x="15949" y="8607"/>
                </a:cubicBezTo>
                <a:cubicBezTo>
                  <a:pt x="15949" y="8649"/>
                  <a:pt x="15949" y="8657"/>
                  <a:pt x="15949" y="86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11920" y="2990880"/>
            <a:ext cx="125280" cy="162000"/>
          </a:xfrm>
          <a:custGeom>
            <a:avLst/>
            <a:gdLst/>
            <a:ahLst/>
            <a:rect l="l" t="t" r="r" b="b"/>
            <a:pathLst>
              <a:path w="348" h="447">
                <a:moveTo>
                  <a:pt x="16594" y="8334"/>
                </a:moveTo>
                <a:cubicBezTo>
                  <a:pt x="16527" y="8268"/>
                  <a:pt x="16426" y="8517"/>
                  <a:pt x="16421" y="8582"/>
                </a:cubicBezTo>
                <a:cubicBezTo>
                  <a:pt x="16402" y="8804"/>
                  <a:pt x="16666" y="8799"/>
                  <a:pt x="16743" y="8632"/>
                </a:cubicBezTo>
                <a:cubicBezTo>
                  <a:pt x="16837" y="8428"/>
                  <a:pt x="16758" y="8350"/>
                  <a:pt x="16594" y="83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99040" y="3286080"/>
            <a:ext cx="1187640" cy="19080"/>
          </a:xfrm>
          <a:custGeom>
            <a:avLst/>
            <a:gdLst/>
            <a:ahLst/>
            <a:rect l="l" t="t" r="r" b="b"/>
            <a:pathLst>
              <a:path w="3300" h="51">
                <a:moveTo>
                  <a:pt x="14188" y="9178"/>
                </a:moveTo>
                <a:cubicBezTo>
                  <a:pt x="14337" y="9161"/>
                  <a:pt x="14435" y="9154"/>
                  <a:pt x="14585" y="9153"/>
                </a:cubicBezTo>
                <a:cubicBezTo>
                  <a:pt x="15164" y="9148"/>
                  <a:pt x="15741" y="9128"/>
                  <a:pt x="16321" y="9128"/>
                </a:cubicBezTo>
                <a:cubicBezTo>
                  <a:pt x="16685" y="9128"/>
                  <a:pt x="17028" y="9144"/>
                  <a:pt x="17388" y="9178"/>
                </a:cubicBezTo>
                <a:cubicBezTo>
                  <a:pt x="17429" y="9178"/>
                  <a:pt x="17437" y="9178"/>
                  <a:pt x="17462" y="9178"/>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2" name=""/>
          <p:cNvSpPr/>
          <p:nvPr/>
        </p:nvSpPr>
        <p:spPr>
          <a:xfrm>
            <a:off x="5973840" y="3340080"/>
            <a:ext cx="135000" cy="177840"/>
          </a:xfrm>
          <a:custGeom>
            <a:avLst/>
            <a:gdLst/>
            <a:ahLst/>
            <a:rect l="l" t="t" r="r" b="b"/>
            <a:pathLst>
              <a:path w="373" h="497">
                <a:moveTo>
                  <a:pt x="16867" y="9302"/>
                </a:moveTo>
                <a:cubicBezTo>
                  <a:pt x="16895" y="9302"/>
                  <a:pt x="16906" y="9300"/>
                  <a:pt x="16917" y="9277"/>
                </a:cubicBezTo>
                <a:cubicBezTo>
                  <a:pt x="16892" y="9284"/>
                  <a:pt x="16736" y="9310"/>
                  <a:pt x="16718" y="9327"/>
                </a:cubicBezTo>
                <a:cubicBezTo>
                  <a:pt x="16679" y="9364"/>
                  <a:pt x="16599" y="9484"/>
                  <a:pt x="16619" y="9550"/>
                </a:cubicBezTo>
                <a:cubicBezTo>
                  <a:pt x="16627" y="9550"/>
                  <a:pt x="16636" y="9550"/>
                  <a:pt x="16644" y="9550"/>
                </a:cubicBezTo>
                <a:cubicBezTo>
                  <a:pt x="16750" y="9491"/>
                  <a:pt x="16853" y="9406"/>
                  <a:pt x="16942" y="9550"/>
                </a:cubicBezTo>
                <a:cubicBezTo>
                  <a:pt x="17049" y="9724"/>
                  <a:pt x="16813" y="9784"/>
                  <a:pt x="16694" y="9773"/>
                </a:cubicBezTo>
                <a:cubicBezTo>
                  <a:pt x="16636" y="9754"/>
                  <a:pt x="16629" y="9745"/>
                  <a:pt x="16594" y="9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715000" y="3367080"/>
            <a:ext cx="125280" cy="169920"/>
          </a:xfrm>
          <a:custGeom>
            <a:avLst/>
            <a:gdLst/>
            <a:ahLst/>
            <a:rect l="l" t="t" r="r" b="b"/>
            <a:pathLst>
              <a:path w="348" h="473">
                <a:moveTo>
                  <a:pt x="16049" y="9401"/>
                </a:moveTo>
                <a:cubicBezTo>
                  <a:pt x="15990" y="9401"/>
                  <a:pt x="16138" y="9359"/>
                  <a:pt x="16173" y="9351"/>
                </a:cubicBezTo>
                <a:cubicBezTo>
                  <a:pt x="16203" y="9505"/>
                  <a:pt x="16145" y="9574"/>
                  <a:pt x="16024" y="9674"/>
                </a:cubicBezTo>
                <a:cubicBezTo>
                  <a:pt x="15939" y="9737"/>
                  <a:pt x="15919" y="9750"/>
                  <a:pt x="15875" y="9798"/>
                </a:cubicBezTo>
                <a:cubicBezTo>
                  <a:pt x="15893" y="9816"/>
                  <a:pt x="16100" y="9776"/>
                  <a:pt x="16173" y="9773"/>
                </a:cubicBezTo>
                <a:cubicBezTo>
                  <a:pt x="16197" y="9773"/>
                  <a:pt x="16206" y="9773"/>
                  <a:pt x="16222" y="97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18080" y="3367080"/>
            <a:ext cx="19080" cy="214200"/>
          </a:xfrm>
          <a:custGeom>
            <a:avLst/>
            <a:gdLst/>
            <a:ahLst/>
            <a:rect l="l" t="t" r="r" b="b"/>
            <a:pathLst>
              <a:path w="51" h="597">
                <a:moveTo>
                  <a:pt x="15354" y="9401"/>
                </a:moveTo>
                <a:cubicBezTo>
                  <a:pt x="15354" y="9376"/>
                  <a:pt x="15354" y="9368"/>
                  <a:pt x="15354" y="9351"/>
                </a:cubicBezTo>
                <a:cubicBezTo>
                  <a:pt x="15385" y="9428"/>
                  <a:pt x="15369" y="9644"/>
                  <a:pt x="15354" y="9748"/>
                </a:cubicBezTo>
                <a:cubicBezTo>
                  <a:pt x="15340" y="9848"/>
                  <a:pt x="15346" y="9781"/>
                  <a:pt x="15354" y="9847"/>
                </a:cubicBezTo>
                <a:cubicBezTo>
                  <a:pt x="15361" y="9903"/>
                  <a:pt x="15295" y="9927"/>
                  <a:pt x="15354" y="99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37000" y="2820960"/>
            <a:ext cx="222120" cy="171360"/>
          </a:xfrm>
          <a:custGeom>
            <a:avLst/>
            <a:gdLst/>
            <a:ahLst/>
            <a:rect l="l" t="t" r="r" b="b"/>
            <a:pathLst>
              <a:path w="621" h="473">
                <a:moveTo>
                  <a:pt x="9823" y="8186"/>
                </a:moveTo>
                <a:cubicBezTo>
                  <a:pt x="9823" y="8151"/>
                  <a:pt x="9856" y="8247"/>
                  <a:pt x="9897" y="8285"/>
                </a:cubicBezTo>
                <a:cubicBezTo>
                  <a:pt x="9905" y="8293"/>
                  <a:pt x="9914" y="8302"/>
                  <a:pt x="9922" y="8310"/>
                </a:cubicBezTo>
                <a:cubicBezTo>
                  <a:pt x="10090" y="8141"/>
                  <a:pt x="10255" y="7982"/>
                  <a:pt x="10443" y="78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10">
                                            <p:txEl>
                                              <p:pRg st="0" end="0"/>
                                            </p:txEl>
                                          </p:spTgt>
                                        </p:tgtEl>
                                        <p:attrNameLst>
                                          <p:attrName>style.visibility</p:attrName>
                                        </p:attrNameLst>
                                      </p:cBhvr>
                                      <p:to>
                                        <p:strVal val="visible"/>
                                      </p:to>
                                    </p:set>
                                    <p:anim calcmode="lin" valueType="num">
                                      <p:cBhvr additive="base">
                                        <p:cTn id="4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10">
                                            <p:txEl>
                                              <p:pRg st="1" end="1"/>
                                            </p:txEl>
                                          </p:spTgt>
                                        </p:tgtEl>
                                        <p:attrNameLst>
                                          <p:attrName>style.visibility</p:attrName>
                                        </p:attrNameLst>
                                      </p:cBhvr>
                                      <p:to>
                                        <p:strVal val="visible"/>
                                      </p:to>
                                    </p:set>
                                    <p:anim calcmode="lin" valueType="num">
                                      <p:cBhvr additive="base">
                                        <p:cTn id="47"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10">
                                            <p:txEl>
                                              <p:pRg st="2" end="2"/>
                                            </p:txEl>
                                          </p:spTgt>
                                        </p:tgtEl>
                                        <p:attrNameLst>
                                          <p:attrName>style.visibility</p:attrName>
                                        </p:attrNameLst>
                                      </p:cBhvr>
                                      <p:to>
                                        <p:strVal val="visible"/>
                                      </p:to>
                                    </p:set>
                                    <p:anim calcmode="lin" valueType="num">
                                      <p:cBhvr additive="base">
                                        <p:cTn id="53"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0">
                                            <p:txEl>
                                              <p:pRg st="2" end="2"/>
                                            </p:txEl>
                                          </p:spTgt>
                                        </p:tgtEl>
                                        <p:attrNameLst>
                                          <p:attrName>style.visibility</p:attrName>
                                        </p:attrNameLst>
                                      </p:cBhvr>
                                      <p:to>
                                        <p:strVal val="visible"/>
                                      </p:to>
                                    </p:set>
                                    <p:anim calcmode="lin" valueType="num">
                                      <p:cBhvr additive="base">
                                        <p:cTn id="59"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80880" y="151920"/>
            <a:ext cx="8229600" cy="586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Determine the unknown in a linear equation</a:t>
            </a:r>
            <a:endParaRPr b="0" lang="en-US" sz="20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s: Solving Addition Equations</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8.45 + x = 12.55</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z + 5.6 = 11.8</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43 = 14 + n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1544760" y="1724040"/>
            <a:ext cx="3840120" cy="2446200"/>
          </a:xfrm>
          <a:custGeom>
            <a:avLst/>
            <a:gdLst/>
            <a:ahLst/>
            <a:rect l="l" t="t" r="r" b="b"/>
            <a:pathLst>
              <a:path w="10667" h="6798">
                <a:moveTo>
                  <a:pt x="4291" y="4787"/>
                </a:moveTo>
                <a:cubicBezTo>
                  <a:pt x="4291" y="4795"/>
                  <a:pt x="4291" y="4804"/>
                  <a:pt x="4291" y="4812"/>
                </a:cubicBezTo>
              </a:path>
              <a:path w="10667" h="6798">
                <a:moveTo>
                  <a:pt x="5457" y="5209"/>
                </a:moveTo>
                <a:lnTo>
                  <a:pt x="5457" y="5209"/>
                </a:lnTo>
              </a:path>
              <a:path w="10667" h="6798">
                <a:moveTo>
                  <a:pt x="5482" y="5209"/>
                </a:moveTo>
                <a:lnTo>
                  <a:pt x="5482" y="5209"/>
                </a:lnTo>
              </a:path>
              <a:path w="10667" h="6798">
                <a:moveTo>
                  <a:pt x="4415" y="5631"/>
                </a:moveTo>
                <a:cubicBezTo>
                  <a:pt x="4415" y="5623"/>
                  <a:pt x="4415" y="5614"/>
                  <a:pt x="4415" y="5606"/>
                </a:cubicBezTo>
              </a:path>
              <a:path w="10667" h="6798">
                <a:moveTo>
                  <a:pt x="8161" y="5631"/>
                </a:moveTo>
                <a:lnTo>
                  <a:pt x="8161" y="5631"/>
                </a:lnTo>
              </a:path>
              <a:path w="10667" h="6798">
                <a:moveTo>
                  <a:pt x="8161" y="5631"/>
                </a:moveTo>
                <a:lnTo>
                  <a:pt x="8161" y="5631"/>
                </a:lnTo>
              </a:path>
              <a:path w="10667" h="6798">
                <a:moveTo>
                  <a:pt x="8830" y="8731"/>
                </a:moveTo>
                <a:cubicBezTo>
                  <a:pt x="8838" y="8731"/>
                  <a:pt x="8847" y="8731"/>
                  <a:pt x="8855" y="8731"/>
                </a:cubicBezTo>
              </a:path>
              <a:path w="10667" h="6798">
                <a:moveTo>
                  <a:pt x="7516" y="8682"/>
                </a:moveTo>
                <a:cubicBezTo>
                  <a:pt x="7567" y="8676"/>
                  <a:pt x="7615" y="8665"/>
                  <a:pt x="7665" y="8657"/>
                </a:cubicBezTo>
              </a:path>
              <a:path w="10667" h="6798">
                <a:moveTo>
                  <a:pt x="14932" y="11237"/>
                </a:moveTo>
                <a:cubicBezTo>
                  <a:pt x="14940" y="11229"/>
                  <a:pt x="14949" y="11220"/>
                  <a:pt x="14957" y="11212"/>
                </a:cubicBezTo>
                <a:cubicBezTo>
                  <a:pt x="14942" y="11330"/>
                  <a:pt x="14907" y="11443"/>
                  <a:pt x="14883" y="11559"/>
                </a:cubicBezTo>
                <a:cubicBezTo>
                  <a:pt x="14883" y="11567"/>
                  <a:pt x="14883" y="11576"/>
                  <a:pt x="14883" y="115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90720" y="1670040"/>
            <a:ext cx="3662280" cy="1643040"/>
          </a:xfrm>
          <a:custGeom>
            <a:avLst/>
            <a:gdLst/>
            <a:ahLst/>
            <a:rect l="l" t="t" r="r" b="b"/>
            <a:pathLst>
              <a:path w="10171" h="4566">
                <a:moveTo>
                  <a:pt x="8210" y="5631"/>
                </a:moveTo>
                <a:cubicBezTo>
                  <a:pt x="8303" y="5616"/>
                  <a:pt x="8365" y="5606"/>
                  <a:pt x="8458" y="5606"/>
                </a:cubicBezTo>
              </a:path>
              <a:path w="10171" h="4566">
                <a:moveTo>
                  <a:pt x="8186" y="5854"/>
                </a:moveTo>
                <a:cubicBezTo>
                  <a:pt x="8119" y="5854"/>
                  <a:pt x="8267" y="5837"/>
                  <a:pt x="8334" y="5829"/>
                </a:cubicBezTo>
                <a:cubicBezTo>
                  <a:pt x="8379" y="5829"/>
                  <a:pt x="8392" y="5832"/>
                  <a:pt x="8409" y="5804"/>
                </a:cubicBezTo>
              </a:path>
              <a:path w="10171" h="4566">
                <a:moveTo>
                  <a:pt x="12477" y="5085"/>
                </a:moveTo>
                <a:cubicBezTo>
                  <a:pt x="12502" y="5135"/>
                  <a:pt x="12510" y="5151"/>
                  <a:pt x="12526" y="5184"/>
                </a:cubicBezTo>
                <a:cubicBezTo>
                  <a:pt x="12650" y="5043"/>
                  <a:pt x="12748" y="4813"/>
                  <a:pt x="12898" y="4663"/>
                </a:cubicBezTo>
                <a:cubicBezTo>
                  <a:pt x="12923" y="4663"/>
                  <a:pt x="12931" y="4663"/>
                  <a:pt x="12923" y="4638"/>
                </a:cubicBezTo>
              </a:path>
              <a:path w="10171" h="4566">
                <a:moveTo>
                  <a:pt x="2753" y="9203"/>
                </a:moveTo>
                <a:cubicBezTo>
                  <a:pt x="2885" y="9180"/>
                  <a:pt x="3014" y="9156"/>
                  <a:pt x="3150" y="9153"/>
                </a:cubicBezTo>
                <a:cubicBezTo>
                  <a:pt x="3350" y="9149"/>
                  <a:pt x="3545" y="9128"/>
                  <a:pt x="3746" y="9128"/>
                </a:cubicBezTo>
                <a:cubicBezTo>
                  <a:pt x="3970" y="9128"/>
                  <a:pt x="4191" y="9089"/>
                  <a:pt x="4415" y="9079"/>
                </a:cubicBezTo>
                <a:cubicBezTo>
                  <a:pt x="4648" y="9069"/>
                  <a:pt x="4876" y="9054"/>
                  <a:pt x="5110" y="9054"/>
                </a:cubicBezTo>
                <a:cubicBezTo>
                  <a:pt x="5418" y="9054"/>
                  <a:pt x="5722" y="9062"/>
                  <a:pt x="6028" y="9079"/>
                </a:cubicBezTo>
                <a:cubicBezTo>
                  <a:pt x="6299" y="9094"/>
                  <a:pt x="6576" y="9098"/>
                  <a:pt x="6846" y="9103"/>
                </a:cubicBezTo>
                <a:cubicBezTo>
                  <a:pt x="7187" y="9109"/>
                  <a:pt x="7524" y="9083"/>
                  <a:pt x="7863" y="9079"/>
                </a:cubicBezTo>
                <a:cubicBezTo>
                  <a:pt x="8180" y="9075"/>
                  <a:pt x="8491" y="9091"/>
                  <a:pt x="8806" y="9103"/>
                </a:cubicBezTo>
                <a:cubicBezTo>
                  <a:pt x="9072" y="9113"/>
                  <a:pt x="9335" y="9090"/>
                  <a:pt x="9599" y="9079"/>
                </a:cubicBezTo>
                <a:cubicBezTo>
                  <a:pt x="9838" y="9069"/>
                  <a:pt x="10079" y="9079"/>
                  <a:pt x="10319" y="90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956120" y="4268880"/>
            <a:ext cx="758880" cy="874800"/>
          </a:xfrm>
          <a:custGeom>
            <a:avLst/>
            <a:gdLst/>
            <a:ahLst/>
            <a:rect l="l" t="t" r="r" b="b"/>
            <a:pathLst>
              <a:path w="2109" h="2432">
                <a:moveTo>
                  <a:pt x="14089" y="12229"/>
                </a:moveTo>
                <a:cubicBezTo>
                  <a:pt x="14124" y="12332"/>
                  <a:pt x="14058" y="12502"/>
                  <a:pt x="14039" y="12626"/>
                </a:cubicBezTo>
                <a:cubicBezTo>
                  <a:pt x="14039" y="12634"/>
                  <a:pt x="14039" y="12642"/>
                  <a:pt x="14039" y="12650"/>
                </a:cubicBezTo>
              </a:path>
              <a:path w="2109" h="2432">
                <a:moveTo>
                  <a:pt x="13841" y="12452"/>
                </a:moveTo>
                <a:cubicBezTo>
                  <a:pt x="13975" y="12431"/>
                  <a:pt x="14102" y="12427"/>
                  <a:pt x="14238" y="12427"/>
                </a:cubicBezTo>
              </a:path>
              <a:path w="2109" h="2432">
                <a:moveTo>
                  <a:pt x="14734" y="11857"/>
                </a:moveTo>
                <a:cubicBezTo>
                  <a:pt x="14734" y="11934"/>
                  <a:pt x="14724" y="11938"/>
                  <a:pt x="14784" y="11906"/>
                </a:cubicBezTo>
                <a:cubicBezTo>
                  <a:pt x="14817" y="11890"/>
                  <a:pt x="14850" y="11873"/>
                  <a:pt x="14883" y="11857"/>
                </a:cubicBezTo>
                <a:cubicBezTo>
                  <a:pt x="15090" y="12004"/>
                  <a:pt x="15057" y="12228"/>
                  <a:pt x="14784" y="12353"/>
                </a:cubicBezTo>
                <a:cubicBezTo>
                  <a:pt x="14650" y="12372"/>
                  <a:pt x="14627" y="12399"/>
                  <a:pt x="14560" y="12353"/>
                </a:cubicBezTo>
                <a:cubicBezTo>
                  <a:pt x="14619" y="12220"/>
                  <a:pt x="14746" y="12025"/>
                  <a:pt x="14883" y="12229"/>
                </a:cubicBezTo>
                <a:cubicBezTo>
                  <a:pt x="14905" y="12294"/>
                  <a:pt x="14913" y="12309"/>
                  <a:pt x="14908" y="12353"/>
                </a:cubicBezTo>
              </a:path>
              <a:path w="2109" h="2432">
                <a:moveTo>
                  <a:pt x="15503" y="12080"/>
                </a:moveTo>
                <a:cubicBezTo>
                  <a:pt x="15520" y="12018"/>
                  <a:pt x="15528" y="11992"/>
                  <a:pt x="15528" y="11931"/>
                </a:cubicBezTo>
                <a:cubicBezTo>
                  <a:pt x="15383" y="11905"/>
                  <a:pt x="15223" y="11945"/>
                  <a:pt x="15205" y="12129"/>
                </a:cubicBezTo>
                <a:cubicBezTo>
                  <a:pt x="15213" y="12154"/>
                  <a:pt x="15222" y="12179"/>
                  <a:pt x="15230" y="12204"/>
                </a:cubicBezTo>
                <a:cubicBezTo>
                  <a:pt x="15370" y="12174"/>
                  <a:pt x="15469" y="12129"/>
                  <a:pt x="15528" y="11981"/>
                </a:cubicBezTo>
                <a:cubicBezTo>
                  <a:pt x="15528" y="11973"/>
                  <a:pt x="15528" y="11964"/>
                  <a:pt x="15528" y="11956"/>
                </a:cubicBezTo>
                <a:cubicBezTo>
                  <a:pt x="15495" y="12103"/>
                  <a:pt x="15428" y="12237"/>
                  <a:pt x="15379" y="12378"/>
                </a:cubicBezTo>
                <a:cubicBezTo>
                  <a:pt x="15379" y="12402"/>
                  <a:pt x="15379" y="12411"/>
                  <a:pt x="15379" y="12427"/>
                </a:cubicBezTo>
              </a:path>
              <a:path w="2109" h="2432">
                <a:moveTo>
                  <a:pt x="14684" y="12626"/>
                </a:moveTo>
                <a:cubicBezTo>
                  <a:pt x="14684" y="12793"/>
                  <a:pt x="14610" y="12918"/>
                  <a:pt x="14560" y="13072"/>
                </a:cubicBezTo>
                <a:cubicBezTo>
                  <a:pt x="14540" y="13156"/>
                  <a:pt x="14525" y="13203"/>
                  <a:pt x="14560" y="13122"/>
                </a:cubicBezTo>
              </a:path>
              <a:path w="2109" h="2432">
                <a:moveTo>
                  <a:pt x="15081" y="12725"/>
                </a:moveTo>
                <a:cubicBezTo>
                  <a:pt x="15058" y="12816"/>
                  <a:pt x="15052" y="12841"/>
                  <a:pt x="15032" y="12898"/>
                </a:cubicBezTo>
                <a:cubicBezTo>
                  <a:pt x="15191" y="12916"/>
                  <a:pt x="15322" y="12940"/>
                  <a:pt x="15478" y="12923"/>
                </a:cubicBezTo>
              </a:path>
              <a:path w="2109" h="2432">
                <a:moveTo>
                  <a:pt x="15354" y="12626"/>
                </a:moveTo>
                <a:cubicBezTo>
                  <a:pt x="15304" y="12741"/>
                  <a:pt x="15243" y="13093"/>
                  <a:pt x="15156" y="13171"/>
                </a:cubicBezTo>
                <a:cubicBezTo>
                  <a:pt x="15148" y="13171"/>
                  <a:pt x="15139" y="13171"/>
                  <a:pt x="15131" y="13171"/>
                </a:cubicBezTo>
              </a:path>
              <a:path w="2109" h="2432">
                <a:moveTo>
                  <a:pt x="13791" y="13593"/>
                </a:moveTo>
                <a:cubicBezTo>
                  <a:pt x="13954" y="13593"/>
                  <a:pt x="14608" y="13587"/>
                  <a:pt x="14833" y="13593"/>
                </a:cubicBezTo>
                <a:cubicBezTo>
                  <a:pt x="15147" y="13601"/>
                  <a:pt x="15563" y="13582"/>
                  <a:pt x="15875" y="13667"/>
                </a:cubicBezTo>
                <a:cubicBezTo>
                  <a:pt x="15875" y="13675"/>
                  <a:pt x="15875" y="13684"/>
                  <a:pt x="15875" y="13692"/>
                </a:cubicBezTo>
              </a:path>
              <a:path w="2109" h="2432">
                <a:moveTo>
                  <a:pt x="14957" y="13940"/>
                </a:moveTo>
                <a:cubicBezTo>
                  <a:pt x="14977" y="13879"/>
                  <a:pt x="15064" y="13869"/>
                  <a:pt x="15131" y="13841"/>
                </a:cubicBezTo>
                <a:cubicBezTo>
                  <a:pt x="15147" y="13833"/>
                  <a:pt x="15164" y="13824"/>
                  <a:pt x="15180" y="13816"/>
                </a:cubicBezTo>
                <a:cubicBezTo>
                  <a:pt x="15158" y="13917"/>
                  <a:pt x="15106" y="13965"/>
                  <a:pt x="15032" y="14039"/>
                </a:cubicBezTo>
                <a:cubicBezTo>
                  <a:pt x="15052" y="14035"/>
                  <a:pt x="15196" y="14000"/>
                  <a:pt x="15131" y="14114"/>
                </a:cubicBezTo>
                <a:cubicBezTo>
                  <a:pt x="15075" y="14214"/>
                  <a:pt x="14960" y="14269"/>
                  <a:pt x="14858" y="14213"/>
                </a:cubicBezTo>
                <a:cubicBezTo>
                  <a:pt x="14850" y="14205"/>
                  <a:pt x="14841" y="14196"/>
                  <a:pt x="14833" y="14188"/>
                </a:cubicBezTo>
              </a:path>
              <a:path w="2109" h="2432">
                <a:moveTo>
                  <a:pt x="14486" y="13791"/>
                </a:moveTo>
                <a:cubicBezTo>
                  <a:pt x="14461" y="13791"/>
                  <a:pt x="14453" y="13791"/>
                  <a:pt x="14461" y="13767"/>
                </a:cubicBezTo>
                <a:cubicBezTo>
                  <a:pt x="14426" y="13818"/>
                  <a:pt x="14359" y="13882"/>
                  <a:pt x="14312" y="13940"/>
                </a:cubicBezTo>
                <a:cubicBezTo>
                  <a:pt x="14378" y="13940"/>
                  <a:pt x="14445" y="13940"/>
                  <a:pt x="14511" y="13940"/>
                </a:cubicBezTo>
              </a:path>
              <a:path w="2109" h="2432">
                <a:moveTo>
                  <a:pt x="14635" y="13593"/>
                </a:moveTo>
                <a:cubicBezTo>
                  <a:pt x="14606" y="13764"/>
                  <a:pt x="14511" y="13922"/>
                  <a:pt x="14461" y="14089"/>
                </a:cubicBezTo>
                <a:cubicBezTo>
                  <a:pt x="14439" y="14197"/>
                  <a:pt x="14436" y="14224"/>
                  <a:pt x="14412" y="142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170160" y="1009800"/>
            <a:ext cx="231840" cy="419040"/>
          </a:xfrm>
          <a:custGeom>
            <a:avLst/>
            <a:gdLst/>
            <a:ahLst/>
            <a:rect l="l" t="t" r="r" b="b"/>
            <a:pathLst>
              <a:path w="646" h="1167">
                <a:moveTo>
                  <a:pt x="9054" y="3299"/>
                </a:moveTo>
                <a:cubicBezTo>
                  <a:pt x="9166" y="3344"/>
                  <a:pt x="9179" y="3491"/>
                  <a:pt x="9227" y="3597"/>
                </a:cubicBezTo>
                <a:cubicBezTo>
                  <a:pt x="9267" y="3685"/>
                  <a:pt x="9305" y="3744"/>
                  <a:pt x="9351" y="3820"/>
                </a:cubicBezTo>
                <a:cubicBezTo>
                  <a:pt x="9374" y="3858"/>
                  <a:pt x="9404" y="3911"/>
                  <a:pt x="9426" y="3944"/>
                </a:cubicBezTo>
                <a:cubicBezTo>
                  <a:pt x="9449" y="3967"/>
                  <a:pt x="9457" y="3978"/>
                  <a:pt x="9451" y="3944"/>
                </a:cubicBezTo>
              </a:path>
              <a:path w="646" h="1167">
                <a:moveTo>
                  <a:pt x="8979" y="2803"/>
                </a:moveTo>
                <a:cubicBezTo>
                  <a:pt x="8933" y="2838"/>
                  <a:pt x="8879" y="2864"/>
                  <a:pt x="8830" y="2902"/>
                </a:cubicBezTo>
                <a:cubicBezTo>
                  <a:pt x="8795" y="2929"/>
                  <a:pt x="8806" y="2962"/>
                  <a:pt x="8806" y="3001"/>
                </a:cubicBezTo>
                <a:cubicBezTo>
                  <a:pt x="8806" y="3028"/>
                  <a:pt x="8830" y="3048"/>
                  <a:pt x="8855" y="3051"/>
                </a:cubicBezTo>
                <a:cubicBezTo>
                  <a:pt x="8905" y="3057"/>
                  <a:pt x="8915" y="3039"/>
                  <a:pt x="8954" y="3026"/>
                </a:cubicBezTo>
                <a:cubicBezTo>
                  <a:pt x="8979" y="3026"/>
                  <a:pt x="8987" y="3026"/>
                  <a:pt x="9004" y="3026"/>
                </a:cubicBezTo>
                <a:cubicBezTo>
                  <a:pt x="9004" y="2985"/>
                  <a:pt x="9062" y="2952"/>
                  <a:pt x="9029" y="2927"/>
                </a:cubicBezTo>
                <a:cubicBezTo>
                  <a:pt x="9007" y="2911"/>
                  <a:pt x="9007" y="2911"/>
                  <a:pt x="8979" y="2902"/>
                </a:cubicBezTo>
              </a:path>
              <a:path w="646" h="1167">
                <a:moveTo>
                  <a:pt x="9327" y="3051"/>
                </a:moveTo>
                <a:cubicBezTo>
                  <a:pt x="9317" y="3110"/>
                  <a:pt x="9302" y="3105"/>
                  <a:pt x="9302" y="3175"/>
                </a:cubicBezTo>
                <a:cubicBezTo>
                  <a:pt x="9302" y="3241"/>
                  <a:pt x="9322" y="3285"/>
                  <a:pt x="9327" y="3349"/>
                </a:cubicBezTo>
                <a:cubicBezTo>
                  <a:pt x="9331" y="3394"/>
                  <a:pt x="9321" y="3403"/>
                  <a:pt x="9302" y="34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10000" y="1866960"/>
            <a:ext cx="669960" cy="339840"/>
          </a:xfrm>
          <a:custGeom>
            <a:avLst/>
            <a:gdLst/>
            <a:ahLst/>
            <a:rect l="l" t="t" r="r" b="b"/>
            <a:pathLst>
              <a:path w="1862" h="944">
                <a:moveTo>
                  <a:pt x="11485" y="5209"/>
                </a:moveTo>
                <a:cubicBezTo>
                  <a:pt x="11438" y="5209"/>
                  <a:pt x="11392" y="5194"/>
                  <a:pt x="11361" y="5234"/>
                </a:cubicBezTo>
                <a:cubicBezTo>
                  <a:pt x="11279" y="5340"/>
                  <a:pt x="11229" y="5473"/>
                  <a:pt x="11212" y="5606"/>
                </a:cubicBezTo>
                <a:cubicBezTo>
                  <a:pt x="11201" y="5689"/>
                  <a:pt x="11186" y="5756"/>
                  <a:pt x="11212" y="5829"/>
                </a:cubicBezTo>
                <a:cubicBezTo>
                  <a:pt x="11230" y="5880"/>
                  <a:pt x="11330" y="5923"/>
                  <a:pt x="11385" y="5928"/>
                </a:cubicBezTo>
                <a:cubicBezTo>
                  <a:pt x="11486" y="5937"/>
                  <a:pt x="11540" y="5894"/>
                  <a:pt x="11584" y="5804"/>
                </a:cubicBezTo>
                <a:cubicBezTo>
                  <a:pt x="11630" y="5709"/>
                  <a:pt x="11611" y="5604"/>
                  <a:pt x="11584" y="5507"/>
                </a:cubicBezTo>
                <a:cubicBezTo>
                  <a:pt x="11560" y="5419"/>
                  <a:pt x="11491" y="5361"/>
                  <a:pt x="11460" y="5283"/>
                </a:cubicBezTo>
                <a:cubicBezTo>
                  <a:pt x="11448" y="5254"/>
                  <a:pt x="11419" y="5252"/>
                  <a:pt x="11410" y="5234"/>
                </a:cubicBezTo>
                <a:cubicBezTo>
                  <a:pt x="11410" y="5226"/>
                  <a:pt x="11410" y="5217"/>
                  <a:pt x="11410" y="5209"/>
                </a:cubicBezTo>
              </a:path>
              <a:path w="1862" h="944">
                <a:moveTo>
                  <a:pt x="10840" y="5209"/>
                </a:moveTo>
                <a:cubicBezTo>
                  <a:pt x="10798" y="5345"/>
                  <a:pt x="10752" y="5488"/>
                  <a:pt x="10740" y="5631"/>
                </a:cubicBezTo>
                <a:cubicBezTo>
                  <a:pt x="10731" y="5734"/>
                  <a:pt x="10709" y="5961"/>
                  <a:pt x="10765" y="6052"/>
                </a:cubicBezTo>
              </a:path>
              <a:path w="1862" h="944">
                <a:moveTo>
                  <a:pt x="9823" y="5358"/>
                </a:moveTo>
                <a:cubicBezTo>
                  <a:pt x="9823" y="5350"/>
                  <a:pt x="9823" y="5341"/>
                  <a:pt x="9823" y="5333"/>
                </a:cubicBezTo>
                <a:cubicBezTo>
                  <a:pt x="9891" y="5357"/>
                  <a:pt x="9808" y="5512"/>
                  <a:pt x="9798" y="5556"/>
                </a:cubicBezTo>
                <a:cubicBezTo>
                  <a:pt x="9782" y="5624"/>
                  <a:pt x="9761" y="5690"/>
                  <a:pt x="9748" y="5755"/>
                </a:cubicBezTo>
                <a:cubicBezTo>
                  <a:pt x="9838" y="5727"/>
                  <a:pt x="9930" y="5695"/>
                  <a:pt x="10021" y="5680"/>
                </a:cubicBezTo>
              </a:path>
              <a:path w="1862" h="944">
                <a:moveTo>
                  <a:pt x="9996" y="5209"/>
                </a:moveTo>
                <a:cubicBezTo>
                  <a:pt x="9996" y="5147"/>
                  <a:pt x="9961" y="5273"/>
                  <a:pt x="9947" y="5333"/>
                </a:cubicBezTo>
                <a:cubicBezTo>
                  <a:pt x="9900" y="5539"/>
                  <a:pt x="9879" y="5767"/>
                  <a:pt x="9872" y="5978"/>
                </a:cubicBezTo>
                <a:cubicBezTo>
                  <a:pt x="9870" y="6027"/>
                  <a:pt x="9872" y="6077"/>
                  <a:pt x="9872" y="6127"/>
                </a:cubicBezTo>
              </a:path>
              <a:path w="1862" h="944">
                <a:moveTo>
                  <a:pt x="10319" y="5953"/>
                </a:moveTo>
                <a:cubicBezTo>
                  <a:pt x="10295" y="5882"/>
                  <a:pt x="10273" y="5968"/>
                  <a:pt x="10244" y="5953"/>
                </a:cubicBezTo>
                <a:cubicBezTo>
                  <a:pt x="10223" y="5943"/>
                  <a:pt x="10219" y="5998"/>
                  <a:pt x="10269" y="5978"/>
                </a:cubicBezTo>
                <a:cubicBezTo>
                  <a:pt x="10292" y="5955"/>
                  <a:pt x="10300" y="5951"/>
                  <a:pt x="10294" y="59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751200" y="3224160"/>
            <a:ext cx="320760" cy="196920"/>
          </a:xfrm>
          <a:custGeom>
            <a:avLst/>
            <a:gdLst/>
            <a:ahLst/>
            <a:rect l="l" t="t" r="r" b="b"/>
            <a:pathLst>
              <a:path w="894" h="547">
                <a:moveTo>
                  <a:pt x="10418" y="9376"/>
                </a:moveTo>
                <a:cubicBezTo>
                  <a:pt x="10418" y="9320"/>
                  <a:pt x="10453" y="9466"/>
                  <a:pt x="10468" y="9500"/>
                </a:cubicBezTo>
                <a:cubicBezTo>
                  <a:pt x="10621" y="9469"/>
                  <a:pt x="10840" y="9205"/>
                  <a:pt x="10964" y="9128"/>
                </a:cubicBezTo>
                <a:cubicBezTo>
                  <a:pt x="11162" y="9029"/>
                  <a:pt x="11196" y="9012"/>
                  <a:pt x="11311" y="89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241280" y="6572160"/>
            <a:ext cx="17640" cy="27000"/>
          </a:xfrm>
          <a:custGeom>
            <a:avLst/>
            <a:gdLst/>
            <a:ahLst/>
            <a:rect l="l" t="t" r="r" b="b"/>
            <a:pathLst>
              <a:path w="50" h="76">
                <a:moveTo>
                  <a:pt x="3497" y="18256"/>
                </a:moveTo>
                <a:cubicBezTo>
                  <a:pt x="3476" y="18300"/>
                  <a:pt x="3473" y="18312"/>
                  <a:pt x="3448" y="18331"/>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7" name=""/>
          <p:cNvSpPr/>
          <p:nvPr/>
        </p:nvSpPr>
        <p:spPr>
          <a:xfrm>
            <a:off x="1027080" y="1544760"/>
            <a:ext cx="374760" cy="233280"/>
          </a:xfrm>
          <a:custGeom>
            <a:avLst/>
            <a:gdLst/>
            <a:ahLst/>
            <a:rect l="l" t="t" r="r" b="b"/>
            <a:pathLst>
              <a:path w="1042" h="646">
                <a:moveTo>
                  <a:pt x="2853" y="4341"/>
                </a:moveTo>
                <a:cubicBezTo>
                  <a:pt x="2966" y="4341"/>
                  <a:pt x="3063" y="4330"/>
                  <a:pt x="3175" y="4316"/>
                </a:cubicBezTo>
                <a:cubicBezTo>
                  <a:pt x="3200" y="4316"/>
                  <a:pt x="3208" y="4316"/>
                  <a:pt x="3225" y="4316"/>
                </a:cubicBezTo>
              </a:path>
              <a:path w="1042" h="646">
                <a:moveTo>
                  <a:pt x="3845" y="4341"/>
                </a:moveTo>
                <a:cubicBezTo>
                  <a:pt x="3828" y="4290"/>
                  <a:pt x="3732" y="4281"/>
                  <a:pt x="3671" y="4291"/>
                </a:cubicBezTo>
                <a:cubicBezTo>
                  <a:pt x="3627" y="4313"/>
                  <a:pt x="3616" y="4316"/>
                  <a:pt x="3597" y="4341"/>
                </a:cubicBezTo>
                <a:cubicBezTo>
                  <a:pt x="3578" y="4470"/>
                  <a:pt x="3707" y="4535"/>
                  <a:pt x="3795" y="4638"/>
                </a:cubicBezTo>
                <a:cubicBezTo>
                  <a:pt x="3845" y="4696"/>
                  <a:pt x="3968" y="4849"/>
                  <a:pt x="3845" y="4911"/>
                </a:cubicBezTo>
                <a:cubicBezTo>
                  <a:pt x="3812" y="4919"/>
                  <a:pt x="3779" y="4928"/>
                  <a:pt x="3746" y="4936"/>
                </a:cubicBezTo>
                <a:cubicBezTo>
                  <a:pt x="3609" y="4891"/>
                  <a:pt x="3807" y="4737"/>
                  <a:pt x="3845" y="4638"/>
                </a:cubicBezTo>
                <a:cubicBezTo>
                  <a:pt x="3880" y="4546"/>
                  <a:pt x="3877" y="4440"/>
                  <a:pt x="3820" y="4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687680" y="1535040"/>
            <a:ext cx="312480" cy="196920"/>
          </a:xfrm>
          <a:custGeom>
            <a:avLst/>
            <a:gdLst/>
            <a:ahLst/>
            <a:rect l="l" t="t" r="r" b="b"/>
            <a:pathLst>
              <a:path w="869" h="547">
                <a:moveTo>
                  <a:pt x="4688" y="4316"/>
                </a:moveTo>
                <a:cubicBezTo>
                  <a:pt x="4688" y="4391"/>
                  <a:pt x="4655" y="4562"/>
                  <a:pt x="4713" y="4589"/>
                </a:cubicBezTo>
                <a:cubicBezTo>
                  <a:pt x="4781" y="4621"/>
                  <a:pt x="4834" y="4577"/>
                  <a:pt x="4911" y="4564"/>
                </a:cubicBezTo>
              </a:path>
              <a:path w="869" h="547">
                <a:moveTo>
                  <a:pt x="4887" y="4490"/>
                </a:moveTo>
                <a:cubicBezTo>
                  <a:pt x="4887" y="4597"/>
                  <a:pt x="4887" y="4705"/>
                  <a:pt x="4887" y="4812"/>
                </a:cubicBezTo>
              </a:path>
              <a:path w="869" h="547">
                <a:moveTo>
                  <a:pt x="5432" y="4266"/>
                </a:moveTo>
                <a:cubicBezTo>
                  <a:pt x="5369" y="4285"/>
                  <a:pt x="5344" y="4291"/>
                  <a:pt x="5283" y="4291"/>
                </a:cubicBezTo>
                <a:cubicBezTo>
                  <a:pt x="5175" y="4291"/>
                  <a:pt x="5209" y="4369"/>
                  <a:pt x="5209" y="4465"/>
                </a:cubicBezTo>
                <a:cubicBezTo>
                  <a:pt x="5209" y="4498"/>
                  <a:pt x="5209" y="4531"/>
                  <a:pt x="5209" y="4564"/>
                </a:cubicBezTo>
                <a:cubicBezTo>
                  <a:pt x="5209" y="4589"/>
                  <a:pt x="5209" y="4597"/>
                  <a:pt x="5234" y="4589"/>
                </a:cubicBezTo>
                <a:cubicBezTo>
                  <a:pt x="5257" y="4565"/>
                  <a:pt x="5337" y="4475"/>
                  <a:pt x="5383" y="4490"/>
                </a:cubicBezTo>
                <a:cubicBezTo>
                  <a:pt x="5496" y="4526"/>
                  <a:pt x="5609" y="4636"/>
                  <a:pt x="5507" y="4738"/>
                </a:cubicBezTo>
                <a:cubicBezTo>
                  <a:pt x="5469" y="4776"/>
                  <a:pt x="5341" y="4845"/>
                  <a:pt x="5283" y="4812"/>
                </a:cubicBezTo>
                <a:cubicBezTo>
                  <a:pt x="5275" y="4804"/>
                  <a:pt x="5267" y="4795"/>
                  <a:pt x="5259" y="47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581200" y="1911240"/>
            <a:ext cx="142920" cy="258840"/>
          </a:xfrm>
          <a:custGeom>
            <a:avLst/>
            <a:gdLst/>
            <a:ahLst/>
            <a:rect l="l" t="t" r="r" b="b"/>
            <a:pathLst>
              <a:path w="397" h="721">
                <a:moveTo>
                  <a:pt x="7169" y="5556"/>
                </a:moveTo>
                <a:cubicBezTo>
                  <a:pt x="7279" y="5601"/>
                  <a:pt x="7366" y="5758"/>
                  <a:pt x="7441" y="5854"/>
                </a:cubicBezTo>
                <a:cubicBezTo>
                  <a:pt x="7493" y="5921"/>
                  <a:pt x="7499" y="5961"/>
                  <a:pt x="7565" y="5978"/>
                </a:cubicBezTo>
              </a:path>
              <a:path w="397" h="721">
                <a:moveTo>
                  <a:pt x="7541" y="5308"/>
                </a:moveTo>
                <a:cubicBezTo>
                  <a:pt x="7497" y="5484"/>
                  <a:pt x="7404" y="5622"/>
                  <a:pt x="7317" y="5779"/>
                </a:cubicBezTo>
                <a:cubicBezTo>
                  <a:pt x="7268" y="5867"/>
                  <a:pt x="7251" y="5940"/>
                  <a:pt x="7218" y="60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38240" y="1866960"/>
            <a:ext cx="81000" cy="142920"/>
          </a:xfrm>
          <a:custGeom>
            <a:avLst/>
            <a:gdLst/>
            <a:ahLst/>
            <a:rect l="l" t="t" r="r" b="b"/>
            <a:pathLst>
              <a:path w="224" h="398">
                <a:moveTo>
                  <a:pt x="5482" y="5209"/>
                </a:moveTo>
                <a:cubicBezTo>
                  <a:pt x="5490" y="5201"/>
                  <a:pt x="5499" y="5192"/>
                  <a:pt x="5507" y="5184"/>
                </a:cubicBezTo>
                <a:cubicBezTo>
                  <a:pt x="5473" y="5195"/>
                  <a:pt x="5456" y="5239"/>
                  <a:pt x="5432" y="5283"/>
                </a:cubicBezTo>
                <a:cubicBezTo>
                  <a:pt x="5400" y="5343"/>
                  <a:pt x="5363" y="5436"/>
                  <a:pt x="5383" y="5507"/>
                </a:cubicBezTo>
                <a:cubicBezTo>
                  <a:pt x="5400" y="5566"/>
                  <a:pt x="5435" y="5577"/>
                  <a:pt x="5482" y="5581"/>
                </a:cubicBezTo>
                <a:cubicBezTo>
                  <a:pt x="5556" y="5588"/>
                  <a:pt x="5536" y="5562"/>
                  <a:pt x="5556" y="5507"/>
                </a:cubicBezTo>
                <a:cubicBezTo>
                  <a:pt x="5581" y="5436"/>
                  <a:pt x="5606" y="5409"/>
                  <a:pt x="5606" y="5333"/>
                </a:cubicBezTo>
                <a:cubicBezTo>
                  <a:pt x="5606" y="5299"/>
                  <a:pt x="5619" y="5253"/>
                  <a:pt x="5581" y="5234"/>
                </a:cubicBezTo>
                <a:cubicBezTo>
                  <a:pt x="5560" y="5223"/>
                  <a:pt x="5504" y="5211"/>
                  <a:pt x="5482" y="5209"/>
                </a:cubicBezTo>
                <a:cubicBezTo>
                  <a:pt x="5474" y="5209"/>
                  <a:pt x="5465" y="5209"/>
                  <a:pt x="5457" y="52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31960" y="1884240"/>
            <a:ext cx="81000" cy="135000"/>
          </a:xfrm>
          <a:custGeom>
            <a:avLst/>
            <a:gdLst/>
            <a:ahLst/>
            <a:rect l="l" t="t" r="r" b="b"/>
            <a:pathLst>
              <a:path w="224" h="373">
                <a:moveTo>
                  <a:pt x="4911" y="5259"/>
                </a:moveTo>
                <a:cubicBezTo>
                  <a:pt x="4885" y="5204"/>
                  <a:pt x="4847" y="5349"/>
                  <a:pt x="4837" y="5383"/>
                </a:cubicBezTo>
                <a:cubicBezTo>
                  <a:pt x="4817" y="5452"/>
                  <a:pt x="4807" y="5551"/>
                  <a:pt x="4862" y="5581"/>
                </a:cubicBezTo>
                <a:cubicBezTo>
                  <a:pt x="4942" y="5625"/>
                  <a:pt x="4937" y="5612"/>
                  <a:pt x="4986" y="5556"/>
                </a:cubicBezTo>
                <a:cubicBezTo>
                  <a:pt x="5042" y="5492"/>
                  <a:pt x="5060" y="5407"/>
                  <a:pt x="4986" y="5333"/>
                </a:cubicBezTo>
                <a:cubicBezTo>
                  <a:pt x="4967" y="5314"/>
                  <a:pt x="4944" y="5308"/>
                  <a:pt x="4911" y="528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366920" y="1911240"/>
            <a:ext cx="88920" cy="125640"/>
          </a:xfrm>
          <a:custGeom>
            <a:avLst/>
            <a:gdLst/>
            <a:ahLst/>
            <a:rect l="l" t="t" r="r" b="b"/>
            <a:pathLst>
              <a:path w="249" h="348">
                <a:moveTo>
                  <a:pt x="3870" y="5333"/>
                </a:moveTo>
                <a:cubicBezTo>
                  <a:pt x="3822" y="5349"/>
                  <a:pt x="3809" y="5419"/>
                  <a:pt x="3795" y="5482"/>
                </a:cubicBezTo>
                <a:cubicBezTo>
                  <a:pt x="3783" y="5538"/>
                  <a:pt x="3812" y="5587"/>
                  <a:pt x="3820" y="5606"/>
                </a:cubicBezTo>
                <a:cubicBezTo>
                  <a:pt x="3832" y="5633"/>
                  <a:pt x="3852" y="5650"/>
                  <a:pt x="3894" y="5655"/>
                </a:cubicBezTo>
                <a:cubicBezTo>
                  <a:pt x="3930" y="5659"/>
                  <a:pt x="3957" y="5640"/>
                  <a:pt x="3969" y="5606"/>
                </a:cubicBezTo>
                <a:cubicBezTo>
                  <a:pt x="3987" y="5557"/>
                  <a:pt x="4031" y="5484"/>
                  <a:pt x="4043" y="5432"/>
                </a:cubicBezTo>
                <a:cubicBezTo>
                  <a:pt x="4060" y="5360"/>
                  <a:pt x="4007" y="5358"/>
                  <a:pt x="3969" y="5333"/>
                </a:cubicBezTo>
                <a:cubicBezTo>
                  <a:pt x="3942" y="5315"/>
                  <a:pt x="3874" y="5308"/>
                  <a:pt x="3919" y="53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106800" y="1571760"/>
            <a:ext cx="81000" cy="17280"/>
          </a:xfrm>
          <a:custGeom>
            <a:avLst/>
            <a:gdLst/>
            <a:ahLst/>
            <a:rect l="l" t="t" r="r" b="b"/>
            <a:pathLst>
              <a:path w="224" h="50">
                <a:moveTo>
                  <a:pt x="8657" y="4415"/>
                </a:moveTo>
                <a:cubicBezTo>
                  <a:pt x="8593" y="4415"/>
                  <a:pt x="8820" y="4391"/>
                  <a:pt x="8830" y="4390"/>
                </a:cubicBezTo>
                <a:cubicBezTo>
                  <a:pt x="8868" y="4388"/>
                  <a:pt x="8855" y="4349"/>
                  <a:pt x="8855" y="4390"/>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3446640" y="1490760"/>
            <a:ext cx="250560" cy="188640"/>
          </a:xfrm>
          <a:custGeom>
            <a:avLst/>
            <a:gdLst/>
            <a:ahLst/>
            <a:rect l="l" t="t" r="r" b="b"/>
            <a:pathLst>
              <a:path w="695" h="522">
                <a:moveTo>
                  <a:pt x="9947" y="4142"/>
                </a:moveTo>
                <a:cubicBezTo>
                  <a:pt x="9817" y="4148"/>
                  <a:pt x="9702" y="4160"/>
                  <a:pt x="9575" y="4192"/>
                </a:cubicBezTo>
                <a:cubicBezTo>
                  <a:pt x="9631" y="4343"/>
                  <a:pt x="9826" y="4311"/>
                  <a:pt x="9947" y="4440"/>
                </a:cubicBezTo>
                <a:cubicBezTo>
                  <a:pt x="10099" y="4602"/>
                  <a:pt x="9845" y="4646"/>
                  <a:pt x="9748" y="4638"/>
                </a:cubicBezTo>
                <a:cubicBezTo>
                  <a:pt x="9819" y="4457"/>
                  <a:pt x="9926" y="4343"/>
                  <a:pt x="10046" y="4192"/>
                </a:cubicBezTo>
              </a:path>
              <a:path w="695" h="522">
                <a:moveTo>
                  <a:pt x="10269" y="4564"/>
                </a:moveTo>
                <a:cubicBezTo>
                  <a:pt x="10269" y="4605"/>
                  <a:pt x="10269" y="4613"/>
                  <a:pt x="10269" y="46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30760" y="1482840"/>
            <a:ext cx="339480" cy="223560"/>
          </a:xfrm>
          <a:custGeom>
            <a:avLst/>
            <a:gdLst/>
            <a:ahLst/>
            <a:rect l="l" t="t" r="r" b="b"/>
            <a:pathLst>
              <a:path w="944" h="621">
                <a:moveTo>
                  <a:pt x="10666" y="4217"/>
                </a:moveTo>
                <a:cubicBezTo>
                  <a:pt x="10659" y="4276"/>
                  <a:pt x="10648" y="4331"/>
                  <a:pt x="10641" y="4390"/>
                </a:cubicBezTo>
                <a:cubicBezTo>
                  <a:pt x="10752" y="4446"/>
                  <a:pt x="10835" y="4375"/>
                  <a:pt x="10939" y="4316"/>
                </a:cubicBezTo>
              </a:path>
              <a:path w="944" h="621">
                <a:moveTo>
                  <a:pt x="10815" y="4118"/>
                </a:moveTo>
                <a:cubicBezTo>
                  <a:pt x="10815" y="4325"/>
                  <a:pt x="10815" y="4531"/>
                  <a:pt x="10815" y="4738"/>
                </a:cubicBezTo>
              </a:path>
              <a:path w="944" h="621">
                <a:moveTo>
                  <a:pt x="11311" y="4142"/>
                </a:moveTo>
                <a:cubicBezTo>
                  <a:pt x="11157" y="4142"/>
                  <a:pt x="11188" y="4117"/>
                  <a:pt x="11137" y="4242"/>
                </a:cubicBezTo>
                <a:cubicBezTo>
                  <a:pt x="11117" y="4282"/>
                  <a:pt x="11108" y="4288"/>
                  <a:pt x="11112" y="4316"/>
                </a:cubicBezTo>
                <a:cubicBezTo>
                  <a:pt x="11144" y="4312"/>
                  <a:pt x="11358" y="4246"/>
                  <a:pt x="11385" y="4316"/>
                </a:cubicBezTo>
                <a:cubicBezTo>
                  <a:pt x="11452" y="4489"/>
                  <a:pt x="11326" y="4702"/>
                  <a:pt x="11137" y="4688"/>
                </a:cubicBezTo>
                <a:cubicBezTo>
                  <a:pt x="10970" y="4675"/>
                  <a:pt x="11019" y="4610"/>
                  <a:pt x="11063" y="4514"/>
                </a:cubicBezTo>
              </a:path>
              <a:path w="944" h="621">
                <a:moveTo>
                  <a:pt x="11261" y="4118"/>
                </a:moveTo>
                <a:cubicBezTo>
                  <a:pt x="11369" y="4118"/>
                  <a:pt x="11476" y="4118"/>
                  <a:pt x="11584" y="41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340240" y="990720"/>
            <a:ext cx="1419480" cy="1054080"/>
          </a:xfrm>
          <a:custGeom>
            <a:avLst/>
            <a:gdLst/>
            <a:ahLst/>
            <a:rect l="l" t="t" r="r" b="b"/>
            <a:pathLst>
              <a:path w="3945" h="2928">
                <a:moveTo>
                  <a:pt x="17363" y="3721"/>
                </a:moveTo>
                <a:cubicBezTo>
                  <a:pt x="17299" y="3898"/>
                  <a:pt x="17276" y="4127"/>
                  <a:pt x="17190" y="4291"/>
                </a:cubicBezTo>
                <a:cubicBezTo>
                  <a:pt x="17182" y="4291"/>
                  <a:pt x="17173" y="4291"/>
                  <a:pt x="17165" y="4291"/>
                </a:cubicBezTo>
              </a:path>
              <a:path w="3945" h="2928">
                <a:moveTo>
                  <a:pt x="17711" y="3795"/>
                </a:moveTo>
                <a:cubicBezTo>
                  <a:pt x="17636" y="3919"/>
                  <a:pt x="17534" y="4047"/>
                  <a:pt x="17512" y="4192"/>
                </a:cubicBezTo>
                <a:cubicBezTo>
                  <a:pt x="17512" y="4200"/>
                  <a:pt x="17512" y="4209"/>
                  <a:pt x="17512" y="4217"/>
                </a:cubicBezTo>
                <a:cubicBezTo>
                  <a:pt x="17638" y="4217"/>
                  <a:pt x="17763" y="4225"/>
                  <a:pt x="17835" y="4093"/>
                </a:cubicBezTo>
                <a:cubicBezTo>
                  <a:pt x="17883" y="4005"/>
                  <a:pt x="17899" y="3856"/>
                  <a:pt x="17835" y="3770"/>
                </a:cubicBezTo>
                <a:cubicBezTo>
                  <a:pt x="17827" y="3770"/>
                  <a:pt x="17818" y="3770"/>
                  <a:pt x="17810" y="3770"/>
                </a:cubicBezTo>
              </a:path>
              <a:path w="3945" h="2928">
                <a:moveTo>
                  <a:pt x="16768" y="2828"/>
                </a:moveTo>
                <a:cubicBezTo>
                  <a:pt x="16727" y="2766"/>
                  <a:pt x="16600" y="2811"/>
                  <a:pt x="16520" y="2828"/>
                </a:cubicBezTo>
                <a:cubicBezTo>
                  <a:pt x="16571" y="2917"/>
                  <a:pt x="16804" y="3024"/>
                  <a:pt x="16743" y="3150"/>
                </a:cubicBezTo>
                <a:cubicBezTo>
                  <a:pt x="16642" y="3227"/>
                  <a:pt x="16606" y="3253"/>
                  <a:pt x="16520" y="3274"/>
                </a:cubicBezTo>
                <a:cubicBezTo>
                  <a:pt x="16470" y="3249"/>
                  <a:pt x="16454" y="3241"/>
                  <a:pt x="16446" y="3200"/>
                </a:cubicBezTo>
                <a:cubicBezTo>
                  <a:pt x="16570" y="3084"/>
                  <a:pt x="16766" y="2981"/>
                  <a:pt x="16842" y="2828"/>
                </a:cubicBezTo>
                <a:cubicBezTo>
                  <a:pt x="16869" y="2773"/>
                  <a:pt x="16826" y="2761"/>
                  <a:pt x="16793" y="2753"/>
                </a:cubicBezTo>
              </a:path>
              <a:path w="3945" h="2928">
                <a:moveTo>
                  <a:pt x="16942" y="3225"/>
                </a:moveTo>
                <a:cubicBezTo>
                  <a:pt x="16926" y="3260"/>
                  <a:pt x="16872" y="3342"/>
                  <a:pt x="16917" y="3274"/>
                </a:cubicBezTo>
              </a:path>
              <a:path w="3945" h="2928">
                <a:moveTo>
                  <a:pt x="17239" y="2828"/>
                </a:moveTo>
                <a:cubicBezTo>
                  <a:pt x="17239" y="2900"/>
                  <a:pt x="17216" y="2960"/>
                  <a:pt x="17190" y="3026"/>
                </a:cubicBezTo>
                <a:cubicBezTo>
                  <a:pt x="17255" y="3043"/>
                  <a:pt x="17310" y="3051"/>
                  <a:pt x="17388" y="3051"/>
                </a:cubicBezTo>
              </a:path>
              <a:path w="3945" h="2928">
                <a:moveTo>
                  <a:pt x="17413" y="2803"/>
                </a:moveTo>
                <a:cubicBezTo>
                  <a:pt x="17356" y="2940"/>
                  <a:pt x="17316" y="3079"/>
                  <a:pt x="17289" y="3225"/>
                </a:cubicBezTo>
                <a:cubicBezTo>
                  <a:pt x="17289" y="3257"/>
                  <a:pt x="17289" y="3257"/>
                  <a:pt x="17289" y="3200"/>
                </a:cubicBezTo>
              </a:path>
              <a:path w="3945" h="2928">
                <a:moveTo>
                  <a:pt x="17909" y="2753"/>
                </a:moveTo>
                <a:cubicBezTo>
                  <a:pt x="17834" y="2781"/>
                  <a:pt x="17761" y="2811"/>
                  <a:pt x="17686" y="2828"/>
                </a:cubicBezTo>
                <a:cubicBezTo>
                  <a:pt x="17626" y="2842"/>
                  <a:pt x="17604" y="2949"/>
                  <a:pt x="17562" y="3001"/>
                </a:cubicBezTo>
                <a:cubicBezTo>
                  <a:pt x="17639" y="2990"/>
                  <a:pt x="17700" y="2914"/>
                  <a:pt x="17785" y="2927"/>
                </a:cubicBezTo>
                <a:cubicBezTo>
                  <a:pt x="17913" y="2946"/>
                  <a:pt x="17861" y="3137"/>
                  <a:pt x="17810" y="3200"/>
                </a:cubicBezTo>
                <a:cubicBezTo>
                  <a:pt x="17716" y="3315"/>
                  <a:pt x="17584" y="3223"/>
                  <a:pt x="17487" y="3175"/>
                </a:cubicBezTo>
              </a:path>
              <a:path w="3945" h="2928">
                <a:moveTo>
                  <a:pt x="14833" y="4787"/>
                </a:moveTo>
                <a:cubicBezTo>
                  <a:pt x="15041" y="4731"/>
                  <a:pt x="15259" y="4686"/>
                  <a:pt x="15478" y="4663"/>
                </a:cubicBezTo>
                <a:cubicBezTo>
                  <a:pt x="16295" y="4576"/>
                  <a:pt x="17117" y="4570"/>
                  <a:pt x="17934" y="4614"/>
                </a:cubicBezTo>
                <a:cubicBezTo>
                  <a:pt x="18220" y="4629"/>
                  <a:pt x="18497" y="4645"/>
                  <a:pt x="18777" y="4688"/>
                </a:cubicBezTo>
              </a:path>
              <a:path w="3945" h="2928">
                <a:moveTo>
                  <a:pt x="17983" y="4887"/>
                </a:moveTo>
                <a:cubicBezTo>
                  <a:pt x="17970" y="4885"/>
                  <a:pt x="17799" y="4835"/>
                  <a:pt x="17785" y="4862"/>
                </a:cubicBezTo>
                <a:cubicBezTo>
                  <a:pt x="17762" y="4907"/>
                  <a:pt x="17735" y="4978"/>
                  <a:pt x="17735" y="5035"/>
                </a:cubicBezTo>
                <a:cubicBezTo>
                  <a:pt x="17818" y="5015"/>
                  <a:pt x="17943" y="4976"/>
                  <a:pt x="18008" y="5060"/>
                </a:cubicBezTo>
                <a:cubicBezTo>
                  <a:pt x="18053" y="5118"/>
                  <a:pt x="17949" y="5200"/>
                  <a:pt x="17909" y="5209"/>
                </a:cubicBezTo>
                <a:cubicBezTo>
                  <a:pt x="17861" y="5220"/>
                  <a:pt x="17723" y="5231"/>
                  <a:pt x="17686" y="5184"/>
                </a:cubicBezTo>
                <a:cubicBezTo>
                  <a:pt x="17669" y="5159"/>
                  <a:pt x="17653" y="5135"/>
                  <a:pt x="17636" y="5110"/>
                </a:cubicBezTo>
              </a:path>
              <a:path w="3945" h="2928">
                <a:moveTo>
                  <a:pt x="17363" y="4862"/>
                </a:moveTo>
                <a:cubicBezTo>
                  <a:pt x="17296" y="4862"/>
                  <a:pt x="17165" y="4833"/>
                  <a:pt x="17140" y="4887"/>
                </a:cubicBezTo>
                <a:cubicBezTo>
                  <a:pt x="17108" y="4949"/>
                  <a:pt x="17100" y="4980"/>
                  <a:pt x="17115" y="5035"/>
                </a:cubicBezTo>
                <a:cubicBezTo>
                  <a:pt x="17206" y="5035"/>
                  <a:pt x="17297" y="5035"/>
                  <a:pt x="17388" y="5035"/>
                </a:cubicBezTo>
                <a:cubicBezTo>
                  <a:pt x="17388" y="5189"/>
                  <a:pt x="17352" y="5177"/>
                  <a:pt x="17239" y="5259"/>
                </a:cubicBezTo>
                <a:cubicBezTo>
                  <a:pt x="17154" y="5321"/>
                  <a:pt x="17195" y="5320"/>
                  <a:pt x="17140" y="5259"/>
                </a:cubicBezTo>
                <a:cubicBezTo>
                  <a:pt x="17132" y="5251"/>
                  <a:pt x="17123" y="5242"/>
                  <a:pt x="17115" y="5234"/>
                </a:cubicBezTo>
              </a:path>
              <a:path w="3945" h="2928">
                <a:moveTo>
                  <a:pt x="16793" y="5209"/>
                </a:moveTo>
                <a:cubicBezTo>
                  <a:pt x="16810" y="5261"/>
                  <a:pt x="16853" y="5205"/>
                  <a:pt x="16818" y="5259"/>
                </a:cubicBezTo>
                <a:cubicBezTo>
                  <a:pt x="16840" y="5236"/>
                  <a:pt x="16848" y="5231"/>
                  <a:pt x="16842" y="5209"/>
                </a:cubicBezTo>
              </a:path>
              <a:path w="3945" h="2928">
                <a:moveTo>
                  <a:pt x="15999" y="5035"/>
                </a:moveTo>
                <a:cubicBezTo>
                  <a:pt x="15962" y="5236"/>
                  <a:pt x="15856" y="5440"/>
                  <a:pt x="15776" y="5631"/>
                </a:cubicBezTo>
                <a:cubicBezTo>
                  <a:pt x="15756" y="5671"/>
                  <a:pt x="15737" y="5687"/>
                  <a:pt x="15776" y="5680"/>
                </a:cubicBezTo>
              </a:path>
              <a:path w="3945" h="2928">
                <a:moveTo>
                  <a:pt x="16346" y="5035"/>
                </a:moveTo>
                <a:cubicBezTo>
                  <a:pt x="16416" y="5000"/>
                  <a:pt x="16442" y="4980"/>
                  <a:pt x="16520" y="4961"/>
                </a:cubicBezTo>
                <a:cubicBezTo>
                  <a:pt x="16651" y="5078"/>
                  <a:pt x="16585" y="5241"/>
                  <a:pt x="16421" y="5358"/>
                </a:cubicBezTo>
                <a:cubicBezTo>
                  <a:pt x="16314" y="5400"/>
                  <a:pt x="16290" y="5422"/>
                  <a:pt x="16222" y="5383"/>
                </a:cubicBezTo>
                <a:cubicBezTo>
                  <a:pt x="16238" y="5257"/>
                  <a:pt x="16334" y="5202"/>
                  <a:pt x="16470" y="5234"/>
                </a:cubicBezTo>
                <a:cubicBezTo>
                  <a:pt x="16544" y="5251"/>
                  <a:pt x="16599" y="5353"/>
                  <a:pt x="16570" y="538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537160" y="1535040"/>
            <a:ext cx="534960" cy="1430280"/>
          </a:xfrm>
          <a:custGeom>
            <a:avLst/>
            <a:gdLst/>
            <a:ahLst/>
            <a:rect l="l" t="t" r="r" b="b"/>
            <a:pathLst>
              <a:path w="1489" h="3970">
                <a:moveTo>
                  <a:pt x="16867" y="4266"/>
                </a:moveTo>
                <a:cubicBezTo>
                  <a:pt x="16867" y="4283"/>
                  <a:pt x="16867" y="4299"/>
                  <a:pt x="16867" y="4316"/>
                </a:cubicBezTo>
              </a:path>
              <a:path w="1489" h="3970">
                <a:moveTo>
                  <a:pt x="15429" y="7689"/>
                </a:moveTo>
                <a:lnTo>
                  <a:pt x="15429" y="7689"/>
                </a:lnTo>
                <a:lnTo>
                  <a:pt x="15429" y="7689"/>
                </a:lnTo>
              </a:path>
              <a:path w="1489" h="3970">
                <a:moveTo>
                  <a:pt x="15379" y="8210"/>
                </a:moveTo>
                <a:cubicBezTo>
                  <a:pt x="15387" y="8218"/>
                  <a:pt x="15396" y="8227"/>
                  <a:pt x="15404" y="8235"/>
                </a:cubicBezTo>
              </a:path>
              <a:path w="1489" h="3970">
                <a:moveTo>
                  <a:pt x="15404" y="8235"/>
                </a:moveTo>
                <a:lnTo>
                  <a:pt x="15404" y="8235"/>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26040" y="2598840"/>
            <a:ext cx="677880" cy="741240"/>
          </a:xfrm>
          <a:custGeom>
            <a:avLst/>
            <a:gdLst/>
            <a:ahLst/>
            <a:rect l="l" t="t" r="r" b="b"/>
            <a:pathLst>
              <a:path w="1886" h="2060">
                <a:moveTo>
                  <a:pt x="15701" y="7243"/>
                </a:moveTo>
                <a:cubicBezTo>
                  <a:pt x="15829" y="7204"/>
                  <a:pt x="15977" y="7184"/>
                  <a:pt x="15999" y="7367"/>
                </a:cubicBezTo>
                <a:cubicBezTo>
                  <a:pt x="16022" y="7553"/>
                  <a:pt x="15798" y="7601"/>
                  <a:pt x="15677" y="7590"/>
                </a:cubicBezTo>
                <a:cubicBezTo>
                  <a:pt x="15758" y="7481"/>
                  <a:pt x="15843" y="7451"/>
                  <a:pt x="15925" y="7590"/>
                </a:cubicBezTo>
                <a:cubicBezTo>
                  <a:pt x="15943" y="7648"/>
                  <a:pt x="15951" y="7654"/>
                  <a:pt x="15949" y="7689"/>
                </a:cubicBezTo>
              </a:path>
              <a:path w="1886" h="2060">
                <a:moveTo>
                  <a:pt x="15156" y="7962"/>
                </a:moveTo>
                <a:cubicBezTo>
                  <a:pt x="15092" y="7962"/>
                  <a:pt x="15035" y="7949"/>
                  <a:pt x="15007" y="7987"/>
                </a:cubicBezTo>
                <a:cubicBezTo>
                  <a:pt x="14975" y="8030"/>
                  <a:pt x="14975" y="8082"/>
                  <a:pt x="14957" y="8136"/>
                </a:cubicBezTo>
                <a:cubicBezTo>
                  <a:pt x="15031" y="8136"/>
                  <a:pt x="15087" y="8140"/>
                  <a:pt x="15156" y="8161"/>
                </a:cubicBezTo>
                <a:cubicBezTo>
                  <a:pt x="15173" y="8240"/>
                  <a:pt x="15151" y="8350"/>
                  <a:pt x="15032" y="8359"/>
                </a:cubicBezTo>
                <a:cubicBezTo>
                  <a:pt x="14957" y="8334"/>
                  <a:pt x="14932" y="8326"/>
                  <a:pt x="14932" y="8260"/>
                </a:cubicBezTo>
              </a:path>
              <a:path w="1886" h="2060">
                <a:moveTo>
                  <a:pt x="15776" y="7913"/>
                </a:moveTo>
                <a:cubicBezTo>
                  <a:pt x="15776" y="8024"/>
                  <a:pt x="15711" y="8156"/>
                  <a:pt x="15726" y="8260"/>
                </a:cubicBezTo>
                <a:cubicBezTo>
                  <a:pt x="15760" y="8488"/>
                  <a:pt x="16044" y="8408"/>
                  <a:pt x="16123" y="8260"/>
                </a:cubicBezTo>
                <a:cubicBezTo>
                  <a:pt x="16115" y="8243"/>
                  <a:pt x="16106" y="8227"/>
                  <a:pt x="16098" y="8210"/>
                </a:cubicBezTo>
                <a:cubicBezTo>
                  <a:pt x="15982" y="8201"/>
                  <a:pt x="15942" y="8207"/>
                  <a:pt x="15900" y="8334"/>
                </a:cubicBezTo>
              </a:path>
              <a:path w="1886" h="2060">
                <a:moveTo>
                  <a:pt x="14238" y="8508"/>
                </a:moveTo>
                <a:cubicBezTo>
                  <a:pt x="14695" y="8465"/>
                  <a:pt x="15166" y="8469"/>
                  <a:pt x="15627" y="8458"/>
                </a:cubicBezTo>
                <a:cubicBezTo>
                  <a:pt x="15742" y="8455"/>
                  <a:pt x="15859" y="8458"/>
                  <a:pt x="15974" y="8458"/>
                </a:cubicBezTo>
              </a:path>
              <a:path w="1886" h="2060">
                <a:moveTo>
                  <a:pt x="15949" y="8855"/>
                </a:moveTo>
                <a:cubicBezTo>
                  <a:pt x="16007" y="8855"/>
                  <a:pt x="15880" y="8838"/>
                  <a:pt x="15825" y="8855"/>
                </a:cubicBezTo>
                <a:cubicBezTo>
                  <a:pt x="15748" y="8894"/>
                  <a:pt x="15733" y="8893"/>
                  <a:pt x="15701" y="8930"/>
                </a:cubicBezTo>
                <a:cubicBezTo>
                  <a:pt x="15756" y="8995"/>
                  <a:pt x="15985" y="9133"/>
                  <a:pt x="15900" y="9227"/>
                </a:cubicBezTo>
                <a:cubicBezTo>
                  <a:pt x="15810" y="9272"/>
                  <a:pt x="15788" y="9292"/>
                  <a:pt x="15726" y="9252"/>
                </a:cubicBezTo>
                <a:cubicBezTo>
                  <a:pt x="15737" y="9072"/>
                  <a:pt x="15830" y="9055"/>
                  <a:pt x="15949" y="8905"/>
                </a:cubicBezTo>
              </a:path>
              <a:path w="1886" h="2060">
                <a:moveTo>
                  <a:pt x="15453" y="9178"/>
                </a:moveTo>
                <a:cubicBezTo>
                  <a:pt x="15453" y="9222"/>
                  <a:pt x="15465" y="9239"/>
                  <a:pt x="15429" y="9252"/>
                </a:cubicBezTo>
              </a:path>
              <a:path w="1886" h="2060">
                <a:moveTo>
                  <a:pt x="14610" y="8930"/>
                </a:moveTo>
                <a:cubicBezTo>
                  <a:pt x="14596" y="8887"/>
                  <a:pt x="14595" y="8891"/>
                  <a:pt x="14585" y="8905"/>
                </a:cubicBezTo>
                <a:cubicBezTo>
                  <a:pt x="14523" y="8992"/>
                  <a:pt x="14502" y="9168"/>
                  <a:pt x="14486" y="9277"/>
                </a:cubicBezTo>
              </a:path>
              <a:path w="1886" h="2060">
                <a:moveTo>
                  <a:pt x="15081" y="8781"/>
                </a:moveTo>
                <a:cubicBezTo>
                  <a:pt x="15030" y="8883"/>
                  <a:pt x="15056" y="9033"/>
                  <a:pt x="15056" y="9153"/>
                </a:cubicBezTo>
                <a:cubicBezTo>
                  <a:pt x="15056" y="9211"/>
                  <a:pt x="15056" y="9219"/>
                  <a:pt x="15056" y="92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599080" y="1411200"/>
            <a:ext cx="115920" cy="142920"/>
          </a:xfrm>
          <a:custGeom>
            <a:avLst/>
            <a:gdLst/>
            <a:ahLst/>
            <a:rect l="l" t="t" r="r" b="b"/>
            <a:pathLst>
              <a:path w="323" h="398">
                <a:moveTo>
                  <a:pt x="15801" y="3919"/>
                </a:moveTo>
                <a:cubicBezTo>
                  <a:pt x="15801" y="4032"/>
                  <a:pt x="15802" y="4158"/>
                  <a:pt x="15776" y="4266"/>
                </a:cubicBezTo>
                <a:cubicBezTo>
                  <a:pt x="15768" y="4283"/>
                  <a:pt x="15759" y="4299"/>
                  <a:pt x="15751" y="4316"/>
                </a:cubicBezTo>
              </a:path>
              <a:path w="323" h="398">
                <a:moveTo>
                  <a:pt x="15553" y="4142"/>
                </a:moveTo>
                <a:cubicBezTo>
                  <a:pt x="15676" y="4104"/>
                  <a:pt x="15748" y="4093"/>
                  <a:pt x="15875" y="40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875200" y="1276200"/>
            <a:ext cx="162000" cy="295560"/>
          </a:xfrm>
          <a:custGeom>
            <a:avLst/>
            <a:gdLst/>
            <a:ahLst/>
            <a:rect l="l" t="t" r="r" b="b"/>
            <a:pathLst>
              <a:path w="448" h="820">
                <a:moveTo>
                  <a:pt x="16470" y="3845"/>
                </a:moveTo>
                <a:cubicBezTo>
                  <a:pt x="16498" y="3859"/>
                  <a:pt x="16407" y="3953"/>
                  <a:pt x="16371" y="3994"/>
                </a:cubicBezTo>
                <a:cubicBezTo>
                  <a:pt x="16332" y="4032"/>
                  <a:pt x="16315" y="4034"/>
                  <a:pt x="16321" y="4068"/>
                </a:cubicBezTo>
                <a:cubicBezTo>
                  <a:pt x="16425" y="4068"/>
                  <a:pt x="16517" y="4079"/>
                  <a:pt x="16619" y="4093"/>
                </a:cubicBezTo>
                <a:cubicBezTo>
                  <a:pt x="16627" y="4093"/>
                  <a:pt x="16636" y="4093"/>
                  <a:pt x="16644" y="4093"/>
                </a:cubicBezTo>
              </a:path>
              <a:path w="448" h="820">
                <a:moveTo>
                  <a:pt x="16768" y="3547"/>
                </a:moveTo>
                <a:cubicBezTo>
                  <a:pt x="16710" y="3779"/>
                  <a:pt x="16651" y="4010"/>
                  <a:pt x="16594" y="4242"/>
                </a:cubicBezTo>
                <a:cubicBezTo>
                  <a:pt x="16576" y="4316"/>
                  <a:pt x="16568" y="4323"/>
                  <a:pt x="16570" y="4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072040" y="2894040"/>
            <a:ext cx="98280" cy="123840"/>
          </a:xfrm>
          <a:custGeom>
            <a:avLst/>
            <a:gdLst/>
            <a:ahLst/>
            <a:rect l="l" t="t" r="r" b="b"/>
            <a:pathLst>
              <a:path w="274" h="348">
                <a:moveTo>
                  <a:pt x="14238" y="8037"/>
                </a:moveTo>
                <a:cubicBezTo>
                  <a:pt x="14238" y="8141"/>
                  <a:pt x="14269" y="8233"/>
                  <a:pt x="14288" y="8334"/>
                </a:cubicBezTo>
                <a:cubicBezTo>
                  <a:pt x="14297" y="8381"/>
                  <a:pt x="14300" y="8384"/>
                  <a:pt x="14263" y="8359"/>
                </a:cubicBezTo>
              </a:path>
              <a:path w="274" h="348">
                <a:moveTo>
                  <a:pt x="14089" y="8285"/>
                </a:moveTo>
                <a:cubicBezTo>
                  <a:pt x="14185" y="8253"/>
                  <a:pt x="14274" y="8248"/>
                  <a:pt x="14362" y="82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7880" y="2660760"/>
            <a:ext cx="125280" cy="169920"/>
          </a:xfrm>
          <a:custGeom>
            <a:avLst/>
            <a:gdLst/>
            <a:ahLst/>
            <a:rect l="l" t="t" r="r" b="b"/>
            <a:pathLst>
              <a:path w="348" h="472">
                <a:moveTo>
                  <a:pt x="14932" y="7392"/>
                </a:moveTo>
                <a:cubicBezTo>
                  <a:pt x="14919" y="7510"/>
                  <a:pt x="14846" y="7696"/>
                  <a:pt x="14883" y="7813"/>
                </a:cubicBezTo>
                <a:cubicBezTo>
                  <a:pt x="14899" y="7830"/>
                  <a:pt x="14916" y="7846"/>
                  <a:pt x="14932" y="7863"/>
                </a:cubicBezTo>
                <a:cubicBezTo>
                  <a:pt x="15067" y="7847"/>
                  <a:pt x="15285" y="7818"/>
                  <a:pt x="15230" y="7615"/>
                </a:cubicBezTo>
                <a:cubicBezTo>
                  <a:pt x="15213" y="7598"/>
                  <a:pt x="15197" y="7582"/>
                  <a:pt x="15180" y="7565"/>
                </a:cubicBezTo>
                <a:cubicBezTo>
                  <a:pt x="15071" y="7610"/>
                  <a:pt x="15086" y="7705"/>
                  <a:pt x="15081" y="7813"/>
                </a:cubicBezTo>
                <a:cubicBezTo>
                  <a:pt x="15081" y="7821"/>
                  <a:pt x="15081" y="7830"/>
                  <a:pt x="15081" y="78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187720" y="3054240"/>
            <a:ext cx="134640" cy="152640"/>
          </a:xfrm>
          <a:custGeom>
            <a:avLst/>
            <a:gdLst/>
            <a:ahLst/>
            <a:rect l="l" t="t" r="r" b="b"/>
            <a:pathLst>
              <a:path w="373" h="423">
                <a:moveTo>
                  <a:pt x="6201" y="8483"/>
                </a:moveTo>
                <a:cubicBezTo>
                  <a:pt x="6150" y="8586"/>
                  <a:pt x="6097" y="8692"/>
                  <a:pt x="6077" y="8806"/>
                </a:cubicBezTo>
                <a:cubicBezTo>
                  <a:pt x="6059" y="8908"/>
                  <a:pt x="6205" y="8923"/>
                  <a:pt x="6276" y="8905"/>
                </a:cubicBezTo>
                <a:cubicBezTo>
                  <a:pt x="6356" y="8884"/>
                  <a:pt x="6395" y="8835"/>
                  <a:pt x="6449" y="8781"/>
                </a:cubicBezTo>
                <a:cubicBezTo>
                  <a:pt x="6406" y="8766"/>
                  <a:pt x="6310" y="8759"/>
                  <a:pt x="6300" y="8830"/>
                </a:cubicBezTo>
                <a:cubicBezTo>
                  <a:pt x="6300" y="8872"/>
                  <a:pt x="6300" y="8880"/>
                  <a:pt x="6300" y="89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017880" y="3054240"/>
            <a:ext cx="108000" cy="115920"/>
          </a:xfrm>
          <a:custGeom>
            <a:avLst/>
            <a:gdLst/>
            <a:ahLst/>
            <a:rect l="l" t="t" r="r" b="b"/>
            <a:pathLst>
              <a:path w="299" h="324">
                <a:moveTo>
                  <a:pt x="8682" y="8483"/>
                </a:moveTo>
                <a:cubicBezTo>
                  <a:pt x="8616" y="8483"/>
                  <a:pt x="8476" y="8452"/>
                  <a:pt x="8458" y="8508"/>
                </a:cubicBezTo>
                <a:cubicBezTo>
                  <a:pt x="8439" y="8565"/>
                  <a:pt x="8431" y="8572"/>
                  <a:pt x="8434" y="8607"/>
                </a:cubicBezTo>
                <a:cubicBezTo>
                  <a:pt x="8500" y="8607"/>
                  <a:pt x="8462" y="8586"/>
                  <a:pt x="8533" y="8582"/>
                </a:cubicBezTo>
                <a:cubicBezTo>
                  <a:pt x="8597" y="8578"/>
                  <a:pt x="8615" y="8605"/>
                  <a:pt x="8632" y="8657"/>
                </a:cubicBezTo>
                <a:cubicBezTo>
                  <a:pt x="8640" y="8682"/>
                  <a:pt x="8649" y="8706"/>
                  <a:pt x="8657" y="8731"/>
                </a:cubicBezTo>
                <a:cubicBezTo>
                  <a:pt x="8575" y="8782"/>
                  <a:pt x="8492" y="8848"/>
                  <a:pt x="8384" y="8806"/>
                </a:cubicBezTo>
                <a:cubicBezTo>
                  <a:pt x="8384" y="8781"/>
                  <a:pt x="8384" y="8773"/>
                  <a:pt x="8384" y="87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313080" y="3044880"/>
            <a:ext cx="135000" cy="142920"/>
          </a:xfrm>
          <a:custGeom>
            <a:avLst/>
            <a:gdLst/>
            <a:ahLst/>
            <a:rect l="l" t="t" r="r" b="b"/>
            <a:pathLst>
              <a:path w="373" h="398">
                <a:moveTo>
                  <a:pt x="9302" y="8458"/>
                </a:moveTo>
                <a:cubicBezTo>
                  <a:pt x="9290" y="8545"/>
                  <a:pt x="9258" y="8655"/>
                  <a:pt x="9227" y="8731"/>
                </a:cubicBezTo>
                <a:cubicBezTo>
                  <a:pt x="9205" y="8785"/>
                  <a:pt x="9269" y="8855"/>
                  <a:pt x="9351" y="8855"/>
                </a:cubicBezTo>
                <a:cubicBezTo>
                  <a:pt x="9391" y="8855"/>
                  <a:pt x="9551" y="8829"/>
                  <a:pt x="9575" y="8781"/>
                </a:cubicBezTo>
                <a:cubicBezTo>
                  <a:pt x="9595" y="8740"/>
                  <a:pt x="9570" y="8708"/>
                  <a:pt x="9550" y="8682"/>
                </a:cubicBezTo>
                <a:cubicBezTo>
                  <a:pt x="9471" y="8702"/>
                  <a:pt x="9433" y="8720"/>
                  <a:pt x="9426" y="8806"/>
                </a:cubicBezTo>
                <a:cubicBezTo>
                  <a:pt x="9426" y="8814"/>
                  <a:pt x="9426" y="8822"/>
                  <a:pt x="9426"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544840" y="3483000"/>
            <a:ext cx="125280" cy="88920"/>
          </a:xfrm>
          <a:custGeom>
            <a:avLst/>
            <a:gdLst/>
            <a:ahLst/>
            <a:rect l="l" t="t" r="r" b="b"/>
            <a:pathLst>
              <a:path w="349" h="249">
                <a:moveTo>
                  <a:pt x="7069" y="9674"/>
                </a:moveTo>
                <a:cubicBezTo>
                  <a:pt x="7185" y="9674"/>
                  <a:pt x="7301" y="9674"/>
                  <a:pt x="7417" y="9674"/>
                </a:cubicBezTo>
              </a:path>
              <a:path w="349" h="249">
                <a:moveTo>
                  <a:pt x="7069" y="9922"/>
                </a:moveTo>
                <a:cubicBezTo>
                  <a:pt x="7168" y="9922"/>
                  <a:pt x="7268" y="9922"/>
                  <a:pt x="7367" y="9922"/>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7" name=""/>
          <p:cNvSpPr/>
          <p:nvPr/>
        </p:nvSpPr>
        <p:spPr>
          <a:xfrm>
            <a:off x="2071800" y="3170160"/>
            <a:ext cx="1440" cy="1800"/>
          </a:xfrm>
          <a:custGeom>
            <a:avLst/>
            <a:gdLst/>
            <a:ahLst/>
            <a:rect l="l" t="t" r="r" b="b"/>
            <a:pathLst>
              <a:path w="1" h="1">
                <a:moveTo>
                  <a:pt x="5755" y="8806"/>
                </a:moveTo>
                <a:lnTo>
                  <a:pt x="5755" y="8806"/>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1562040" y="3116160"/>
            <a:ext cx="117360" cy="19080"/>
          </a:xfrm>
          <a:custGeom>
            <a:avLst/>
            <a:gdLst/>
            <a:ahLst/>
            <a:rect l="l" t="t" r="r" b="b"/>
            <a:pathLst>
              <a:path w="323" h="50">
                <a:moveTo>
                  <a:pt x="4341" y="8657"/>
                </a:moveTo>
                <a:cubicBezTo>
                  <a:pt x="4432" y="8657"/>
                  <a:pt x="4592" y="8630"/>
                  <a:pt x="4638" y="8682"/>
                </a:cubicBezTo>
                <a:cubicBezTo>
                  <a:pt x="4646" y="8690"/>
                  <a:pt x="4655" y="8698"/>
                  <a:pt x="4663" y="8706"/>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9" name=""/>
          <p:cNvSpPr/>
          <p:nvPr/>
        </p:nvSpPr>
        <p:spPr>
          <a:xfrm>
            <a:off x="1857240" y="3062160"/>
            <a:ext cx="492120" cy="669960"/>
          </a:xfrm>
          <a:custGeom>
            <a:avLst/>
            <a:gdLst/>
            <a:ahLst/>
            <a:rect l="l" t="t" r="r" b="b"/>
            <a:pathLst>
              <a:path w="1366" h="1861">
                <a:moveTo>
                  <a:pt x="5383" y="8533"/>
                </a:moveTo>
                <a:cubicBezTo>
                  <a:pt x="5369" y="8532"/>
                  <a:pt x="5189" y="8496"/>
                  <a:pt x="5184" y="8508"/>
                </a:cubicBezTo>
                <a:cubicBezTo>
                  <a:pt x="5162" y="8562"/>
                  <a:pt x="5159" y="8645"/>
                  <a:pt x="5159" y="8706"/>
                </a:cubicBezTo>
                <a:cubicBezTo>
                  <a:pt x="5211" y="8681"/>
                  <a:pt x="5368" y="8629"/>
                  <a:pt x="5432" y="8657"/>
                </a:cubicBezTo>
                <a:cubicBezTo>
                  <a:pt x="5520" y="8696"/>
                  <a:pt x="5525" y="8860"/>
                  <a:pt x="5432" y="8905"/>
                </a:cubicBezTo>
                <a:cubicBezTo>
                  <a:pt x="5360" y="8940"/>
                  <a:pt x="5285" y="8930"/>
                  <a:pt x="5209" y="8930"/>
                </a:cubicBezTo>
              </a:path>
              <a:path w="1366" h="1861">
                <a:moveTo>
                  <a:pt x="5879" y="9203"/>
                </a:moveTo>
                <a:cubicBezTo>
                  <a:pt x="5811" y="9203"/>
                  <a:pt x="5788" y="9187"/>
                  <a:pt x="5755" y="9277"/>
                </a:cubicBezTo>
                <a:cubicBezTo>
                  <a:pt x="5722" y="9368"/>
                  <a:pt x="5810" y="9394"/>
                  <a:pt x="5879" y="9351"/>
                </a:cubicBezTo>
                <a:cubicBezTo>
                  <a:pt x="5902" y="9337"/>
                  <a:pt x="5952" y="9275"/>
                  <a:pt x="5928" y="9227"/>
                </a:cubicBezTo>
                <a:cubicBezTo>
                  <a:pt x="5915" y="9200"/>
                  <a:pt x="5844" y="9180"/>
                  <a:pt x="5829" y="9178"/>
                </a:cubicBezTo>
                <a:cubicBezTo>
                  <a:pt x="5821" y="9178"/>
                  <a:pt x="5812" y="9178"/>
                  <a:pt x="5804" y="9178"/>
                </a:cubicBezTo>
              </a:path>
              <a:path w="1366" h="1861">
                <a:moveTo>
                  <a:pt x="5978" y="9872"/>
                </a:moveTo>
                <a:cubicBezTo>
                  <a:pt x="6048" y="9872"/>
                  <a:pt x="6106" y="9852"/>
                  <a:pt x="6176" y="9847"/>
                </a:cubicBezTo>
                <a:cubicBezTo>
                  <a:pt x="6262" y="9840"/>
                  <a:pt x="6312" y="9834"/>
                  <a:pt x="6375" y="9872"/>
                </a:cubicBezTo>
                <a:cubicBezTo>
                  <a:pt x="6305" y="10040"/>
                  <a:pt x="6187" y="10100"/>
                  <a:pt x="6052" y="10220"/>
                </a:cubicBezTo>
                <a:cubicBezTo>
                  <a:pt x="5999" y="10267"/>
                  <a:pt x="5977" y="10344"/>
                  <a:pt x="5928" y="10368"/>
                </a:cubicBezTo>
                <a:cubicBezTo>
                  <a:pt x="6054" y="10368"/>
                  <a:pt x="6174" y="10351"/>
                  <a:pt x="6300" y="10344"/>
                </a:cubicBezTo>
                <a:cubicBezTo>
                  <a:pt x="6374" y="10340"/>
                  <a:pt x="6450" y="10344"/>
                  <a:pt x="6524"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82960" y="3357720"/>
            <a:ext cx="500040" cy="250560"/>
          </a:xfrm>
          <a:custGeom>
            <a:avLst/>
            <a:gdLst/>
            <a:ahLst/>
            <a:rect l="l" t="t" r="r" b="b"/>
            <a:pathLst>
              <a:path w="1390" h="695">
                <a:moveTo>
                  <a:pt x="9401" y="9426"/>
                </a:moveTo>
                <a:cubicBezTo>
                  <a:pt x="9354" y="9410"/>
                  <a:pt x="9386" y="9376"/>
                  <a:pt x="9426" y="9351"/>
                </a:cubicBezTo>
                <a:cubicBezTo>
                  <a:pt x="9468" y="9324"/>
                  <a:pt x="9560" y="9322"/>
                  <a:pt x="9599" y="9351"/>
                </a:cubicBezTo>
                <a:cubicBezTo>
                  <a:pt x="9627" y="9372"/>
                  <a:pt x="9586" y="9481"/>
                  <a:pt x="9575" y="9500"/>
                </a:cubicBezTo>
                <a:cubicBezTo>
                  <a:pt x="9514" y="9599"/>
                  <a:pt x="9433" y="9645"/>
                  <a:pt x="9351" y="9723"/>
                </a:cubicBezTo>
                <a:cubicBezTo>
                  <a:pt x="9281" y="9789"/>
                  <a:pt x="9227" y="9864"/>
                  <a:pt x="9178" y="9947"/>
                </a:cubicBezTo>
                <a:cubicBezTo>
                  <a:pt x="9158" y="9987"/>
                  <a:pt x="9149" y="9993"/>
                  <a:pt x="9153" y="10021"/>
                </a:cubicBezTo>
                <a:cubicBezTo>
                  <a:pt x="9194" y="9971"/>
                  <a:pt x="9250" y="9893"/>
                  <a:pt x="9327" y="9897"/>
                </a:cubicBezTo>
                <a:cubicBezTo>
                  <a:pt x="9395" y="9901"/>
                  <a:pt x="9434" y="9999"/>
                  <a:pt x="9500" y="10021"/>
                </a:cubicBezTo>
                <a:cubicBezTo>
                  <a:pt x="9556" y="10040"/>
                  <a:pt x="9607" y="10009"/>
                  <a:pt x="9649" y="9996"/>
                </a:cubicBezTo>
                <a:cubicBezTo>
                  <a:pt x="9674" y="9996"/>
                  <a:pt x="9682" y="9996"/>
                  <a:pt x="9674" y="9971"/>
                </a:cubicBezTo>
              </a:path>
              <a:path w="1390" h="695">
                <a:moveTo>
                  <a:pt x="8409" y="9351"/>
                </a:moveTo>
                <a:cubicBezTo>
                  <a:pt x="8417" y="9343"/>
                  <a:pt x="8426" y="9335"/>
                  <a:pt x="8434" y="9327"/>
                </a:cubicBezTo>
                <a:cubicBezTo>
                  <a:pt x="8434" y="9388"/>
                  <a:pt x="8402" y="9418"/>
                  <a:pt x="8384" y="9475"/>
                </a:cubicBezTo>
                <a:cubicBezTo>
                  <a:pt x="8359" y="9552"/>
                  <a:pt x="8313" y="9643"/>
                  <a:pt x="8310" y="9723"/>
                </a:cubicBezTo>
                <a:cubicBezTo>
                  <a:pt x="8307" y="9796"/>
                  <a:pt x="8285" y="9825"/>
                  <a:pt x="8285" y="9897"/>
                </a:cubicBezTo>
                <a:cubicBezTo>
                  <a:pt x="8285" y="9966"/>
                  <a:pt x="8305" y="9980"/>
                  <a:pt x="8384" y="9996"/>
                </a:cubicBezTo>
                <a:cubicBezTo>
                  <a:pt x="8438" y="10007"/>
                  <a:pt x="8514" y="9968"/>
                  <a:pt x="8533" y="9947"/>
                </a:cubicBezTo>
                <a:cubicBezTo>
                  <a:pt x="8575" y="9899"/>
                  <a:pt x="8555" y="9921"/>
                  <a:pt x="8582" y="9872"/>
                </a:cubicBezTo>
                <a:cubicBezTo>
                  <a:pt x="8589" y="9860"/>
                  <a:pt x="8634" y="9795"/>
                  <a:pt x="8607" y="9773"/>
                </a:cubicBezTo>
                <a:cubicBezTo>
                  <a:pt x="8592" y="9761"/>
                  <a:pt x="8567" y="9736"/>
                  <a:pt x="8533" y="9748"/>
                </a:cubicBezTo>
                <a:cubicBezTo>
                  <a:pt x="8457" y="9775"/>
                  <a:pt x="8463" y="9849"/>
                  <a:pt x="8458" y="9922"/>
                </a:cubicBezTo>
                <a:cubicBezTo>
                  <a:pt x="8455" y="9967"/>
                  <a:pt x="8483" y="9989"/>
                  <a:pt x="8508" y="10021"/>
                </a:cubicBezTo>
              </a:path>
              <a:path w="1390" h="695">
                <a:moveTo>
                  <a:pt x="8830" y="9996"/>
                </a:moveTo>
                <a:cubicBezTo>
                  <a:pt x="8835" y="9981"/>
                  <a:pt x="8893" y="9956"/>
                  <a:pt x="8880" y="9947"/>
                </a:cubicBezTo>
                <a:cubicBezTo>
                  <a:pt x="8872" y="9947"/>
                  <a:pt x="8863" y="9947"/>
                  <a:pt x="8855" y="9947"/>
                </a:cubicBezTo>
                <a:cubicBezTo>
                  <a:pt x="8813" y="10002"/>
                  <a:pt x="8849" y="10035"/>
                  <a:pt x="8905" y="9996"/>
                </a:cubicBezTo>
                <a:cubicBezTo>
                  <a:pt x="8927" y="9974"/>
                  <a:pt x="8936" y="9969"/>
                  <a:pt x="8930" y="9947"/>
                </a:cubicBezTo>
                <a:cubicBezTo>
                  <a:pt x="8878" y="9954"/>
                  <a:pt x="8823" y="10009"/>
                  <a:pt x="8880" y="997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143000" y="3973680"/>
            <a:ext cx="241200" cy="544320"/>
          </a:xfrm>
          <a:custGeom>
            <a:avLst/>
            <a:gdLst/>
            <a:ahLst/>
            <a:rect l="l" t="t" r="r" b="b"/>
            <a:pathLst>
              <a:path w="671" h="1514">
                <a:moveTo>
                  <a:pt x="3200" y="11981"/>
                </a:moveTo>
                <a:cubicBezTo>
                  <a:pt x="3442" y="11980"/>
                  <a:pt x="3477" y="12222"/>
                  <a:pt x="3572" y="12427"/>
                </a:cubicBezTo>
                <a:cubicBezTo>
                  <a:pt x="3608" y="12500"/>
                  <a:pt x="3625" y="12505"/>
                  <a:pt x="3621" y="12551"/>
                </a:cubicBezTo>
              </a:path>
              <a:path w="671" h="1514">
                <a:moveTo>
                  <a:pt x="3175" y="11162"/>
                </a:moveTo>
                <a:cubicBezTo>
                  <a:pt x="3250" y="11106"/>
                  <a:pt x="3331" y="11073"/>
                  <a:pt x="3423" y="11038"/>
                </a:cubicBezTo>
                <a:cubicBezTo>
                  <a:pt x="3476" y="11165"/>
                  <a:pt x="3462" y="11237"/>
                  <a:pt x="3373" y="11361"/>
                </a:cubicBezTo>
                <a:cubicBezTo>
                  <a:pt x="3471" y="11361"/>
                  <a:pt x="3543" y="11354"/>
                  <a:pt x="3547" y="11485"/>
                </a:cubicBezTo>
                <a:cubicBezTo>
                  <a:pt x="3552" y="11668"/>
                  <a:pt x="3402" y="11658"/>
                  <a:pt x="3274" y="11658"/>
                </a:cubicBezTo>
                <a:cubicBezTo>
                  <a:pt x="3282" y="11658"/>
                  <a:pt x="3291" y="11658"/>
                  <a:pt x="3299" y="11658"/>
                </a:cubicBezTo>
              </a:path>
              <a:path w="671" h="1514">
                <a:moveTo>
                  <a:pt x="3845" y="11584"/>
                </a:moveTo>
                <a:cubicBezTo>
                  <a:pt x="3845" y="11716"/>
                  <a:pt x="3845" y="11849"/>
                  <a:pt x="3845" y="119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82880" y="4653000"/>
            <a:ext cx="401400" cy="177840"/>
          </a:xfrm>
          <a:custGeom>
            <a:avLst/>
            <a:gdLst/>
            <a:ahLst/>
            <a:rect l="l" t="t" r="r" b="b"/>
            <a:pathLst>
              <a:path w="1117" h="497">
                <a:moveTo>
                  <a:pt x="5507" y="13271"/>
                </a:moveTo>
                <a:cubicBezTo>
                  <a:pt x="5522" y="13225"/>
                  <a:pt x="5624" y="13215"/>
                  <a:pt x="5680" y="13196"/>
                </a:cubicBezTo>
                <a:cubicBezTo>
                  <a:pt x="5738" y="13177"/>
                  <a:pt x="5744" y="13168"/>
                  <a:pt x="5779" y="13171"/>
                </a:cubicBezTo>
              </a:path>
              <a:path w="1117" h="497">
                <a:moveTo>
                  <a:pt x="6003" y="13022"/>
                </a:moveTo>
                <a:cubicBezTo>
                  <a:pt x="6102" y="13047"/>
                  <a:pt x="6074" y="13187"/>
                  <a:pt x="6077" y="13271"/>
                </a:cubicBezTo>
                <a:cubicBezTo>
                  <a:pt x="6077" y="13287"/>
                  <a:pt x="6077" y="13304"/>
                  <a:pt x="6077" y="13320"/>
                </a:cubicBezTo>
              </a:path>
              <a:path w="1117" h="497">
                <a:moveTo>
                  <a:pt x="6375" y="12998"/>
                </a:moveTo>
                <a:cubicBezTo>
                  <a:pt x="6375" y="13091"/>
                  <a:pt x="6334" y="13180"/>
                  <a:pt x="6449" y="13196"/>
                </a:cubicBezTo>
                <a:cubicBezTo>
                  <a:pt x="6554" y="13211"/>
                  <a:pt x="6531" y="13188"/>
                  <a:pt x="6598" y="13171"/>
                </a:cubicBezTo>
              </a:path>
              <a:path w="1117" h="497">
                <a:moveTo>
                  <a:pt x="6573" y="12923"/>
                </a:moveTo>
                <a:cubicBezTo>
                  <a:pt x="6584" y="13045"/>
                  <a:pt x="6632" y="13200"/>
                  <a:pt x="6623" y="13320"/>
                </a:cubicBezTo>
                <a:cubicBezTo>
                  <a:pt x="6599" y="13368"/>
                  <a:pt x="6591" y="13382"/>
                  <a:pt x="6598"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41800" y="5010120"/>
            <a:ext cx="276120" cy="187200"/>
          </a:xfrm>
          <a:custGeom>
            <a:avLst/>
            <a:gdLst/>
            <a:ahLst/>
            <a:rect l="l" t="t" r="r" b="b"/>
            <a:pathLst>
              <a:path w="770" h="522">
                <a:moveTo>
                  <a:pt x="9004" y="14139"/>
                </a:moveTo>
                <a:cubicBezTo>
                  <a:pt x="9064" y="14248"/>
                  <a:pt x="9079" y="14309"/>
                  <a:pt x="9079" y="14436"/>
                </a:cubicBezTo>
                <a:cubicBezTo>
                  <a:pt x="9303" y="14212"/>
                  <a:pt x="9488" y="14048"/>
                  <a:pt x="9773" y="139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87280" y="4919760"/>
            <a:ext cx="312840" cy="322200"/>
          </a:xfrm>
          <a:custGeom>
            <a:avLst/>
            <a:gdLst/>
            <a:ahLst/>
            <a:rect l="l" t="t" r="r" b="b"/>
            <a:pathLst>
              <a:path w="869" h="894">
                <a:moveTo>
                  <a:pt x="4142" y="13767"/>
                </a:moveTo>
                <a:cubicBezTo>
                  <a:pt x="4142" y="13732"/>
                  <a:pt x="4138" y="13714"/>
                  <a:pt x="4118" y="13692"/>
                </a:cubicBezTo>
                <a:cubicBezTo>
                  <a:pt x="3972" y="13637"/>
                  <a:pt x="3880" y="13794"/>
                  <a:pt x="3894" y="13940"/>
                </a:cubicBezTo>
                <a:cubicBezTo>
                  <a:pt x="3910" y="14104"/>
                  <a:pt x="4135" y="13847"/>
                  <a:pt x="4142" y="13841"/>
                </a:cubicBezTo>
                <a:cubicBezTo>
                  <a:pt x="4150" y="13816"/>
                  <a:pt x="4159" y="13792"/>
                  <a:pt x="4167" y="13767"/>
                </a:cubicBezTo>
                <a:cubicBezTo>
                  <a:pt x="4167" y="13948"/>
                  <a:pt x="4149" y="14138"/>
                  <a:pt x="4093" y="14312"/>
                </a:cubicBezTo>
                <a:cubicBezTo>
                  <a:pt x="4085" y="14320"/>
                  <a:pt x="4076" y="14329"/>
                  <a:pt x="4068" y="14337"/>
                </a:cubicBezTo>
              </a:path>
              <a:path w="869" h="894">
                <a:moveTo>
                  <a:pt x="3473" y="14163"/>
                </a:moveTo>
                <a:cubicBezTo>
                  <a:pt x="3473" y="14065"/>
                  <a:pt x="3566" y="14051"/>
                  <a:pt x="3646" y="14089"/>
                </a:cubicBezTo>
                <a:cubicBezTo>
                  <a:pt x="3844" y="14184"/>
                  <a:pt x="3625" y="14426"/>
                  <a:pt x="3522" y="14486"/>
                </a:cubicBezTo>
                <a:cubicBezTo>
                  <a:pt x="3387" y="14565"/>
                  <a:pt x="3326" y="14542"/>
                  <a:pt x="3299" y="14412"/>
                </a:cubicBezTo>
                <a:cubicBezTo>
                  <a:pt x="3452" y="14370"/>
                  <a:pt x="3593" y="14375"/>
                  <a:pt x="3721" y="14486"/>
                </a:cubicBezTo>
                <a:cubicBezTo>
                  <a:pt x="3741" y="14526"/>
                  <a:pt x="3750" y="14533"/>
                  <a:pt x="3746" y="145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58960" y="5081760"/>
            <a:ext cx="108000" cy="106200"/>
          </a:xfrm>
          <a:custGeom>
            <a:avLst/>
            <a:gdLst/>
            <a:ahLst/>
            <a:rect l="l" t="t" r="r" b="b"/>
            <a:pathLst>
              <a:path w="298" h="299">
                <a:moveTo>
                  <a:pt x="4911" y="14114"/>
                </a:moveTo>
                <a:cubicBezTo>
                  <a:pt x="4953" y="14169"/>
                  <a:pt x="5058" y="14166"/>
                  <a:pt x="5135" y="14139"/>
                </a:cubicBezTo>
                <a:cubicBezTo>
                  <a:pt x="5163" y="14129"/>
                  <a:pt x="5264" y="14048"/>
                  <a:pt x="5110" y="14163"/>
                </a:cubicBezTo>
              </a:path>
              <a:path w="298" h="299">
                <a:moveTo>
                  <a:pt x="4887" y="14387"/>
                </a:moveTo>
                <a:cubicBezTo>
                  <a:pt x="4967" y="14428"/>
                  <a:pt x="5017" y="14395"/>
                  <a:pt x="5110" y="14387"/>
                </a:cubicBezTo>
                <a:cubicBezTo>
                  <a:pt x="5118" y="14387"/>
                  <a:pt x="5127" y="14387"/>
                  <a:pt x="5135" y="143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303640" y="4938840"/>
            <a:ext cx="233280" cy="330120"/>
          </a:xfrm>
          <a:custGeom>
            <a:avLst/>
            <a:gdLst/>
            <a:ahLst/>
            <a:rect l="l" t="t" r="r" b="b"/>
            <a:pathLst>
              <a:path w="646" h="919">
                <a:moveTo>
                  <a:pt x="6697" y="13791"/>
                </a:moveTo>
                <a:cubicBezTo>
                  <a:pt x="6683" y="13750"/>
                  <a:pt x="6655" y="13724"/>
                  <a:pt x="6598" y="13717"/>
                </a:cubicBezTo>
                <a:cubicBezTo>
                  <a:pt x="6459" y="13701"/>
                  <a:pt x="6420" y="13895"/>
                  <a:pt x="6400" y="13990"/>
                </a:cubicBezTo>
                <a:cubicBezTo>
                  <a:pt x="6541" y="13982"/>
                  <a:pt x="6701" y="13938"/>
                  <a:pt x="6623" y="13791"/>
                </a:cubicBezTo>
                <a:cubicBezTo>
                  <a:pt x="6587" y="13724"/>
                  <a:pt x="6569" y="13761"/>
                  <a:pt x="6598" y="13717"/>
                </a:cubicBezTo>
              </a:path>
              <a:path w="646" h="919">
                <a:moveTo>
                  <a:pt x="6648" y="14288"/>
                </a:moveTo>
                <a:cubicBezTo>
                  <a:pt x="6634" y="14394"/>
                  <a:pt x="6628" y="14476"/>
                  <a:pt x="6623" y="14585"/>
                </a:cubicBezTo>
                <a:cubicBezTo>
                  <a:pt x="6623" y="14600"/>
                  <a:pt x="6601" y="14314"/>
                  <a:pt x="6648" y="14238"/>
                </a:cubicBezTo>
                <a:cubicBezTo>
                  <a:pt x="6762" y="14053"/>
                  <a:pt x="7006" y="14172"/>
                  <a:pt x="7045" y="14337"/>
                </a:cubicBezTo>
                <a:cubicBezTo>
                  <a:pt x="7069" y="14437"/>
                  <a:pt x="7020" y="14535"/>
                  <a:pt x="7020" y="146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09800" y="4732200"/>
            <a:ext cx="88920" cy="9720"/>
          </a:xfrm>
          <a:custGeom>
            <a:avLst/>
            <a:gdLst/>
            <a:ahLst/>
            <a:rect l="l" t="t" r="r" b="b"/>
            <a:pathLst>
              <a:path w="249" h="26">
                <a:moveTo>
                  <a:pt x="2803" y="13146"/>
                </a:moveTo>
                <a:cubicBezTo>
                  <a:pt x="2866" y="13162"/>
                  <a:pt x="2903" y="13149"/>
                  <a:pt x="2977" y="13146"/>
                </a:cubicBezTo>
                <a:cubicBezTo>
                  <a:pt x="3002" y="13146"/>
                  <a:pt x="3026" y="13146"/>
                  <a:pt x="3051" y="13146"/>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8" name=""/>
          <p:cNvSpPr/>
          <p:nvPr/>
        </p:nvSpPr>
        <p:spPr>
          <a:xfrm>
            <a:off x="1197000" y="4697280"/>
            <a:ext cx="34920" cy="115920"/>
          </a:xfrm>
          <a:custGeom>
            <a:avLst/>
            <a:gdLst/>
            <a:ahLst/>
            <a:rect l="l" t="t" r="r" b="b"/>
            <a:pathLst>
              <a:path w="100" h="324">
                <a:moveTo>
                  <a:pt x="3324" y="13047"/>
                </a:moveTo>
                <a:cubicBezTo>
                  <a:pt x="3362" y="13155"/>
                  <a:pt x="3391" y="13260"/>
                  <a:pt x="3423" y="133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339920" y="4660920"/>
            <a:ext cx="98280" cy="189000"/>
          </a:xfrm>
          <a:custGeom>
            <a:avLst/>
            <a:gdLst/>
            <a:ahLst/>
            <a:rect l="l" t="t" r="r" b="b"/>
            <a:pathLst>
              <a:path w="274" h="522">
                <a:moveTo>
                  <a:pt x="3721" y="13022"/>
                </a:moveTo>
                <a:cubicBezTo>
                  <a:pt x="3748" y="13103"/>
                  <a:pt x="3724" y="13187"/>
                  <a:pt x="3820" y="13196"/>
                </a:cubicBezTo>
                <a:cubicBezTo>
                  <a:pt x="3942" y="13207"/>
                  <a:pt x="3934" y="13169"/>
                  <a:pt x="3994" y="13072"/>
                </a:cubicBezTo>
              </a:path>
              <a:path w="274" h="522">
                <a:moveTo>
                  <a:pt x="3969" y="12948"/>
                </a:moveTo>
                <a:cubicBezTo>
                  <a:pt x="3979" y="13067"/>
                  <a:pt x="4049" y="13306"/>
                  <a:pt x="3994" y="13419"/>
                </a:cubicBezTo>
                <a:cubicBezTo>
                  <a:pt x="3969" y="13436"/>
                  <a:pt x="3944" y="13452"/>
                  <a:pt x="3919" y="134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97000" y="1731960"/>
            <a:ext cx="3160800" cy="125280"/>
          </a:xfrm>
          <a:custGeom>
            <a:avLst/>
            <a:gdLst/>
            <a:ahLst/>
            <a:rect l="l" t="t" r="r" b="b"/>
            <a:pathLst>
              <a:path w="8782" h="348">
                <a:moveTo>
                  <a:pt x="3324" y="5159"/>
                </a:moveTo>
                <a:cubicBezTo>
                  <a:pt x="3514" y="5143"/>
                  <a:pt x="3705" y="5118"/>
                  <a:pt x="3894" y="5110"/>
                </a:cubicBezTo>
                <a:cubicBezTo>
                  <a:pt x="4102" y="5101"/>
                  <a:pt x="4312" y="5110"/>
                  <a:pt x="4514" y="5110"/>
                </a:cubicBezTo>
                <a:cubicBezTo>
                  <a:pt x="4813" y="5110"/>
                  <a:pt x="5113" y="5096"/>
                  <a:pt x="5407" y="5085"/>
                </a:cubicBezTo>
                <a:cubicBezTo>
                  <a:pt x="5559" y="5079"/>
                  <a:pt x="5704" y="5073"/>
                  <a:pt x="5854" y="5060"/>
                </a:cubicBezTo>
                <a:cubicBezTo>
                  <a:pt x="6043" y="5043"/>
                  <a:pt x="6235" y="5052"/>
                  <a:pt x="6424" y="5035"/>
                </a:cubicBezTo>
                <a:cubicBezTo>
                  <a:pt x="6638" y="5016"/>
                  <a:pt x="6856" y="5009"/>
                  <a:pt x="7069" y="4986"/>
                </a:cubicBezTo>
                <a:cubicBezTo>
                  <a:pt x="7234" y="4968"/>
                  <a:pt x="7401" y="4956"/>
                  <a:pt x="7565" y="4936"/>
                </a:cubicBezTo>
                <a:cubicBezTo>
                  <a:pt x="7727" y="4916"/>
                  <a:pt x="7898" y="4893"/>
                  <a:pt x="8062" y="4887"/>
                </a:cubicBezTo>
                <a:cubicBezTo>
                  <a:pt x="8689" y="4865"/>
                  <a:pt x="9324" y="4882"/>
                  <a:pt x="9947" y="4862"/>
                </a:cubicBezTo>
                <a:cubicBezTo>
                  <a:pt x="10121" y="4856"/>
                  <a:pt x="10296" y="4844"/>
                  <a:pt x="10468" y="4837"/>
                </a:cubicBezTo>
                <a:cubicBezTo>
                  <a:pt x="10692" y="4828"/>
                  <a:pt x="10915" y="4820"/>
                  <a:pt x="11137" y="4812"/>
                </a:cubicBezTo>
                <a:cubicBezTo>
                  <a:pt x="11459" y="4800"/>
                  <a:pt x="11783" y="4812"/>
                  <a:pt x="12105" y="48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911160" y="4911840"/>
            <a:ext cx="2268720" cy="106200"/>
          </a:xfrm>
          <a:custGeom>
            <a:avLst/>
            <a:gdLst/>
            <a:ahLst/>
            <a:rect l="l" t="t" r="r" b="b"/>
            <a:pathLst>
              <a:path w="6301" h="298">
                <a:moveTo>
                  <a:pt x="2555" y="13940"/>
                </a:moveTo>
                <a:cubicBezTo>
                  <a:pt x="2722" y="13880"/>
                  <a:pt x="3256" y="13773"/>
                  <a:pt x="3497" y="13742"/>
                </a:cubicBezTo>
                <a:cubicBezTo>
                  <a:pt x="4789" y="13576"/>
                  <a:pt x="6071" y="13707"/>
                  <a:pt x="7367" y="13717"/>
                </a:cubicBezTo>
                <a:cubicBezTo>
                  <a:pt x="7858" y="13721"/>
                  <a:pt x="8341" y="13693"/>
                  <a:pt x="8830" y="13667"/>
                </a:cubicBezTo>
                <a:cubicBezTo>
                  <a:pt x="8822" y="13667"/>
                  <a:pt x="8814" y="13667"/>
                  <a:pt x="8806" y="136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6">
                                            <p:txEl>
                                              <p:pRg st="1" end="1"/>
                                            </p:txEl>
                                          </p:spTgt>
                                        </p:tgtEl>
                                        <p:attrNameLst>
                                          <p:attrName>style.visibility</p:attrName>
                                        </p:attrNameLst>
                                      </p:cBhvr>
                                      <p:to>
                                        <p:strVal val="visible"/>
                                      </p:to>
                                    </p:set>
                                    <p:anim calcmode="lin" valueType="num">
                                      <p:cBhvr additive="base">
                                        <p:cTn id="6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6">
                                            <p:txEl>
                                              <p:pRg st="2" end="2"/>
                                            </p:txEl>
                                          </p:spTgt>
                                        </p:tgtEl>
                                        <p:attrNameLst>
                                          <p:attrName>style.visibility</p:attrName>
                                        </p:attrNameLst>
                                      </p:cBhvr>
                                      <p:to>
                                        <p:strVal val="visible"/>
                                      </p:to>
                                    </p:set>
                                    <p:anim calcmode="lin" valueType="num">
                                      <p:cBhvr additive="base">
                                        <p:cTn id="73"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66">
                                            <p:txEl>
                                              <p:pRg st="2" end="2"/>
                                            </p:txEl>
                                          </p:spTgt>
                                        </p:tgtEl>
                                        <p:attrNameLst>
                                          <p:attrName>style.visibility</p:attrName>
                                        </p:attrNameLst>
                                      </p:cBhvr>
                                      <p:to>
                                        <p:strVal val="visible"/>
                                      </p:to>
                                    </p:set>
                                    <p:anim calcmode="lin" valueType="num">
                                      <p:cBhvr additive="base">
                                        <p:cTn id="79"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Determine the unknown in a linear equation</a:t>
            </a:r>
            <a:endParaRPr b="0" lang="en-US" sz="20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This month you have talked 345 minutes on your cell phone. You can use 500 minutes before you have to pay extra fees. Write and solve an equation to find the number </a:t>
            </a:r>
            <a:r>
              <a:rPr b="0" i="1" lang="en-US" sz="2600" spc="-1" strike="noStrike">
                <a:solidFill>
                  <a:srgbClr val="000000"/>
                </a:solidFill>
                <a:latin typeface="Comic Sans MS"/>
              </a:rPr>
              <a:t>m</a:t>
            </a:r>
            <a:r>
              <a:rPr b="0" lang="en-US" sz="2600" spc="-1" strike="noStrike">
                <a:solidFill>
                  <a:srgbClr val="000000"/>
                </a:solidFill>
                <a:latin typeface="Comic Sans MS"/>
              </a:rPr>
              <a:t> of minutes before you have to pay extra fee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13" name=""/>
          <p:cNvSpPr/>
          <p:nvPr/>
        </p:nvSpPr>
        <p:spPr>
          <a:xfrm>
            <a:off x="3081240" y="3776760"/>
            <a:ext cx="5321520" cy="598320"/>
          </a:xfrm>
          <a:custGeom>
            <a:avLst/>
            <a:gdLst/>
            <a:ahLst/>
            <a:rect l="l" t="t" r="r" b="b"/>
            <a:pathLst>
              <a:path w="14784" h="1663">
                <a:moveTo>
                  <a:pt x="8558" y="11162"/>
                </a:moveTo>
                <a:cubicBezTo>
                  <a:pt x="8616" y="11361"/>
                  <a:pt x="8666" y="11550"/>
                  <a:pt x="8682" y="11757"/>
                </a:cubicBezTo>
              </a:path>
              <a:path w="14784" h="1663">
                <a:moveTo>
                  <a:pt x="20290" y="10716"/>
                </a:moveTo>
                <a:cubicBezTo>
                  <a:pt x="20415" y="10716"/>
                  <a:pt x="20457" y="10716"/>
                  <a:pt x="20538" y="10691"/>
                </a:cubicBezTo>
              </a:path>
              <a:path w="14784" h="1663">
                <a:moveTo>
                  <a:pt x="21779" y="10641"/>
                </a:moveTo>
                <a:cubicBezTo>
                  <a:pt x="21912" y="10624"/>
                  <a:pt x="21999" y="10609"/>
                  <a:pt x="22126" y="10641"/>
                </a:cubicBezTo>
              </a:path>
              <a:path w="14784" h="1663">
                <a:moveTo>
                  <a:pt x="21853" y="10864"/>
                </a:moveTo>
                <a:cubicBezTo>
                  <a:pt x="22007" y="10839"/>
                  <a:pt x="22062" y="10829"/>
                  <a:pt x="22151" y="10765"/>
                </a:cubicBezTo>
              </a:path>
              <a:path w="14784" h="1663">
                <a:moveTo>
                  <a:pt x="22151" y="10765"/>
                </a:moveTo>
                <a:lnTo>
                  <a:pt x="22151" y="10765"/>
                </a:lnTo>
              </a:path>
              <a:path w="14784" h="1663">
                <a:moveTo>
                  <a:pt x="23019" y="10492"/>
                </a:moveTo>
                <a:cubicBezTo>
                  <a:pt x="23006" y="10579"/>
                  <a:pt x="22971" y="10732"/>
                  <a:pt x="23093" y="10765"/>
                </a:cubicBezTo>
                <a:cubicBezTo>
                  <a:pt x="23226" y="10787"/>
                  <a:pt x="23260" y="10800"/>
                  <a:pt x="23341" y="10765"/>
                </a:cubicBezTo>
              </a:path>
              <a:path w="14784" h="1663">
                <a:moveTo>
                  <a:pt x="10046" y="11931"/>
                </a:moveTo>
                <a:cubicBezTo>
                  <a:pt x="10022" y="12015"/>
                  <a:pt x="10031" y="12131"/>
                  <a:pt x="10145" y="12154"/>
                </a:cubicBezTo>
                <a:cubicBezTo>
                  <a:pt x="10255" y="12154"/>
                  <a:pt x="10299" y="12150"/>
                  <a:pt x="10368" y="12105"/>
                </a:cubicBezTo>
              </a:path>
              <a:path w="14784" h="1663">
                <a:moveTo>
                  <a:pt x="10740" y="11956"/>
                </a:moveTo>
                <a:cubicBezTo>
                  <a:pt x="10715" y="11902"/>
                  <a:pt x="10893" y="11835"/>
                  <a:pt x="10964" y="11807"/>
                </a:cubicBezTo>
                <a:cubicBezTo>
                  <a:pt x="10989" y="11799"/>
                  <a:pt x="11013" y="11790"/>
                  <a:pt x="11038" y="117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527200" y="3867120"/>
            <a:ext cx="1446480" cy="419040"/>
          </a:xfrm>
          <a:custGeom>
            <a:avLst/>
            <a:gdLst/>
            <a:ahLst/>
            <a:rect l="l" t="t" r="r" b="b"/>
            <a:pathLst>
              <a:path w="4019" h="1167">
                <a:moveTo>
                  <a:pt x="7045" y="11112"/>
                </a:moveTo>
                <a:cubicBezTo>
                  <a:pt x="7077" y="11316"/>
                  <a:pt x="7106" y="11525"/>
                  <a:pt x="7119" y="11733"/>
                </a:cubicBezTo>
                <a:cubicBezTo>
                  <a:pt x="7119" y="11834"/>
                  <a:pt x="7129" y="11855"/>
                  <a:pt x="7094" y="11906"/>
                </a:cubicBezTo>
                <a:cubicBezTo>
                  <a:pt x="7035" y="11671"/>
                  <a:pt x="6964" y="11434"/>
                  <a:pt x="7119" y="11212"/>
                </a:cubicBezTo>
                <a:cubicBezTo>
                  <a:pt x="7332" y="10906"/>
                  <a:pt x="7590" y="11347"/>
                  <a:pt x="7640" y="11534"/>
                </a:cubicBezTo>
                <a:cubicBezTo>
                  <a:pt x="7640" y="11575"/>
                  <a:pt x="7640" y="11617"/>
                  <a:pt x="7640" y="11658"/>
                </a:cubicBezTo>
                <a:cubicBezTo>
                  <a:pt x="7640" y="11666"/>
                  <a:pt x="7640" y="11675"/>
                  <a:pt x="7640" y="11683"/>
                </a:cubicBezTo>
                <a:cubicBezTo>
                  <a:pt x="7586" y="11509"/>
                  <a:pt x="7529" y="11284"/>
                  <a:pt x="7714" y="11162"/>
                </a:cubicBezTo>
                <a:cubicBezTo>
                  <a:pt x="7959" y="11001"/>
                  <a:pt x="8060" y="11497"/>
                  <a:pt x="8062" y="11633"/>
                </a:cubicBezTo>
                <a:cubicBezTo>
                  <a:pt x="8043" y="11749"/>
                  <a:pt x="8034" y="11765"/>
                  <a:pt x="8037" y="11832"/>
                </a:cubicBezTo>
              </a:path>
              <a:path w="4019" h="1167">
                <a:moveTo>
                  <a:pt x="8334" y="11485"/>
                </a:moveTo>
                <a:cubicBezTo>
                  <a:pt x="8547" y="11442"/>
                  <a:pt x="8751" y="11389"/>
                  <a:pt x="8954" y="11311"/>
                </a:cubicBezTo>
              </a:path>
              <a:path w="4019" h="1167">
                <a:moveTo>
                  <a:pt x="9227" y="10914"/>
                </a:moveTo>
                <a:cubicBezTo>
                  <a:pt x="9289" y="10838"/>
                  <a:pt x="9508" y="10765"/>
                  <a:pt x="9575" y="10914"/>
                </a:cubicBezTo>
                <a:cubicBezTo>
                  <a:pt x="9634" y="11044"/>
                  <a:pt x="9443" y="11149"/>
                  <a:pt x="9351" y="11162"/>
                </a:cubicBezTo>
                <a:cubicBezTo>
                  <a:pt x="9487" y="11116"/>
                  <a:pt x="9864" y="11093"/>
                  <a:pt x="9674" y="11385"/>
                </a:cubicBezTo>
                <a:cubicBezTo>
                  <a:pt x="9579" y="11530"/>
                  <a:pt x="9217" y="11780"/>
                  <a:pt x="9277" y="11485"/>
                </a:cubicBezTo>
              </a:path>
              <a:path w="4019" h="1167">
                <a:moveTo>
                  <a:pt x="9847" y="10889"/>
                </a:moveTo>
                <a:cubicBezTo>
                  <a:pt x="9864" y="10990"/>
                  <a:pt x="9880" y="11130"/>
                  <a:pt x="9947" y="11212"/>
                </a:cubicBezTo>
                <a:cubicBezTo>
                  <a:pt x="10048" y="11336"/>
                  <a:pt x="10169" y="11232"/>
                  <a:pt x="10269" y="11187"/>
                </a:cubicBezTo>
              </a:path>
              <a:path w="4019" h="1167">
                <a:moveTo>
                  <a:pt x="10220" y="10740"/>
                </a:moveTo>
                <a:cubicBezTo>
                  <a:pt x="10220" y="10961"/>
                  <a:pt x="10147" y="11417"/>
                  <a:pt x="10244" y="11584"/>
                </a:cubicBezTo>
              </a:path>
              <a:path w="4019" h="1167">
                <a:moveTo>
                  <a:pt x="10889" y="10790"/>
                </a:moveTo>
                <a:cubicBezTo>
                  <a:pt x="10784" y="10811"/>
                  <a:pt x="10667" y="10853"/>
                  <a:pt x="10592" y="10939"/>
                </a:cubicBezTo>
                <a:cubicBezTo>
                  <a:pt x="10525" y="11016"/>
                  <a:pt x="10523" y="11052"/>
                  <a:pt x="10542" y="11137"/>
                </a:cubicBezTo>
                <a:cubicBezTo>
                  <a:pt x="10673" y="11127"/>
                  <a:pt x="10879" y="11075"/>
                  <a:pt x="10988" y="11187"/>
                </a:cubicBezTo>
                <a:cubicBezTo>
                  <a:pt x="11170" y="11375"/>
                  <a:pt x="10976" y="11552"/>
                  <a:pt x="10790" y="11584"/>
                </a:cubicBezTo>
                <a:cubicBezTo>
                  <a:pt x="10572" y="11622"/>
                  <a:pt x="10622" y="11576"/>
                  <a:pt x="10666" y="114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125960" y="3911760"/>
            <a:ext cx="955800" cy="276120"/>
          </a:xfrm>
          <a:custGeom>
            <a:avLst/>
            <a:gdLst/>
            <a:ahLst/>
            <a:rect l="l" t="t" r="r" b="b"/>
            <a:pathLst>
              <a:path w="2655" h="770">
                <a:moveTo>
                  <a:pt x="11460" y="11137"/>
                </a:moveTo>
                <a:cubicBezTo>
                  <a:pt x="11601" y="11127"/>
                  <a:pt x="11740" y="11101"/>
                  <a:pt x="11881" y="11088"/>
                </a:cubicBezTo>
                <a:cubicBezTo>
                  <a:pt x="11873" y="11088"/>
                  <a:pt x="11865" y="11088"/>
                  <a:pt x="11857" y="11088"/>
                </a:cubicBezTo>
              </a:path>
              <a:path w="2655" h="770">
                <a:moveTo>
                  <a:pt x="11485" y="11361"/>
                </a:moveTo>
                <a:cubicBezTo>
                  <a:pt x="11653" y="11331"/>
                  <a:pt x="11810" y="11286"/>
                  <a:pt x="11981" y="11286"/>
                </a:cubicBezTo>
              </a:path>
              <a:path w="2655" h="770">
                <a:moveTo>
                  <a:pt x="12626" y="10864"/>
                </a:moveTo>
                <a:cubicBezTo>
                  <a:pt x="12492" y="10900"/>
                  <a:pt x="12452" y="10876"/>
                  <a:pt x="12452" y="11013"/>
                </a:cubicBezTo>
                <a:cubicBezTo>
                  <a:pt x="12452" y="11145"/>
                  <a:pt x="12452" y="11178"/>
                  <a:pt x="12452" y="11261"/>
                </a:cubicBezTo>
                <a:cubicBezTo>
                  <a:pt x="12582" y="11251"/>
                  <a:pt x="12834" y="11155"/>
                  <a:pt x="12898" y="11336"/>
                </a:cubicBezTo>
                <a:cubicBezTo>
                  <a:pt x="12970" y="11538"/>
                  <a:pt x="12540" y="11704"/>
                  <a:pt x="12402" y="11633"/>
                </a:cubicBezTo>
                <a:cubicBezTo>
                  <a:pt x="12402" y="11608"/>
                  <a:pt x="12402" y="11584"/>
                  <a:pt x="12402" y="11559"/>
                </a:cubicBezTo>
              </a:path>
              <a:path w="2655" h="770">
                <a:moveTo>
                  <a:pt x="13246" y="10939"/>
                </a:moveTo>
                <a:cubicBezTo>
                  <a:pt x="13104" y="11080"/>
                  <a:pt x="12940" y="11322"/>
                  <a:pt x="13072" y="11534"/>
                </a:cubicBezTo>
                <a:cubicBezTo>
                  <a:pt x="13239" y="11803"/>
                  <a:pt x="13526" y="11431"/>
                  <a:pt x="13494" y="11237"/>
                </a:cubicBezTo>
                <a:cubicBezTo>
                  <a:pt x="13469" y="11085"/>
                  <a:pt x="13369" y="11013"/>
                  <a:pt x="13271" y="10914"/>
                </a:cubicBezTo>
              </a:path>
              <a:path w="2655" h="770">
                <a:moveTo>
                  <a:pt x="13866" y="10864"/>
                </a:moveTo>
                <a:cubicBezTo>
                  <a:pt x="13663" y="10958"/>
                  <a:pt x="13556" y="11122"/>
                  <a:pt x="13568" y="11361"/>
                </a:cubicBezTo>
                <a:cubicBezTo>
                  <a:pt x="13619" y="11512"/>
                  <a:pt x="13639" y="11563"/>
                  <a:pt x="13767" y="11584"/>
                </a:cubicBezTo>
                <a:cubicBezTo>
                  <a:pt x="14028" y="11463"/>
                  <a:pt x="14249" y="11272"/>
                  <a:pt x="14015" y="10964"/>
                </a:cubicBezTo>
                <a:cubicBezTo>
                  <a:pt x="13935" y="10858"/>
                  <a:pt x="13780" y="10871"/>
                  <a:pt x="13667" y="108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07080" y="3768840"/>
            <a:ext cx="635040" cy="303120"/>
          </a:xfrm>
          <a:custGeom>
            <a:avLst/>
            <a:gdLst/>
            <a:ahLst/>
            <a:rect l="l" t="t" r="r" b="b"/>
            <a:pathLst>
              <a:path w="1763" h="844">
                <a:moveTo>
                  <a:pt x="18678" y="10592"/>
                </a:moveTo>
                <a:cubicBezTo>
                  <a:pt x="18659" y="10536"/>
                  <a:pt x="18508" y="10609"/>
                  <a:pt x="18455" y="10616"/>
                </a:cubicBezTo>
                <a:cubicBezTo>
                  <a:pt x="18334" y="10633"/>
                  <a:pt x="18344" y="10748"/>
                  <a:pt x="18355" y="10864"/>
                </a:cubicBezTo>
                <a:cubicBezTo>
                  <a:pt x="18363" y="10897"/>
                  <a:pt x="18372" y="10931"/>
                  <a:pt x="18380" y="10964"/>
                </a:cubicBezTo>
                <a:cubicBezTo>
                  <a:pt x="18428" y="10979"/>
                  <a:pt x="18661" y="10852"/>
                  <a:pt x="18777" y="10864"/>
                </a:cubicBezTo>
                <a:cubicBezTo>
                  <a:pt x="18810" y="10881"/>
                  <a:pt x="18843" y="10897"/>
                  <a:pt x="18876" y="10914"/>
                </a:cubicBezTo>
                <a:cubicBezTo>
                  <a:pt x="18834" y="11146"/>
                  <a:pt x="18767" y="11349"/>
                  <a:pt x="18479" y="11311"/>
                </a:cubicBezTo>
                <a:cubicBezTo>
                  <a:pt x="18397" y="11269"/>
                  <a:pt x="18372" y="11269"/>
                  <a:pt x="18355" y="11212"/>
                </a:cubicBezTo>
              </a:path>
              <a:path w="1763" h="844">
                <a:moveTo>
                  <a:pt x="19124" y="10592"/>
                </a:moveTo>
                <a:cubicBezTo>
                  <a:pt x="19024" y="10676"/>
                  <a:pt x="18923" y="10914"/>
                  <a:pt x="18951" y="11063"/>
                </a:cubicBezTo>
                <a:cubicBezTo>
                  <a:pt x="18976" y="11104"/>
                  <a:pt x="19000" y="11146"/>
                  <a:pt x="19025" y="11187"/>
                </a:cubicBezTo>
                <a:cubicBezTo>
                  <a:pt x="19240" y="11179"/>
                  <a:pt x="19583" y="11114"/>
                  <a:pt x="19447" y="10790"/>
                </a:cubicBezTo>
                <a:cubicBezTo>
                  <a:pt x="19373" y="10615"/>
                  <a:pt x="19269" y="10606"/>
                  <a:pt x="19124" y="10616"/>
                </a:cubicBezTo>
              </a:path>
              <a:path w="1763" h="844">
                <a:moveTo>
                  <a:pt x="19844" y="10468"/>
                </a:moveTo>
                <a:cubicBezTo>
                  <a:pt x="19675" y="10565"/>
                  <a:pt x="19596" y="10754"/>
                  <a:pt x="19645" y="10964"/>
                </a:cubicBezTo>
                <a:cubicBezTo>
                  <a:pt x="19670" y="11005"/>
                  <a:pt x="19695" y="11047"/>
                  <a:pt x="19720" y="11088"/>
                </a:cubicBezTo>
                <a:cubicBezTo>
                  <a:pt x="19946" y="11120"/>
                  <a:pt x="20187" y="11050"/>
                  <a:pt x="20092" y="10740"/>
                </a:cubicBezTo>
                <a:cubicBezTo>
                  <a:pt x="20028" y="10531"/>
                  <a:pt x="19906" y="10559"/>
                  <a:pt x="19745" y="105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473960" y="3821040"/>
            <a:ext cx="312840" cy="152640"/>
          </a:xfrm>
          <a:custGeom>
            <a:avLst/>
            <a:gdLst/>
            <a:ahLst/>
            <a:rect l="l" t="t" r="r" b="b"/>
            <a:pathLst>
              <a:path w="869" h="423">
                <a:moveTo>
                  <a:pt x="20762" y="10840"/>
                </a:moveTo>
                <a:cubicBezTo>
                  <a:pt x="20781" y="10957"/>
                  <a:pt x="20775" y="10978"/>
                  <a:pt x="20811" y="11038"/>
                </a:cubicBezTo>
                <a:cubicBezTo>
                  <a:pt x="20787" y="10943"/>
                  <a:pt x="20725" y="10719"/>
                  <a:pt x="20886" y="10666"/>
                </a:cubicBezTo>
                <a:cubicBezTo>
                  <a:pt x="21059" y="10609"/>
                  <a:pt x="21149" y="10867"/>
                  <a:pt x="21208" y="10964"/>
                </a:cubicBezTo>
                <a:cubicBezTo>
                  <a:pt x="21208" y="11073"/>
                  <a:pt x="21143" y="10848"/>
                  <a:pt x="21158" y="10740"/>
                </a:cubicBezTo>
                <a:cubicBezTo>
                  <a:pt x="21175" y="10707"/>
                  <a:pt x="21191" y="10674"/>
                  <a:pt x="21208" y="10641"/>
                </a:cubicBezTo>
                <a:cubicBezTo>
                  <a:pt x="21453" y="10653"/>
                  <a:pt x="21553" y="10739"/>
                  <a:pt x="21630" y="10988"/>
                </a:cubicBezTo>
                <a:cubicBezTo>
                  <a:pt x="21630" y="10996"/>
                  <a:pt x="21630" y="11005"/>
                  <a:pt x="21630" y="110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072280" y="3697200"/>
            <a:ext cx="590760" cy="303480"/>
          </a:xfrm>
          <a:custGeom>
            <a:avLst/>
            <a:gdLst/>
            <a:ahLst/>
            <a:rect l="l" t="t" r="r" b="b"/>
            <a:pathLst>
              <a:path w="1639" h="844">
                <a:moveTo>
                  <a:pt x="22423" y="10468"/>
                </a:moveTo>
                <a:cubicBezTo>
                  <a:pt x="22513" y="10430"/>
                  <a:pt x="22688" y="10368"/>
                  <a:pt x="22771" y="10443"/>
                </a:cubicBezTo>
                <a:cubicBezTo>
                  <a:pt x="22884" y="10546"/>
                  <a:pt x="22660" y="10685"/>
                  <a:pt x="22597" y="10716"/>
                </a:cubicBezTo>
                <a:cubicBezTo>
                  <a:pt x="22733" y="10689"/>
                  <a:pt x="23028" y="10668"/>
                  <a:pt x="22944" y="10914"/>
                </a:cubicBezTo>
                <a:cubicBezTo>
                  <a:pt x="22904" y="11033"/>
                  <a:pt x="22452" y="11243"/>
                  <a:pt x="22473" y="11038"/>
                </a:cubicBezTo>
                <a:cubicBezTo>
                  <a:pt x="22498" y="11005"/>
                  <a:pt x="22522" y="10972"/>
                  <a:pt x="22547" y="10939"/>
                </a:cubicBezTo>
              </a:path>
              <a:path w="1639" h="844">
                <a:moveTo>
                  <a:pt x="23217" y="10319"/>
                </a:moveTo>
                <a:cubicBezTo>
                  <a:pt x="23227" y="10546"/>
                  <a:pt x="23236" y="10789"/>
                  <a:pt x="23267" y="11013"/>
                </a:cubicBezTo>
                <a:cubicBezTo>
                  <a:pt x="23286" y="11071"/>
                  <a:pt x="23295" y="11114"/>
                  <a:pt x="23292" y="11063"/>
                </a:cubicBezTo>
              </a:path>
              <a:path w="1639" h="844">
                <a:moveTo>
                  <a:pt x="23937" y="10269"/>
                </a:moveTo>
                <a:cubicBezTo>
                  <a:pt x="23849" y="10335"/>
                  <a:pt x="23657" y="10372"/>
                  <a:pt x="23589" y="10443"/>
                </a:cubicBezTo>
                <a:cubicBezTo>
                  <a:pt x="23515" y="10520"/>
                  <a:pt x="23522" y="10644"/>
                  <a:pt x="23515" y="10740"/>
                </a:cubicBezTo>
                <a:cubicBezTo>
                  <a:pt x="23616" y="10669"/>
                  <a:pt x="23710" y="10586"/>
                  <a:pt x="23837" y="10592"/>
                </a:cubicBezTo>
                <a:cubicBezTo>
                  <a:pt x="24039" y="10601"/>
                  <a:pt x="24168" y="10873"/>
                  <a:pt x="23986" y="11013"/>
                </a:cubicBezTo>
                <a:cubicBezTo>
                  <a:pt x="23881" y="11094"/>
                  <a:pt x="23748" y="11066"/>
                  <a:pt x="23639"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938840" y="4786200"/>
            <a:ext cx="303120" cy="71640"/>
          </a:xfrm>
          <a:custGeom>
            <a:avLst/>
            <a:gdLst/>
            <a:ahLst/>
            <a:rect l="l" t="t" r="r" b="b"/>
            <a:pathLst>
              <a:path w="844" h="200">
                <a:moveTo>
                  <a:pt x="13717" y="13494"/>
                </a:moveTo>
                <a:cubicBezTo>
                  <a:pt x="13997" y="13408"/>
                  <a:pt x="14269" y="13326"/>
                  <a:pt x="14560" y="13295"/>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0" name=""/>
          <p:cNvSpPr/>
          <p:nvPr/>
        </p:nvSpPr>
        <p:spPr>
          <a:xfrm>
            <a:off x="3160800" y="4259160"/>
            <a:ext cx="804600" cy="214560"/>
          </a:xfrm>
          <a:custGeom>
            <a:avLst/>
            <a:gdLst/>
            <a:ahLst/>
            <a:rect l="l" t="t" r="r" b="b"/>
            <a:pathLst>
              <a:path w="2233" h="596">
                <a:moveTo>
                  <a:pt x="8781" y="12303"/>
                </a:moveTo>
                <a:cubicBezTo>
                  <a:pt x="8882" y="12303"/>
                  <a:pt x="8933" y="12290"/>
                  <a:pt x="9029" y="12254"/>
                </a:cubicBezTo>
              </a:path>
              <a:path w="2233" h="596">
                <a:moveTo>
                  <a:pt x="9376" y="11981"/>
                </a:moveTo>
                <a:cubicBezTo>
                  <a:pt x="9403" y="11974"/>
                  <a:pt x="9673" y="11861"/>
                  <a:pt x="9624" y="12005"/>
                </a:cubicBezTo>
                <a:cubicBezTo>
                  <a:pt x="9563" y="12108"/>
                  <a:pt x="9555" y="12132"/>
                  <a:pt x="9500" y="12179"/>
                </a:cubicBezTo>
                <a:cubicBezTo>
                  <a:pt x="9584" y="12123"/>
                  <a:pt x="9867" y="12100"/>
                  <a:pt x="9773" y="12278"/>
                </a:cubicBezTo>
                <a:cubicBezTo>
                  <a:pt x="9700" y="12417"/>
                  <a:pt x="9568" y="12411"/>
                  <a:pt x="9475" y="12378"/>
                </a:cubicBezTo>
              </a:path>
              <a:path w="2233" h="596">
                <a:moveTo>
                  <a:pt x="10244" y="11906"/>
                </a:moveTo>
                <a:cubicBezTo>
                  <a:pt x="10270" y="12073"/>
                  <a:pt x="10294" y="12233"/>
                  <a:pt x="10294" y="12402"/>
                </a:cubicBezTo>
              </a:path>
              <a:path w="2233" h="596">
                <a:moveTo>
                  <a:pt x="10840" y="11832"/>
                </a:moveTo>
                <a:cubicBezTo>
                  <a:pt x="10736" y="11853"/>
                  <a:pt x="10645" y="11888"/>
                  <a:pt x="10592" y="11981"/>
                </a:cubicBezTo>
                <a:cubicBezTo>
                  <a:pt x="10584" y="11997"/>
                  <a:pt x="10575" y="12014"/>
                  <a:pt x="10567" y="12030"/>
                </a:cubicBezTo>
                <a:cubicBezTo>
                  <a:pt x="10673" y="12155"/>
                  <a:pt x="10794" y="12060"/>
                  <a:pt x="10939" y="12129"/>
                </a:cubicBezTo>
                <a:cubicBezTo>
                  <a:pt x="11180" y="12244"/>
                  <a:pt x="10890" y="12399"/>
                  <a:pt x="10765" y="12402"/>
                </a:cubicBezTo>
                <a:cubicBezTo>
                  <a:pt x="10715" y="12394"/>
                  <a:pt x="10666" y="12386"/>
                  <a:pt x="10616" y="123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81360" y="4875120"/>
            <a:ext cx="446400" cy="216000"/>
          </a:xfrm>
          <a:custGeom>
            <a:avLst/>
            <a:gdLst/>
            <a:ahLst/>
            <a:rect l="l" t="t" r="r" b="b"/>
            <a:pathLst>
              <a:path w="1241" h="597">
                <a:moveTo>
                  <a:pt x="12774" y="13568"/>
                </a:moveTo>
                <a:cubicBezTo>
                  <a:pt x="12774" y="13721"/>
                  <a:pt x="12768" y="13888"/>
                  <a:pt x="12750" y="14039"/>
                </a:cubicBezTo>
                <a:cubicBezTo>
                  <a:pt x="12742" y="14072"/>
                  <a:pt x="12733" y="14106"/>
                  <a:pt x="12725" y="14139"/>
                </a:cubicBezTo>
              </a:path>
              <a:path w="1241" h="597">
                <a:moveTo>
                  <a:pt x="13246" y="13568"/>
                </a:moveTo>
                <a:cubicBezTo>
                  <a:pt x="13206" y="13578"/>
                  <a:pt x="13093" y="13632"/>
                  <a:pt x="13072" y="13667"/>
                </a:cubicBezTo>
                <a:cubicBezTo>
                  <a:pt x="13072" y="13684"/>
                  <a:pt x="13072" y="13700"/>
                  <a:pt x="13072" y="13717"/>
                </a:cubicBezTo>
                <a:cubicBezTo>
                  <a:pt x="13157" y="13785"/>
                  <a:pt x="13373" y="13848"/>
                  <a:pt x="13395" y="13965"/>
                </a:cubicBezTo>
                <a:cubicBezTo>
                  <a:pt x="13451" y="14261"/>
                  <a:pt x="13121" y="14024"/>
                  <a:pt x="13072" y="13940"/>
                </a:cubicBezTo>
              </a:path>
              <a:path w="1241" h="597">
                <a:moveTo>
                  <a:pt x="13271" y="13593"/>
                </a:moveTo>
                <a:cubicBezTo>
                  <a:pt x="13466" y="13560"/>
                  <a:pt x="13621" y="13557"/>
                  <a:pt x="13816" y="13568"/>
                </a:cubicBezTo>
                <a:cubicBezTo>
                  <a:pt x="13753" y="13584"/>
                  <a:pt x="13660" y="13673"/>
                  <a:pt x="13643" y="13742"/>
                </a:cubicBezTo>
                <a:cubicBezTo>
                  <a:pt x="13612" y="13869"/>
                  <a:pt x="13878" y="13843"/>
                  <a:pt x="13965" y="13940"/>
                </a:cubicBezTo>
                <a:cubicBezTo>
                  <a:pt x="13848" y="14046"/>
                  <a:pt x="13814" y="14032"/>
                  <a:pt x="13643" y="140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4321080"/>
            <a:ext cx="88920" cy="81000"/>
          </a:xfrm>
          <a:custGeom>
            <a:avLst/>
            <a:gdLst/>
            <a:ahLst/>
            <a:rect l="l" t="t" r="r" b="b"/>
            <a:pathLst>
              <a:path w="249" h="225">
                <a:moveTo>
                  <a:pt x="13122" y="12005"/>
                </a:moveTo>
                <a:cubicBezTo>
                  <a:pt x="13126" y="12073"/>
                  <a:pt x="13135" y="12353"/>
                  <a:pt x="13295" y="12204"/>
                </a:cubicBezTo>
                <a:cubicBezTo>
                  <a:pt x="13320" y="12163"/>
                  <a:pt x="13345" y="12121"/>
                  <a:pt x="13370" y="12080"/>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3562200" y="4724280"/>
            <a:ext cx="733680" cy="428760"/>
          </a:xfrm>
          <a:custGeom>
            <a:avLst/>
            <a:gdLst/>
            <a:ahLst/>
            <a:rect l="l" t="t" r="r" b="b"/>
            <a:pathLst>
              <a:path w="2035" h="1191">
                <a:moveTo>
                  <a:pt x="11460" y="13717"/>
                </a:moveTo>
                <a:cubicBezTo>
                  <a:pt x="11577" y="13705"/>
                  <a:pt x="11716" y="13637"/>
                  <a:pt x="11832" y="13643"/>
                </a:cubicBezTo>
                <a:cubicBezTo>
                  <a:pt x="11832" y="13651"/>
                  <a:pt x="11832" y="13659"/>
                  <a:pt x="11832" y="13667"/>
                </a:cubicBezTo>
              </a:path>
              <a:path w="2035" h="1191">
                <a:moveTo>
                  <a:pt x="11460" y="13965"/>
                </a:moveTo>
                <a:cubicBezTo>
                  <a:pt x="11604" y="13942"/>
                  <a:pt x="11831" y="13933"/>
                  <a:pt x="11931" y="13866"/>
                </a:cubicBezTo>
              </a:path>
              <a:path w="2035" h="1191">
                <a:moveTo>
                  <a:pt x="10864" y="13122"/>
                </a:moveTo>
                <a:cubicBezTo>
                  <a:pt x="10821" y="13236"/>
                  <a:pt x="10753" y="13288"/>
                  <a:pt x="10765" y="13395"/>
                </a:cubicBezTo>
                <a:cubicBezTo>
                  <a:pt x="10889" y="13419"/>
                  <a:pt x="11074" y="13317"/>
                  <a:pt x="11013" y="13146"/>
                </a:cubicBezTo>
                <a:cubicBezTo>
                  <a:pt x="10988" y="13077"/>
                  <a:pt x="10808" y="13135"/>
                  <a:pt x="10765" y="13146"/>
                </a:cubicBezTo>
              </a:path>
              <a:path w="2035" h="1191">
                <a:moveTo>
                  <a:pt x="9947" y="13841"/>
                </a:moveTo>
                <a:cubicBezTo>
                  <a:pt x="9953" y="13991"/>
                  <a:pt x="9964" y="14138"/>
                  <a:pt x="9971" y="14288"/>
                </a:cubicBezTo>
                <a:cubicBezTo>
                  <a:pt x="9971" y="14312"/>
                  <a:pt x="9971" y="14320"/>
                  <a:pt x="9971" y="14288"/>
                </a:cubicBezTo>
                <a:cubicBezTo>
                  <a:pt x="9943" y="14211"/>
                  <a:pt x="9891" y="14103"/>
                  <a:pt x="9897" y="14015"/>
                </a:cubicBezTo>
                <a:cubicBezTo>
                  <a:pt x="9904" y="13924"/>
                  <a:pt x="9978" y="13827"/>
                  <a:pt x="10071" y="13816"/>
                </a:cubicBezTo>
                <a:cubicBezTo>
                  <a:pt x="10268" y="13793"/>
                  <a:pt x="10395" y="13934"/>
                  <a:pt x="10443" y="14114"/>
                </a:cubicBezTo>
                <a:cubicBezTo>
                  <a:pt x="10443" y="14172"/>
                  <a:pt x="10443" y="14180"/>
                  <a:pt x="10443" y="14213"/>
                </a:cubicBezTo>
                <a:cubicBezTo>
                  <a:pt x="10434" y="14110"/>
                  <a:pt x="10395" y="13995"/>
                  <a:pt x="10418" y="13891"/>
                </a:cubicBezTo>
                <a:cubicBezTo>
                  <a:pt x="10450" y="13744"/>
                  <a:pt x="10569" y="13648"/>
                  <a:pt x="10716" y="13717"/>
                </a:cubicBezTo>
                <a:cubicBezTo>
                  <a:pt x="10877" y="13792"/>
                  <a:pt x="10930" y="13981"/>
                  <a:pt x="10939" y="14139"/>
                </a:cubicBezTo>
                <a:cubicBezTo>
                  <a:pt x="10948" y="14309"/>
                  <a:pt x="10939" y="14205"/>
                  <a:pt x="10964" y="142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57800" y="4259160"/>
            <a:ext cx="803160" cy="223920"/>
          </a:xfrm>
          <a:custGeom>
            <a:avLst/>
            <a:gdLst/>
            <a:ahLst/>
            <a:rect l="l" t="t" r="r" b="b"/>
            <a:pathLst>
              <a:path w="2233" h="621">
                <a:moveTo>
                  <a:pt x="12105" y="12129"/>
                </a:moveTo>
                <a:cubicBezTo>
                  <a:pt x="12179" y="12148"/>
                  <a:pt x="12293" y="12183"/>
                  <a:pt x="12378" y="12179"/>
                </a:cubicBezTo>
                <a:cubicBezTo>
                  <a:pt x="12427" y="12171"/>
                  <a:pt x="12477" y="12162"/>
                  <a:pt x="12526" y="12154"/>
                </a:cubicBezTo>
              </a:path>
              <a:path w="2233" h="621">
                <a:moveTo>
                  <a:pt x="12626" y="12030"/>
                </a:moveTo>
                <a:cubicBezTo>
                  <a:pt x="12663" y="12014"/>
                  <a:pt x="12975" y="11941"/>
                  <a:pt x="12824" y="12080"/>
                </a:cubicBezTo>
                <a:cubicBezTo>
                  <a:pt x="12725" y="12139"/>
                  <a:pt x="12710" y="12150"/>
                  <a:pt x="12650" y="12179"/>
                </a:cubicBezTo>
                <a:cubicBezTo>
                  <a:pt x="12828" y="12146"/>
                  <a:pt x="12910" y="12191"/>
                  <a:pt x="12998" y="12328"/>
                </a:cubicBezTo>
                <a:cubicBezTo>
                  <a:pt x="12803" y="12433"/>
                  <a:pt x="12493" y="12602"/>
                  <a:pt x="12626" y="12303"/>
                </a:cubicBezTo>
              </a:path>
              <a:path w="2233" h="621">
                <a:moveTo>
                  <a:pt x="13370" y="11906"/>
                </a:moveTo>
                <a:cubicBezTo>
                  <a:pt x="13361" y="11968"/>
                  <a:pt x="13302" y="12408"/>
                  <a:pt x="13370" y="12427"/>
                </a:cubicBezTo>
                <a:cubicBezTo>
                  <a:pt x="13386" y="12411"/>
                  <a:pt x="13403" y="12394"/>
                  <a:pt x="13419" y="12378"/>
                </a:cubicBezTo>
              </a:path>
              <a:path w="2233" h="621">
                <a:moveTo>
                  <a:pt x="13866" y="11906"/>
                </a:moveTo>
                <a:cubicBezTo>
                  <a:pt x="13824" y="11940"/>
                  <a:pt x="13779" y="11987"/>
                  <a:pt x="13742" y="12005"/>
                </a:cubicBezTo>
                <a:cubicBezTo>
                  <a:pt x="13826" y="12102"/>
                  <a:pt x="13948" y="12154"/>
                  <a:pt x="14039" y="12254"/>
                </a:cubicBezTo>
                <a:cubicBezTo>
                  <a:pt x="13846" y="12359"/>
                  <a:pt x="13883" y="12283"/>
                  <a:pt x="13692" y="12129"/>
                </a:cubicBezTo>
              </a:path>
              <a:path w="2233" h="621">
                <a:moveTo>
                  <a:pt x="13841" y="11857"/>
                </a:moveTo>
                <a:cubicBezTo>
                  <a:pt x="14010" y="11842"/>
                  <a:pt x="14168" y="11832"/>
                  <a:pt x="14337" y="118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867800" y="4348080"/>
            <a:ext cx="527040" cy="250920"/>
          </a:xfrm>
          <a:custGeom>
            <a:avLst/>
            <a:gdLst/>
            <a:ahLst/>
            <a:rect l="l" t="t" r="r" b="b"/>
            <a:pathLst>
              <a:path w="1464" h="695">
                <a:moveTo>
                  <a:pt x="21853" y="12477"/>
                </a:moveTo>
                <a:cubicBezTo>
                  <a:pt x="22052" y="12453"/>
                  <a:pt x="22237" y="12403"/>
                  <a:pt x="22423" y="12328"/>
                </a:cubicBezTo>
              </a:path>
              <a:path w="1464" h="695">
                <a:moveTo>
                  <a:pt x="23267" y="12080"/>
                </a:moveTo>
                <a:cubicBezTo>
                  <a:pt x="23280" y="12304"/>
                  <a:pt x="23296" y="12527"/>
                  <a:pt x="23316" y="12750"/>
                </a:cubicBezTo>
                <a:cubicBezTo>
                  <a:pt x="23316" y="12758"/>
                  <a:pt x="23316" y="12766"/>
                  <a:pt x="23316" y="1277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599160" y="4321080"/>
            <a:ext cx="2071800" cy="349200"/>
          </a:xfrm>
          <a:custGeom>
            <a:avLst/>
            <a:gdLst/>
            <a:ahLst/>
            <a:rect l="l" t="t" r="r" b="b"/>
            <a:pathLst>
              <a:path w="5755" h="969">
                <a:moveTo>
                  <a:pt x="18703" y="12229"/>
                </a:moveTo>
                <a:cubicBezTo>
                  <a:pt x="18669" y="12234"/>
                  <a:pt x="18521" y="12236"/>
                  <a:pt x="18504" y="12278"/>
                </a:cubicBezTo>
                <a:cubicBezTo>
                  <a:pt x="18460" y="12390"/>
                  <a:pt x="18443" y="12508"/>
                  <a:pt x="18430" y="12626"/>
                </a:cubicBezTo>
                <a:cubicBezTo>
                  <a:pt x="18558" y="12626"/>
                  <a:pt x="18596" y="12531"/>
                  <a:pt x="18752" y="12576"/>
                </a:cubicBezTo>
                <a:cubicBezTo>
                  <a:pt x="19105" y="12677"/>
                  <a:pt x="18657" y="12949"/>
                  <a:pt x="18529" y="12973"/>
                </a:cubicBezTo>
                <a:cubicBezTo>
                  <a:pt x="18400" y="12973"/>
                  <a:pt x="18361" y="12990"/>
                  <a:pt x="18331" y="12898"/>
                </a:cubicBezTo>
              </a:path>
              <a:path w="5755" h="969">
                <a:moveTo>
                  <a:pt x="19050" y="12229"/>
                </a:moveTo>
                <a:cubicBezTo>
                  <a:pt x="18969" y="12459"/>
                  <a:pt x="18953" y="12607"/>
                  <a:pt x="19050" y="12824"/>
                </a:cubicBezTo>
                <a:cubicBezTo>
                  <a:pt x="19251" y="12795"/>
                  <a:pt x="19522" y="12701"/>
                  <a:pt x="19348" y="12427"/>
                </a:cubicBezTo>
                <a:cubicBezTo>
                  <a:pt x="19283" y="12325"/>
                  <a:pt x="19201" y="12295"/>
                  <a:pt x="19100" y="12278"/>
                </a:cubicBezTo>
              </a:path>
              <a:path w="5755" h="969">
                <a:moveTo>
                  <a:pt x="19645" y="12154"/>
                </a:moveTo>
                <a:cubicBezTo>
                  <a:pt x="19475" y="12293"/>
                  <a:pt x="19293" y="12523"/>
                  <a:pt x="19472" y="12750"/>
                </a:cubicBezTo>
                <a:cubicBezTo>
                  <a:pt x="19654" y="12980"/>
                  <a:pt x="19980" y="12754"/>
                  <a:pt x="19918" y="12502"/>
                </a:cubicBezTo>
                <a:cubicBezTo>
                  <a:pt x="19869" y="12303"/>
                  <a:pt x="19692" y="12216"/>
                  <a:pt x="19521" y="12278"/>
                </a:cubicBezTo>
              </a:path>
              <a:path w="5755" h="969">
                <a:moveTo>
                  <a:pt x="20141" y="12427"/>
                </a:moveTo>
                <a:cubicBezTo>
                  <a:pt x="20299" y="12375"/>
                  <a:pt x="20447" y="12378"/>
                  <a:pt x="20613" y="12378"/>
                </a:cubicBezTo>
              </a:path>
              <a:path w="5755" h="969">
                <a:moveTo>
                  <a:pt x="20216" y="12626"/>
                </a:moveTo>
                <a:cubicBezTo>
                  <a:pt x="20356" y="12599"/>
                  <a:pt x="20497" y="12575"/>
                  <a:pt x="20638" y="12551"/>
                </a:cubicBezTo>
              </a:path>
              <a:path w="5755" h="969">
                <a:moveTo>
                  <a:pt x="20836" y="12278"/>
                </a:moveTo>
                <a:cubicBezTo>
                  <a:pt x="20863" y="12448"/>
                  <a:pt x="20921" y="12610"/>
                  <a:pt x="20985" y="12774"/>
                </a:cubicBezTo>
                <a:cubicBezTo>
                  <a:pt x="20963" y="12642"/>
                  <a:pt x="20866" y="12515"/>
                  <a:pt x="20935" y="12378"/>
                </a:cubicBezTo>
                <a:cubicBezTo>
                  <a:pt x="21039" y="12171"/>
                  <a:pt x="21293" y="12518"/>
                  <a:pt x="21307" y="12626"/>
                </a:cubicBezTo>
                <a:cubicBezTo>
                  <a:pt x="21299" y="12634"/>
                  <a:pt x="21290" y="12642"/>
                  <a:pt x="21282" y="12650"/>
                </a:cubicBezTo>
                <a:cubicBezTo>
                  <a:pt x="21147" y="12565"/>
                  <a:pt x="21087" y="12382"/>
                  <a:pt x="21282" y="12278"/>
                </a:cubicBezTo>
                <a:cubicBezTo>
                  <a:pt x="21531" y="12145"/>
                  <a:pt x="21640" y="12506"/>
                  <a:pt x="21679" y="12675"/>
                </a:cubicBezTo>
                <a:cubicBezTo>
                  <a:pt x="21679" y="12700"/>
                  <a:pt x="21679" y="12708"/>
                  <a:pt x="21704" y="12700"/>
                </a:cubicBezTo>
              </a:path>
              <a:path w="5755" h="969">
                <a:moveTo>
                  <a:pt x="21977" y="12204"/>
                </a:moveTo>
                <a:cubicBezTo>
                  <a:pt x="22033" y="12360"/>
                  <a:pt x="22111" y="12517"/>
                  <a:pt x="22151" y="12675"/>
                </a:cubicBezTo>
              </a:path>
              <a:path w="5755" h="969">
                <a:moveTo>
                  <a:pt x="22448" y="12179"/>
                </a:moveTo>
                <a:cubicBezTo>
                  <a:pt x="22532" y="12132"/>
                  <a:pt x="22863" y="12010"/>
                  <a:pt x="22870" y="12229"/>
                </a:cubicBezTo>
                <a:cubicBezTo>
                  <a:pt x="22789" y="12338"/>
                  <a:pt x="22755" y="12378"/>
                  <a:pt x="22671" y="12427"/>
                </a:cubicBezTo>
                <a:cubicBezTo>
                  <a:pt x="22465" y="12462"/>
                  <a:pt x="22890" y="12325"/>
                  <a:pt x="22944" y="12576"/>
                </a:cubicBezTo>
                <a:cubicBezTo>
                  <a:pt x="23008" y="12876"/>
                  <a:pt x="22604" y="12851"/>
                  <a:pt x="22448" y="12824"/>
                </a:cubicBezTo>
              </a:path>
              <a:path w="5755" h="969">
                <a:moveTo>
                  <a:pt x="22994" y="12154"/>
                </a:moveTo>
                <a:cubicBezTo>
                  <a:pt x="22994" y="12247"/>
                  <a:pt x="22992" y="12359"/>
                  <a:pt x="23068" y="12427"/>
                </a:cubicBezTo>
                <a:cubicBezTo>
                  <a:pt x="23244" y="12583"/>
                  <a:pt x="23361" y="12409"/>
                  <a:pt x="23440" y="12278"/>
                </a:cubicBezTo>
              </a:path>
              <a:path w="5755" h="969">
                <a:moveTo>
                  <a:pt x="23887" y="12005"/>
                </a:moveTo>
                <a:cubicBezTo>
                  <a:pt x="23810" y="12044"/>
                  <a:pt x="23666" y="12095"/>
                  <a:pt x="23614" y="12154"/>
                </a:cubicBezTo>
                <a:cubicBezTo>
                  <a:pt x="23553" y="12224"/>
                  <a:pt x="23551" y="12289"/>
                  <a:pt x="23540" y="12378"/>
                </a:cubicBezTo>
                <a:cubicBezTo>
                  <a:pt x="23660" y="12353"/>
                  <a:pt x="23782" y="12266"/>
                  <a:pt x="23912" y="12278"/>
                </a:cubicBezTo>
                <a:cubicBezTo>
                  <a:pt x="24253" y="12310"/>
                  <a:pt x="24016" y="12613"/>
                  <a:pt x="23837" y="12675"/>
                </a:cubicBezTo>
                <a:cubicBezTo>
                  <a:pt x="23771" y="12683"/>
                  <a:pt x="23705" y="12692"/>
                  <a:pt x="23639" y="127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920000" y="5010120"/>
            <a:ext cx="117360" cy="17640"/>
          </a:xfrm>
          <a:custGeom>
            <a:avLst/>
            <a:gdLst/>
            <a:ahLst/>
            <a:rect l="l" t="t" r="r" b="b"/>
            <a:pathLst>
              <a:path w="323" h="51">
                <a:moveTo>
                  <a:pt x="22002" y="13965"/>
                </a:moveTo>
                <a:cubicBezTo>
                  <a:pt x="22114" y="13958"/>
                  <a:pt x="22215" y="13933"/>
                  <a:pt x="22324" y="13915"/>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8" name=""/>
          <p:cNvSpPr/>
          <p:nvPr/>
        </p:nvSpPr>
        <p:spPr>
          <a:xfrm>
            <a:off x="6634080" y="4803840"/>
            <a:ext cx="1974960" cy="393480"/>
          </a:xfrm>
          <a:custGeom>
            <a:avLst/>
            <a:gdLst/>
            <a:ahLst/>
            <a:rect l="l" t="t" r="r" b="b"/>
            <a:pathLst>
              <a:path w="5483" h="1092">
                <a:moveTo>
                  <a:pt x="18504" y="13791"/>
                </a:moveTo>
                <a:cubicBezTo>
                  <a:pt x="18522" y="13702"/>
                  <a:pt x="18554" y="13671"/>
                  <a:pt x="18628" y="13618"/>
                </a:cubicBezTo>
                <a:cubicBezTo>
                  <a:pt x="18700" y="13570"/>
                  <a:pt x="18721" y="13552"/>
                  <a:pt x="18777" y="13593"/>
                </a:cubicBezTo>
                <a:cubicBezTo>
                  <a:pt x="18863" y="13774"/>
                  <a:pt x="18839" y="13921"/>
                  <a:pt x="18653" y="14064"/>
                </a:cubicBezTo>
                <a:cubicBezTo>
                  <a:pt x="18596" y="14083"/>
                  <a:pt x="18571" y="14109"/>
                  <a:pt x="18579" y="14064"/>
                </a:cubicBezTo>
                <a:cubicBezTo>
                  <a:pt x="18661" y="13962"/>
                  <a:pt x="18903" y="13929"/>
                  <a:pt x="18876" y="14163"/>
                </a:cubicBezTo>
                <a:cubicBezTo>
                  <a:pt x="18864" y="14270"/>
                  <a:pt x="18484" y="14579"/>
                  <a:pt x="18430" y="14387"/>
                </a:cubicBezTo>
                <a:cubicBezTo>
                  <a:pt x="18446" y="14346"/>
                  <a:pt x="18463" y="14304"/>
                  <a:pt x="18479" y="14263"/>
                </a:cubicBezTo>
              </a:path>
              <a:path w="5483" h="1092">
                <a:moveTo>
                  <a:pt x="19025" y="13717"/>
                </a:moveTo>
                <a:cubicBezTo>
                  <a:pt x="19025" y="13821"/>
                  <a:pt x="19007" y="13963"/>
                  <a:pt x="19100" y="14039"/>
                </a:cubicBezTo>
                <a:cubicBezTo>
                  <a:pt x="19195" y="14116"/>
                  <a:pt x="19303" y="13988"/>
                  <a:pt x="19372" y="13940"/>
                </a:cubicBezTo>
              </a:path>
              <a:path w="5483" h="1092">
                <a:moveTo>
                  <a:pt x="19248" y="13568"/>
                </a:moveTo>
                <a:cubicBezTo>
                  <a:pt x="19285" y="13816"/>
                  <a:pt x="19316" y="14061"/>
                  <a:pt x="19323" y="14312"/>
                </a:cubicBezTo>
                <a:cubicBezTo>
                  <a:pt x="19323" y="14329"/>
                  <a:pt x="19323" y="14345"/>
                  <a:pt x="19323" y="14362"/>
                </a:cubicBezTo>
              </a:path>
              <a:path w="5483" h="1092">
                <a:moveTo>
                  <a:pt x="19968" y="13593"/>
                </a:moveTo>
                <a:cubicBezTo>
                  <a:pt x="19864" y="13619"/>
                  <a:pt x="19764" y="13674"/>
                  <a:pt x="19645" y="13692"/>
                </a:cubicBezTo>
                <a:cubicBezTo>
                  <a:pt x="19539" y="13708"/>
                  <a:pt x="19612" y="13847"/>
                  <a:pt x="19621" y="13940"/>
                </a:cubicBezTo>
                <a:cubicBezTo>
                  <a:pt x="19621" y="13957"/>
                  <a:pt x="19621" y="13973"/>
                  <a:pt x="19621" y="13990"/>
                </a:cubicBezTo>
                <a:cubicBezTo>
                  <a:pt x="19759" y="13950"/>
                  <a:pt x="19863" y="13879"/>
                  <a:pt x="20017" y="13940"/>
                </a:cubicBezTo>
                <a:cubicBezTo>
                  <a:pt x="20259" y="14036"/>
                  <a:pt x="20049" y="14287"/>
                  <a:pt x="19893" y="14337"/>
                </a:cubicBezTo>
                <a:cubicBezTo>
                  <a:pt x="19794" y="14368"/>
                  <a:pt x="19716" y="14330"/>
                  <a:pt x="19670" y="14263"/>
                </a:cubicBezTo>
              </a:path>
              <a:path w="5483" h="1092">
                <a:moveTo>
                  <a:pt x="20365" y="13990"/>
                </a:moveTo>
                <a:cubicBezTo>
                  <a:pt x="20454" y="13972"/>
                  <a:pt x="20545" y="13953"/>
                  <a:pt x="20638" y="13940"/>
                </a:cubicBezTo>
                <a:cubicBezTo>
                  <a:pt x="20662" y="13940"/>
                  <a:pt x="20671" y="13940"/>
                  <a:pt x="20687" y="13940"/>
                </a:cubicBezTo>
              </a:path>
              <a:path w="5483" h="1092">
                <a:moveTo>
                  <a:pt x="21084" y="13915"/>
                </a:moveTo>
                <a:cubicBezTo>
                  <a:pt x="21084" y="14044"/>
                  <a:pt x="21113" y="14162"/>
                  <a:pt x="21134" y="14288"/>
                </a:cubicBezTo>
                <a:cubicBezTo>
                  <a:pt x="21134" y="14312"/>
                  <a:pt x="21134" y="14320"/>
                  <a:pt x="21109" y="14312"/>
                </a:cubicBezTo>
                <a:cubicBezTo>
                  <a:pt x="21060" y="14180"/>
                  <a:pt x="20949" y="13894"/>
                  <a:pt x="21183" y="13841"/>
                </a:cubicBezTo>
                <a:cubicBezTo>
                  <a:pt x="21376" y="13797"/>
                  <a:pt x="21435" y="14086"/>
                  <a:pt x="21481" y="14213"/>
                </a:cubicBezTo>
                <a:cubicBezTo>
                  <a:pt x="21455" y="14086"/>
                  <a:pt x="21386" y="13970"/>
                  <a:pt x="21481" y="13841"/>
                </a:cubicBezTo>
                <a:cubicBezTo>
                  <a:pt x="21514" y="13824"/>
                  <a:pt x="21547" y="13808"/>
                  <a:pt x="21580" y="13791"/>
                </a:cubicBezTo>
                <a:cubicBezTo>
                  <a:pt x="21829" y="13916"/>
                  <a:pt x="21650" y="14052"/>
                  <a:pt x="21779" y="14188"/>
                </a:cubicBezTo>
                <a:cubicBezTo>
                  <a:pt x="21787" y="14172"/>
                  <a:pt x="21795" y="14155"/>
                  <a:pt x="21803" y="14139"/>
                </a:cubicBezTo>
              </a:path>
              <a:path w="5483" h="1092">
                <a:moveTo>
                  <a:pt x="21952" y="13791"/>
                </a:moveTo>
                <a:cubicBezTo>
                  <a:pt x="22042" y="13791"/>
                  <a:pt x="22178" y="13769"/>
                  <a:pt x="22225" y="13816"/>
                </a:cubicBezTo>
              </a:path>
              <a:path w="5483" h="1092">
                <a:moveTo>
                  <a:pt x="22820" y="13370"/>
                </a:moveTo>
                <a:cubicBezTo>
                  <a:pt x="22775" y="13391"/>
                  <a:pt x="22587" y="13437"/>
                  <a:pt x="22572" y="13469"/>
                </a:cubicBezTo>
                <a:cubicBezTo>
                  <a:pt x="22537" y="13547"/>
                  <a:pt x="22540" y="13701"/>
                  <a:pt x="22523" y="13791"/>
                </a:cubicBezTo>
                <a:cubicBezTo>
                  <a:pt x="22636" y="13763"/>
                  <a:pt x="22807" y="13667"/>
                  <a:pt x="22895" y="13816"/>
                </a:cubicBezTo>
                <a:cubicBezTo>
                  <a:pt x="23014" y="14019"/>
                  <a:pt x="22679" y="14073"/>
                  <a:pt x="22572" y="14064"/>
                </a:cubicBezTo>
                <a:cubicBezTo>
                  <a:pt x="22490" y="14036"/>
                  <a:pt x="22468" y="14020"/>
                  <a:pt x="22523" y="13940"/>
                </a:cubicBezTo>
              </a:path>
              <a:path w="5483" h="1092">
                <a:moveTo>
                  <a:pt x="23168" y="13419"/>
                </a:moveTo>
                <a:cubicBezTo>
                  <a:pt x="23048" y="13539"/>
                  <a:pt x="22984" y="13732"/>
                  <a:pt x="23044" y="13915"/>
                </a:cubicBezTo>
                <a:cubicBezTo>
                  <a:pt x="23069" y="13948"/>
                  <a:pt x="23093" y="13982"/>
                  <a:pt x="23118" y="14015"/>
                </a:cubicBezTo>
                <a:cubicBezTo>
                  <a:pt x="23326" y="13985"/>
                  <a:pt x="23596" y="13870"/>
                  <a:pt x="23416" y="13593"/>
                </a:cubicBezTo>
                <a:cubicBezTo>
                  <a:pt x="23345" y="13484"/>
                  <a:pt x="23188" y="13503"/>
                  <a:pt x="23093" y="13519"/>
                </a:cubicBezTo>
              </a:path>
              <a:path w="5483" h="1092">
                <a:moveTo>
                  <a:pt x="23589" y="13345"/>
                </a:moveTo>
                <a:cubicBezTo>
                  <a:pt x="23468" y="13555"/>
                  <a:pt x="23448" y="13660"/>
                  <a:pt x="23515" y="13891"/>
                </a:cubicBezTo>
                <a:cubicBezTo>
                  <a:pt x="23655" y="13922"/>
                  <a:pt x="23963" y="13925"/>
                  <a:pt x="23912" y="13667"/>
                </a:cubicBezTo>
                <a:cubicBezTo>
                  <a:pt x="23861" y="13409"/>
                  <a:pt x="23675" y="13370"/>
                  <a:pt x="23465" y="13395"/>
                </a:cubicBezTo>
              </a:path>
              <a:path w="5483" h="1092">
                <a:moveTo>
                  <a:pt x="20464" y="13841"/>
                </a:moveTo>
                <a:cubicBezTo>
                  <a:pt x="20464" y="13788"/>
                  <a:pt x="20476" y="13804"/>
                  <a:pt x="20489" y="13767"/>
                </a:cubicBezTo>
                <a:cubicBezTo>
                  <a:pt x="20528" y="13846"/>
                  <a:pt x="20543" y="13969"/>
                  <a:pt x="20563" y="14064"/>
                </a:cubicBezTo>
                <a:cubicBezTo>
                  <a:pt x="20563" y="14089"/>
                  <a:pt x="20563" y="14097"/>
                  <a:pt x="20563" y="141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456000" y="3106800"/>
            <a:ext cx="1440" cy="9360"/>
          </a:xfrm>
          <a:custGeom>
            <a:avLst/>
            <a:gdLst/>
            <a:ahLst/>
            <a:rect l="l" t="t" r="r" b="b"/>
            <a:pathLst>
              <a:path w="1" h="26">
                <a:moveTo>
                  <a:pt x="9599" y="8632"/>
                </a:moveTo>
                <a:cubicBezTo>
                  <a:pt x="9599" y="8640"/>
                  <a:pt x="9599" y="8649"/>
                  <a:pt x="9599" y="8657"/>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0" name=""/>
          <p:cNvSpPr/>
          <p:nvPr/>
        </p:nvSpPr>
        <p:spPr>
          <a:xfrm>
            <a:off x="2401920" y="4705200"/>
            <a:ext cx="2786040" cy="46080"/>
          </a:xfrm>
          <a:custGeom>
            <a:avLst/>
            <a:gdLst/>
            <a:ahLst/>
            <a:rect l="l" t="t" r="r" b="b"/>
            <a:pathLst>
              <a:path w="7741" h="125">
                <a:moveTo>
                  <a:pt x="6672" y="13171"/>
                </a:moveTo>
                <a:cubicBezTo>
                  <a:pt x="7337" y="13204"/>
                  <a:pt x="8015" y="13118"/>
                  <a:pt x="8682" y="13097"/>
                </a:cubicBezTo>
                <a:cubicBezTo>
                  <a:pt x="9895" y="13059"/>
                  <a:pt x="11114" y="13053"/>
                  <a:pt x="12328" y="13072"/>
                </a:cubicBezTo>
                <a:cubicBezTo>
                  <a:pt x="13008" y="13083"/>
                  <a:pt x="13711" y="13062"/>
                  <a:pt x="14387" y="13122"/>
                </a:cubicBezTo>
                <a:cubicBezTo>
                  <a:pt x="14395" y="13122"/>
                  <a:pt x="14404" y="13122"/>
                  <a:pt x="14412" y="13122"/>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12">
                                            <p:txEl>
                                              <p:pRg st="1" end="1"/>
                                            </p:txEl>
                                          </p:spTgt>
                                        </p:tgtEl>
                                        <p:attrNameLst>
                                          <p:attrName>style.visibility</p:attrName>
                                        </p:attrNameLst>
                                      </p:cBhvr>
                                      <p:to>
                                        <p:strVal val="visible"/>
                                      </p:to>
                                    </p:set>
                                    <p:anim calcmode="lin" valueType="num">
                                      <p:cBhvr additive="base">
                                        <p:cTn id="87"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391520" cy="541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br>
              <a:rPr sz="4400"/>
            </a:br>
            <a:br>
              <a:rPr sz="4400"/>
            </a:br>
            <a:r>
              <a:rPr b="0" lang="en-US" sz="4400" spc="-1" strike="noStrike">
                <a:solidFill>
                  <a:srgbClr val="000000"/>
                </a:solidFill>
                <a:latin typeface="Comic Sans MS"/>
              </a:rPr>
              <a:t>PW 161</a:t>
            </a:r>
            <a:br>
              <a:rPr sz="4400"/>
            </a:br>
            <a:r>
              <a:rPr b="0" lang="en-US" sz="4400" spc="-1" strike="noStrike">
                <a:solidFill>
                  <a:srgbClr val="000000"/>
                </a:solidFill>
                <a:latin typeface="Comic Sans MS"/>
              </a:rPr>
              <a:t>1-12 (pick 6)</a:t>
            </a:r>
            <a:br>
              <a:rPr sz="4400"/>
            </a:b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12-07T15:33:02Z</dcterms:modified>
  <cp:revision>21</cp:revision>
  <dc:subject/>
  <dc:title>Chapter 2 Integer Operations</dc:title>
</cp:coreProperties>
</file>